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73C1A-3305-4F89-B244-4C7A834D105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257480" y="720720"/>
            <a:ext cx="4800600" cy="3600360"/>
          </a:xfrm>
          <a:prstGeom prst="rect">
            <a:avLst/>
          </a:prstGeom>
          <a:ln w="0">
            <a:noFill/>
          </a:ln>
        </p:spPr>
      </p:sp>
      <p:sp>
        <p:nvSpPr>
          <p:cNvPr id="1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ists are an interesting case. The textbook goes into a lot of detail on Protist classification, but they are such a complicated group of organisms, much like bacteria, that we will not be exploring the kingdom in as much depth as the book goes.</a:t>
            </a:r>
            <a:endParaRPr b="0" lang="en-US" sz="1200" spc="-1" strike="noStrike">
              <a:solidFill>
                <a:srgbClr val="000000"/>
              </a:solidFill>
              <a:latin typeface="Times New Roman"/>
            </a:endParaRPr>
          </a:p>
        </p:txBody>
      </p:sp>
      <p:sp>
        <p:nvSpPr>
          <p:cNvPr id="1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D3009-2908-4F29-99E0-688CA5BD406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257480" y="720720"/>
            <a:ext cx="4800600" cy="3600360"/>
          </a:xfrm>
          <a:prstGeom prst="rect">
            <a:avLst/>
          </a:prstGeom>
          <a:ln w="0">
            <a:noFill/>
          </a:ln>
        </p:spPr>
      </p:sp>
      <p:sp>
        <p:nvSpPr>
          <p:cNvPr id="15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antastic example of a fungus like protist is that of the plasmodial slime mold. This is a fascinating organism, in that it is an enormous single cell that has thousands of nuclei within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ucleus controls a portion of that cell and communicates with nearby nuclei to coordinate movement. It moves across the forest floor by oozing along, kind of like an amoeba, feeding on dead plant material on the gr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by far my favorite protist. I have one growing in a huge jar on my back porch. His name is Oscar. I love him.</a:t>
            </a:r>
            <a:endParaRPr b="0" lang="en-US" sz="1200" spc="-1" strike="noStrike">
              <a:solidFill>
                <a:srgbClr val="000000"/>
              </a:solidFill>
              <a:latin typeface="Times New Roman"/>
            </a:endParaRPr>
          </a:p>
        </p:txBody>
      </p:sp>
      <p:sp>
        <p:nvSpPr>
          <p:cNvPr id="1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5E12E-9329-4319-89FC-78141C07C89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40711-AA69-435C-A2E4-649B6A9B49B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6" name="PlaceHolder 1"/>
          <p:cNvSpPr>
            <a:spLocks noGrp="1"/>
          </p:cNvSpPr>
          <p:nvPr>
            <p:ph type="sldImg"/>
          </p:nvPr>
        </p:nvSpPr>
        <p:spPr>
          <a:xfrm>
            <a:off x="1258920" y="72072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dom Protista is often referred to as the catch–all kingdom. For a long time, when it was unclear how a new species should be classified, it was thrown in wit the prot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adays, with advancements in DNA and molecular analysis, and an ever growing understanding of phylogenetic relationships, there is a little more structure to the kingdom. But there is still a vast array of organisms that differ in nutritional modes, habitats, morphology and life strategies that make up this extremely complex kingd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the kingdom that has the most movement in and out of it. What I mean by this is that organisms are often classified and reclassified in this group as new knowledge is gained about a spec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gae for instance were classified as a plant up until the early 90s, when it was decided once and for all that most species of algae do not have all the characteristics of a pla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1BB99-9265-406A-A20B-D652785E986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9" name="PlaceHolder 1"/>
          <p:cNvSpPr>
            <a:spLocks noGrp="1"/>
          </p:cNvSpPr>
          <p:nvPr>
            <p:ph type="sldImg"/>
          </p:nvPr>
        </p:nvSpPr>
        <p:spPr>
          <a:xfrm>
            <a:off x="1258920" y="720720"/>
            <a:ext cx="4800600" cy="3600360"/>
          </a:xfrm>
          <a:prstGeom prst="rect">
            <a:avLst/>
          </a:prstGeom>
          <a:ln w="0">
            <a:noFill/>
          </a:ln>
        </p:spPr>
      </p:sp>
      <p:sp>
        <p:nvSpPr>
          <p:cNvPr id="13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explore this group in any detail, let’s see how they compare to prokaryo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protists are eukaryotes, meaning they are much larger than bacteria, and have organelles, or compartments that carry out specialized functions for th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rotists are single celled as bacteria are, but just as many are multi-cellular organisms. Just like bacteria, protists also have a variety of nutritional modes, including both auto- and heterotrop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spect of protists that stand them apart from bacteria is that most are capable of sexual reproduction (AKA cellular division known as meiosi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57480" y="720720"/>
            <a:ext cx="4800600" cy="3600360"/>
          </a:xfrm>
          <a:prstGeom prst="rect">
            <a:avLst/>
          </a:prstGeom>
          <a:ln w="0">
            <a:noFill/>
          </a:ln>
        </p:spPr>
      </p:sp>
      <p:sp>
        <p:nvSpPr>
          <p:cNvPr id="13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book covers the different groups in quite a bit of detail. But we are going to simplify things quite a bit and break the kingdom down into 3 major groups: Animal like protists, plant like protists and fungus like prot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group we will look at what makes them like other kingdoms, and what sets them apart from them a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roach looks at the kingdom Protista from the more traditional view of “Eh, it’s kinda like a plant… but not.” or “It’s kinda like an animal… But not.”</a:t>
            </a:r>
            <a:endParaRPr b="0" lang="en-US" sz="1200" spc="-1" strike="noStrike">
              <a:solidFill>
                <a:srgbClr val="000000"/>
              </a:solidFill>
              <a:latin typeface="Times New Roman"/>
            </a:endParaRPr>
          </a:p>
        </p:txBody>
      </p:sp>
      <p:sp>
        <p:nvSpPr>
          <p:cNvPr id="13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6E9B4-A507-4103-A7C5-1EFBE95AB79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tart with the Protozoans, or animal like protists. This group is similar to animals in the fact that they are all heterotrophic; they are ore mobile and most are capable of sexual re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at sets protozoans apart from the animal kingdom is that they are all single celled organisms.</a:t>
            </a:r>
            <a:endParaRPr b="0" lang="en-US" sz="1200" spc="-1" strike="noStrike">
              <a:solidFill>
                <a:srgbClr val="000000"/>
              </a:solidFill>
              <a:latin typeface="Times New Roman"/>
            </a:endParaRPr>
          </a:p>
        </p:txBody>
      </p:sp>
      <p:sp>
        <p:nvSpPr>
          <p:cNvPr id="1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7C075-2C12-4281-9B67-F125851338B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any group of organisms, there are examples of species that are beneficial and those that are considered “b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quatic habitats, many protozoa are known as zooplankton. These are the herbivores of the marine world and provide energy to the vast majority of organisms that live in the oce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flip side, there are examples of protozoa that cause diseases, such as malaria and Giardia. Brain eating amoebas have been in the news recently, showing up in Louisiana, Arkansas and Florida water systems and are responsible for at least 30 deaths in the last decade.</a:t>
            </a:r>
            <a:endParaRPr b="0" lang="en-US" sz="1200" spc="-1" strike="noStrike">
              <a:solidFill>
                <a:srgbClr val="000000"/>
              </a:solidFill>
              <a:latin typeface="Times New Roman"/>
            </a:endParaRPr>
          </a:p>
        </p:txBody>
      </p:sp>
      <p:sp>
        <p:nvSpPr>
          <p:cNvPr id="1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3BCE0-BB14-4DD2-8A24-21C24E65FCD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like protists. This group of protists are similar to plants because they are capable of photosynthesis. This means that they have organelles called chloroplasts, which are the compartments responsible for carrying out the process of photosynthesis using chlorophy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unlike the plant kingdom which is entirely composed of multi-cellular organisms, some plant like protists can be single celled. Algae, kelp and seaweed are all examples of protists that fall in this category. </a:t>
            </a:r>
            <a:endParaRPr b="0" lang="en-US" sz="1200" spc="-1" strike="noStrike">
              <a:solidFill>
                <a:srgbClr val="000000"/>
              </a:solidFill>
              <a:latin typeface="Times New Roman"/>
            </a:endParaRPr>
          </a:p>
        </p:txBody>
      </p:sp>
      <p:sp>
        <p:nvSpPr>
          <p:cNvPr id="1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54A3D-0323-4A81-8D3B-5E01BABE281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rotists in this group are aquatic species, and are the primary producer in marine habit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talked about this group on numerous occasions this term already. We have talked about lichen being a mutualistic relationship between a fungus and photosynthetic microorganisms. That microorganism can be a plant like prot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alked about algae blooms caused by nutrient runoff in lakes and streams, and when learning about data being collected on Antarctica’s history and fossil records in the form of diatoms.</a:t>
            </a:r>
            <a:endParaRPr b="0" lang="en-US" sz="1200" spc="-1" strike="noStrike">
              <a:solidFill>
                <a:srgbClr val="000000"/>
              </a:solidFill>
              <a:latin typeface="Times New Roman"/>
            </a:endParaRPr>
          </a:p>
        </p:txBody>
      </p:sp>
      <p:sp>
        <p:nvSpPr>
          <p:cNvPr id="1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DA9D2-56B1-43FE-A35D-E1A64C231E7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57480" y="720720"/>
            <a:ext cx="4800600" cy="3600360"/>
          </a:xfrm>
          <a:prstGeom prst="rect">
            <a:avLst/>
          </a:prstGeom>
          <a:ln w="0">
            <a:noFill/>
          </a:ln>
        </p:spPr>
      </p:sp>
      <p:sp>
        <p:nvSpPr>
          <p:cNvPr id="14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inally, we are left with the fungus like protists. They are like fungi because they are decomposers, digesting their food before absorbing it, and they have a similar reproductive cycle to fung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difference in this group is that they are capable of movement at some point in their life cycle, which fungi do not have.These types of protists are often an important decomposer in forest ecosystems.</a:t>
            </a:r>
            <a:endParaRPr b="0" lang="en-US" sz="1200" spc="-1" strike="noStrike">
              <a:solidFill>
                <a:srgbClr val="000000"/>
              </a:solidFill>
              <a:latin typeface="Times New Roman"/>
            </a:endParaRPr>
          </a:p>
        </p:txBody>
      </p:sp>
      <p:sp>
        <p:nvSpPr>
          <p:cNvPr id="1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C085D-B6E6-4FBA-94B9-FCB12661844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0CD55C-313A-470C-8757-C889292B33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71474-4E1E-4E77-B855-717C3C612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CC6908-2958-4022-B211-ACB651C437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1224DA-B918-4837-AA25-A55C9578E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377EA2-B5FD-4591-9A03-695681C67C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ECBB3-7170-4343-9943-715009931C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F6A336-DCDD-411E-ACA2-6708078057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3A1023-637B-48C8-974E-7DFEF01E28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B89503-B3FD-4F35-80AB-4D0C653A4E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73FFFD-41A2-4D41-B255-DC0AACC007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12AB66-60B3-4350-A485-0B60F71F14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D1950-6D60-47ED-A71B-F443CEA9F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3ECBE-A3B6-4429-9426-9651454F7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07AC2-1F07-45C2-B5CC-135CB620C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258B2C-8425-4F3B-AE26-C1C797694C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202B7A-4198-4B08-9EB3-FD264D8F66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4D3A4E-382A-42A1-B944-FDD1E3D2FD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2A54C-6912-4926-A264-E5E550E53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D8C37-ABCC-44EF-ACC1-B7C437EAB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768A3-6B1B-4009-9460-6F2BFE6E4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60A4D-645F-4A2D-AE3B-AD6EB6E05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441E3-FADC-4D3C-BFB8-638DC3578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A4C4F-EC04-4329-85AC-9CF321076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1CFCF-0AE7-47FE-9AFB-70EA20EF6E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FA315-71B5-47BD-B0B2-D9B0370B0CE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AA29B-B86A-4385-B77E-243756861DD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protists"/>
          <p:cNvPicPr/>
          <p:nvPr/>
        </p:nvPicPr>
        <p:blipFill>
          <a:blip r:embed="rId1"/>
          <a:stretch/>
        </p:blipFill>
        <p:spPr>
          <a:xfrm>
            <a:off x="3736800" y="3429000"/>
            <a:ext cx="3042000" cy="322092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Calibri"/>
              </a:rPr>
              <a:t>Protists</a:t>
            </a:r>
            <a:endParaRPr b="0" lang="en-US" sz="6500" spc="-1" strike="noStrike">
              <a:solidFill>
                <a:srgbClr val="000000"/>
              </a:solidFill>
              <a:latin typeface="Calibri"/>
            </a:endParaRPr>
          </a:p>
        </p:txBody>
      </p:sp>
      <p:sp>
        <p:nvSpPr>
          <p:cNvPr id="91" name=""/>
          <p:cNvSpPr txBox="1"/>
          <p:nvPr/>
        </p:nvSpPr>
        <p:spPr>
          <a:xfrm>
            <a:off x="3124080" y="2057400"/>
            <a:ext cx="426744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main: Eukary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ingdom: Protista</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a:t>
            </a: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do they l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ime molds are found on the ground where it is moist, especially in forest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molds are found in wet environments such as fresh water and the upper layer of soil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Major types</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lasmodial slime molds</a:t>
            </a:r>
            <a:r>
              <a:rPr b="0" lang="en-US" sz="3200" spc="-1" strike="noStrike">
                <a:solidFill>
                  <a:srgbClr val="000000"/>
                </a:solidFill>
                <a:latin typeface="Calibri"/>
              </a:rPr>
              <a:t>—Enormous single cells with thousands of nucle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ve by oozing like amoeb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breaks down </a:t>
            </a:r>
            <a:br>
              <a:rPr sz="3200"/>
            </a:br>
            <a:r>
              <a:rPr b="0" lang="en-US" sz="3200" spc="-1" strike="noStrike">
                <a:solidFill>
                  <a:srgbClr val="000000"/>
                </a:solidFill>
                <a:latin typeface="Calibri"/>
              </a:rPr>
              <a:t>forest litter.</a:t>
            </a:r>
            <a:endParaRPr b="0" lang="en-US" sz="3200" spc="-1" strike="noStrike">
              <a:solidFill>
                <a:srgbClr val="000000"/>
              </a:solidFill>
              <a:latin typeface="Calibri"/>
            </a:endParaRPr>
          </a:p>
        </p:txBody>
      </p:sp>
      <p:pic>
        <p:nvPicPr>
          <p:cNvPr id="119" name="Picture 4" descr="vomit-slime-mold"/>
          <p:cNvPicPr/>
          <p:nvPr/>
        </p:nvPicPr>
        <p:blipFill>
          <a:blip r:embed="rId1"/>
          <a:stretch/>
        </p:blipFill>
        <p:spPr>
          <a:xfrm>
            <a:off x="5105520" y="3962520"/>
            <a:ext cx="3724200" cy="264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45684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Major types</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smodial slime mo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llular slime mo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mold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icult to Classify</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storically a catch-all kingd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 enormously from one another in morphology and life-sty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lecular and biochemical comparisons are clarifying the evolutionary pic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istans are not a monophyletic grou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tists vs. Prokaryotes  </a:t>
            </a:r>
            <a:endParaRPr b="0" lang="en-US" sz="4400" spc="-1" strike="noStrike">
              <a:solidFill>
                <a:srgbClr val="000000"/>
              </a:solidFill>
              <a:latin typeface="Calibri"/>
            </a:endParaRPr>
          </a:p>
        </p:txBody>
      </p:sp>
      <p:sp>
        <p:nvSpPr>
          <p:cNvPr id="95" name="PlaceHolder 2"/>
          <p:cNvSpPr>
            <a:spLocks noGrp="1"/>
          </p:cNvSpPr>
          <p:nvPr>
            <p:ph/>
          </p:nvPr>
        </p:nvSpPr>
        <p:spPr>
          <a:xfrm>
            <a:off x="456840" y="1534680"/>
            <a:ext cx="4040280" cy="639720"/>
          </a:xfrm>
          <a:prstGeom prst="rect">
            <a:avLst/>
          </a:prstGeom>
          <a:noFill/>
          <a:ln w="3240">
            <a:solidFill>
              <a:srgbClr val="1f497d"/>
            </a:solidFill>
            <a:miter/>
          </a:ln>
        </p:spPr>
        <p:txBody>
          <a:bodyPr anchor="b">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d13"/>
                </a:solidFill>
                <a:latin typeface="Calibri"/>
              </a:rPr>
              <a:t>Protists</a:t>
            </a:r>
            <a:endParaRPr b="0" lang="en-US" sz="3600" spc="-1" strike="noStrike">
              <a:solidFill>
                <a:srgbClr val="000000"/>
              </a:solidFill>
              <a:latin typeface="Calibri"/>
            </a:endParaRPr>
          </a:p>
        </p:txBody>
      </p:sp>
      <p:sp>
        <p:nvSpPr>
          <p:cNvPr id="96" name=""/>
          <p:cNvSpPr txBox="1"/>
          <p:nvPr/>
        </p:nvSpPr>
        <p:spPr>
          <a:xfrm>
            <a:off x="456840" y="2174760"/>
            <a:ext cx="4040280" cy="4378320"/>
          </a:xfrm>
          <a:prstGeom prst="rect">
            <a:avLst/>
          </a:prstGeom>
          <a:noFill/>
          <a:ln w="9360">
            <a:solidFill>
              <a:srgbClr val="1f497d"/>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ukaryoti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cellular and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ulti-cellul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terotrophs and Autotroph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divide by mitosis and meiosis</a:t>
            </a:r>
            <a:endParaRPr b="0" lang="en-US" sz="2400" spc="-1" strike="noStrike">
              <a:solidFill>
                <a:srgbClr val="000000"/>
              </a:solidFill>
              <a:latin typeface="Calibri"/>
            </a:endParaRPr>
          </a:p>
        </p:txBody>
      </p:sp>
      <p:sp>
        <p:nvSpPr>
          <p:cNvPr id="97" name="PlaceHolder 3"/>
          <p:cNvSpPr>
            <a:spLocks noGrp="1"/>
          </p:cNvSpPr>
          <p:nvPr>
            <p:ph/>
          </p:nvPr>
        </p:nvSpPr>
        <p:spPr>
          <a:xfrm>
            <a:off x="4644720" y="1534680"/>
            <a:ext cx="4041720" cy="639720"/>
          </a:xfrm>
          <a:prstGeom prst="rect">
            <a:avLst/>
          </a:prstGeom>
          <a:noFill/>
          <a:ln w="9360">
            <a:solidFill>
              <a:srgbClr val="1f497d"/>
            </a:solidFill>
            <a:miter/>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0d13"/>
                </a:solidFill>
                <a:latin typeface="Calibri"/>
              </a:rPr>
              <a:t>Bacteria</a:t>
            </a:r>
            <a:endParaRPr b="0" lang="en-US" sz="3200" spc="-1" strike="noStrike">
              <a:solidFill>
                <a:srgbClr val="000000"/>
              </a:solidFill>
              <a:latin typeface="Calibri"/>
            </a:endParaRPr>
          </a:p>
        </p:txBody>
      </p:sp>
      <p:sp>
        <p:nvSpPr>
          <p:cNvPr id="98" name=""/>
          <p:cNvSpPr txBox="1"/>
          <p:nvPr/>
        </p:nvSpPr>
        <p:spPr>
          <a:xfrm>
            <a:off x="4644720" y="2174760"/>
            <a:ext cx="4041720" cy="4378320"/>
          </a:xfrm>
          <a:prstGeom prst="rect">
            <a:avLst/>
          </a:prstGeom>
          <a:noFill/>
          <a:ln w="9360">
            <a:solidFill>
              <a:srgbClr val="1f497d"/>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karyoti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cellul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terotrophs and Autotroph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ides by prokaryotic fis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ists</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ozoans: Animal-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gus-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imal – Like: Protozoans</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anim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terotroph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ti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reproduce sexuall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sed of complex eukaryotic cells with a true nucleus and membrane-bound organel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than anim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cellula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ozoans</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 Many species make up zooplankton, a population of organisms that constitutes one of the primary sources of energy in aquatic ecosys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d: Some protozoa cause harmful human diseases such as malaria, giardia, and brain eating ameob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like Protists</a:t>
            </a:r>
            <a:endParaRPr b="0" lang="en-US" sz="4400" spc="-1" strike="noStrike">
              <a:solidFill>
                <a:srgbClr val="000000"/>
              </a:solidFill>
              <a:latin typeface="Calibri"/>
            </a:endParaRPr>
          </a:p>
        </p:txBody>
      </p:sp>
      <p:sp>
        <p:nvSpPr>
          <p:cNvPr id="106" name=""/>
          <p:cNvSpPr txBox="1"/>
          <p:nvPr/>
        </p:nvSpPr>
        <p:spPr>
          <a:xfrm>
            <a:off x="457200" y="1066320"/>
            <a:ext cx="8229600" cy="5791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pla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totrophic (photosynthesiz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e chloroplas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sed of complex eukaryotic cells with a true nucleus and membrane-bound organel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than pla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are unicellula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do they l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ly aquatic in both fresh water and marine habita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can live in moist soil</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like Protists - Examples</a:t>
            </a:r>
            <a:endParaRPr b="0" lang="en-US" sz="4400" spc="-1" strike="noStrike">
              <a:solidFill>
                <a:srgbClr val="000000"/>
              </a:solidFill>
              <a:latin typeface="Calibri"/>
            </a:endParaRPr>
          </a:p>
        </p:txBody>
      </p:sp>
      <p:sp>
        <p:nvSpPr>
          <p:cNvPr id="108" name=""/>
          <p:cNvSpPr txBox="1"/>
          <p:nvPr/>
        </p:nvSpPr>
        <p:spPr>
          <a:xfrm>
            <a:off x="304920" y="1143000"/>
            <a:ext cx="5790960" cy="495288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ichen</a:t>
            </a:r>
            <a:r>
              <a:rPr b="0" lang="en-US" sz="3200" spc="-1" strike="noStrike">
                <a:solidFill>
                  <a:srgbClr val="000000"/>
                </a:solidFill>
                <a:latin typeface="Calibri"/>
              </a:rPr>
              <a:t> - Some are symbionts with fungi</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noflagellates</a:t>
            </a:r>
            <a:endParaRPr b="0" lang="en-US" sz="3200" spc="-1" strike="noStrike">
              <a:solidFill>
                <a:srgbClr val="000000"/>
              </a:solidFill>
              <a:latin typeface="Calibri"/>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od—Symbiotic with coral</a:t>
            </a:r>
            <a:endParaRPr b="0" lang="en-US" sz="2800" spc="-1" strike="noStrike">
              <a:solidFill>
                <a:srgbClr val="000000"/>
              </a:solidFill>
              <a:latin typeface="Calibri"/>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d—Some species produce neurotoxins and are the cause of </a:t>
            </a:r>
            <a:r>
              <a:rPr b="1" lang="en-US" sz="2800" spc="-1" strike="noStrike">
                <a:solidFill>
                  <a:srgbClr val="000000"/>
                </a:solidFill>
                <a:latin typeface="Calibri"/>
              </a:rPr>
              <a:t>algal blooms</a:t>
            </a:r>
            <a:endParaRPr b="0" lang="en-US" sz="28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atoms</a:t>
            </a:r>
            <a:r>
              <a:rPr b="0" lang="en-US" sz="3200" spc="-1" strike="noStrike">
                <a:solidFill>
                  <a:srgbClr val="000000"/>
                </a:solidFill>
                <a:latin typeface="Calibri"/>
              </a:rPr>
              <a:t>—Single-celled organisms with silica shells. </a:t>
            </a:r>
            <a:endParaRPr b="0" lang="en-US" sz="32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ant components of phytoplankton</a:t>
            </a:r>
            <a:endParaRPr b="0" lang="en-US" sz="2800" spc="-1" strike="noStrike">
              <a:solidFill>
                <a:srgbClr val="000000"/>
              </a:solidFill>
              <a:latin typeface="Calibri"/>
            </a:endParaRPr>
          </a:p>
          <a:p>
            <a:pPr marL="312120" indent="-3121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9" name="Picture 4" descr="Ceratocorys_dinoflagellate"/>
          <p:cNvPicPr/>
          <p:nvPr/>
        </p:nvPicPr>
        <p:blipFill>
          <a:blip r:embed="rId1"/>
          <a:stretch/>
        </p:blipFill>
        <p:spPr>
          <a:xfrm>
            <a:off x="6095880" y="2895480"/>
            <a:ext cx="1397160" cy="1600200"/>
          </a:xfrm>
          <a:prstGeom prst="rect">
            <a:avLst/>
          </a:prstGeom>
          <a:ln w="0">
            <a:noFill/>
          </a:ln>
        </p:spPr>
      </p:pic>
      <p:pic>
        <p:nvPicPr>
          <p:cNvPr id="110" name="Picture 10" descr=""/>
          <p:cNvPicPr/>
          <p:nvPr/>
        </p:nvPicPr>
        <p:blipFill>
          <a:blip r:embed="rId2"/>
          <a:srcRect l="1784" t="4612" r="52689" b="19232"/>
          <a:stretch/>
        </p:blipFill>
        <p:spPr>
          <a:xfrm>
            <a:off x="5486400" y="1371600"/>
            <a:ext cx="2209680" cy="1430280"/>
          </a:xfrm>
          <a:prstGeom prst="rect">
            <a:avLst/>
          </a:prstGeom>
          <a:ln w="0">
            <a:noFill/>
          </a:ln>
        </p:spPr>
      </p:pic>
      <p:pic>
        <p:nvPicPr>
          <p:cNvPr id="111" name="Picture 5" descr="figure_20_08_labeled.jpg"/>
          <p:cNvPicPr/>
          <p:nvPr/>
        </p:nvPicPr>
        <p:blipFill>
          <a:blip r:embed="rId3"/>
          <a:srcRect l="4230" t="4219" r="2820" b="7988"/>
          <a:stretch/>
        </p:blipFill>
        <p:spPr>
          <a:xfrm>
            <a:off x="5486400" y="4648320"/>
            <a:ext cx="1828800" cy="1828800"/>
          </a:xfrm>
          <a:prstGeom prst="rect">
            <a:avLst/>
          </a:prstGeom>
          <a:ln w="0">
            <a:noFill/>
          </a:ln>
        </p:spPr>
      </p:pic>
      <p:sp>
        <p:nvSpPr>
          <p:cNvPr id="112"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11 Pearson Education Inc.</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fungu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gest food externally and then absorb i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ok like fungu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milar life cycle including reproduc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from fungu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differ from fungi in having motility in parts of their life cyc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8T03:34:25Z</dcterms:created>
  <dc:creator>Miranda Dudzik</dc:creator>
  <dc:description/>
  <dc:language>en-US</dc:language>
  <cp:lastModifiedBy>Miranda</cp:lastModifiedBy>
  <dcterms:modified xsi:type="dcterms:W3CDTF">2013-12-04T06:26:11Z</dcterms:modified>
  <cp:revision>114</cp:revision>
  <dc:subject/>
  <dc:title>Protists</dc:title>
</cp:coreProperties>
</file>