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E2E74-DD52-45C3-9619-58FDBA7110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xploitation of a species has been a common theme throughout history. The basic difference between overharvesting and poaching is based legality of the activity, and the value we place on the organisms we explo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harvesting refers to the legal harvesting of organisms that are commercially relevant species, such as carrier pigeons or salmon fis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aching is the illegal harvesting of a species that, most often, we have placed some sort of aesthetic value on. Elephant ivory, or rhino horns are a good example.</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556E-85D9-44D7-88C9-DDC8A13FFE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sive Species. There are many ways a non native species can be introduced into a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uld be stowaways on planes or boats. A currently relevant issue is the introduction of non native species to the west coast due to debri that is still coming ashore from the tsunami in Japan in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y are even intentionally introduced, such as the case of the cane toad in Australia. In an astounding lack of thought and foresight, cane toads were brought to Australia in 1935, in the hopes that they would help control beetles that were destroying sugar cane crops. The problem: The beetles are active during the day, while the cane toads are mainly nocturnal. So not only did they not protect the cane crops, the highly poisonous toad still continue outcompete, kill, or consume a vast array of native species to this day</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DDB0-F0F1-4AA0-9B8F-B1340CAC89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requires the integrated efforts and expertise of many, both within and outside of biolog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geneticists, botanists, and zoolog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 leaders, environmental lawyers, and ecological econom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tists, educators, and conservation organizatio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most importantly individuals, whose choices and actions ultimately determine if conservation efforts will succeed. All the experts in the world can strategize, scheme and plan to save the planet, but it means nothing if the individual doesn’t play the gam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7622-5F6D-4942-9B56-F872D278BD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8700-A5AA-4173-ACC3-F6E786FDC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talk about preserving biodiversity, we have to understand what it i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road strokes, biodiversity is simply the types and number of organisms that live in a shared habitat. That habitat can be anything from a tide pool found on the Oregon coast, or an area much larger, such as a tropical rain forest in the Amazon Basin that covers 2.1 million square mi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 a little deeper and biodiversity includes the variety of living organisms, genetic diversity found in a species and the abiotic factors (Non-living components of an ecosystem) that suppo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ever growing branch of biology that has been getting global attention from the scientific, social and political communities is conservation biology. This branch of biology is focused on studying and preserving the earth’s amazingly vast variety of lif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hree ways biodiversity can be studied.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es diversity. Spp. Diversity looks at the different types and numbers of organisms that support and/or rely on a community. As we will learn in subsequent lessons, sometimes the survival of one species that lives is a habitat is essential to the survival of the entire community. An example would be endangered sea otters that live in kelp beds along the coast of North America. A sea otter’s main source of food is that of sea urchins that share the habitat. Sea urchins in turn, are voracious grazers, whose diet consists mainly of the kelp that provides food and shelter to a myriad of other species. As otter populations continue to decline, the urchin populations explode, quite literally eating themselves, and the rest of the community, out of house and home. Without the otter in that community, the entire ecosystem would crash.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netic diversity. Genetic diversity is all about maintaining a large number of traits and adaptations within a species. Genetic diversity enables a population to more easily respond and adapt to an ever changing environment. Take the cheetah for instance. Early in the 20</a:t>
            </a:r>
            <a:r>
              <a:rPr b="0" lang="en-US" sz="1000" spc="-1" strike="noStrike" baseline="30000">
                <a:solidFill>
                  <a:srgbClr val="000000"/>
                </a:solidFill>
                <a:latin typeface="Calibri"/>
              </a:rPr>
              <a:t>th</a:t>
            </a:r>
            <a:r>
              <a:rPr b="0" lang="en-US" sz="1000" spc="-1" strike="noStrike">
                <a:solidFill>
                  <a:srgbClr val="000000"/>
                </a:solidFill>
                <a:latin typeface="Calibri"/>
              </a:rPr>
              <a:t> century cheetah were highly prized trophies for many recreational hunters and poachers. Pair the dramatic decline in numbers with the increasingly fragmented habitat because of human populations, advantageous traits were slowly lost over time. The increased loss of “good” genes made it so hard for cheetah populations to continue to adapt to human influences, fight off disease, and create viable offspring that they were driven to the brink of extinction, and in fact have been extinct in India in the 1940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cosystem Diversity. Ecosystem diversity is important because it not only encompasses the living components of an ecosystem, but also the non-living components. Every type of ecosystems plays an important role, from tropical rainforests that act as a carbon sink, removing greenhouse gasses from the atmosphere, to wetlands that filter pollutants and maintain optimal water temperatures for streams and rivers that provide homes to salmon.</a:t>
            </a:r>
            <a:endParaRPr b="0" lang="en-US" sz="10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D2EA4-DB50-49B4-ABB7-2B48DFADA8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services. These are all the ways humans benefit from resources provided by the world around us.  There are two types of service provided: Direct and indire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ervices are easy to quantify. Food, shelter, medicine, clothing, fuel, are all resources that we obtain directly from our surrou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services are a little more complicated. Taking into account things such as how much it would cost us to recreate that same service, money spent on damages caused by flooding from damaged riparian zones, and recycling of nutrients back into the soil, tourist dollars funneled into the economy for things like recreational and commercial salmon fishing, it has been estimated that indirect services can be estimated to be worth upwards of 33 trillion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process of purifying urban waste water is expensive, both monetarily and energetically. The process significantly raises the water temperatures, which must be lowered before releasing into the environment. Maintaining natural water temperature in our rivers and streams is essential to the reproductive success of fishes that live and breed in the habitat. The Oregon Garden, near the city of Silverton, Oregon has reconstructed wetlands as part of their educational landscaping program. The city of Silverton feeds cleaned waste water through the wetland to naturally lower the temperature of the water before allowing it to enter back into nearby rivers and streams. This lowers the cost of the purification process, thereby lowering utility cost of the residents of Silver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3A525-CAF6-4401-AC24-1C315C9403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tinction ev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extinction events have occurred throughout earth’s history, even before humans came on the scene, current trends are quite alarming to most biolog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ssil record shows evidence of 5 major extinction events over the course of earth’s history, and most conservationists believe we are smack dab in the middle of extinction event number 6, this one almost entirely human caused.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9C17-02AB-4352-95B7-437EFBBCD2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stimated that extinction rates are currently 100 to 100 times higher than the normal  extinction rates, and it is estimated that globally, every type of species, from bird to fish to bug are under serious threat of extinction.</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D93DF-4B13-4721-B4AE-6705D222C1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different levels of threat that a species can be faced with. There are three basic categories that a species can be classified as when it is in danger of extinction. Endangered, threatened and vulnerable. Depending on how imperiled a species is, biologists monitor and evaluate each group to determine whether intervention is require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8F2A-30FF-43E8-AD5C-2F4110C507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shows you, based on the amount of resources humans as a global population use, relative to the amount of resources that are available on the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y’s ecological footprint. Somewhere in the mid 80s, humans began to exceed the planet’s biocapacity, or amount of resources available on the planet. With the world population now exceeding 7 billion people, with no signs of slowing, soon enough humanity will either need to slow it’s consumption of resources or per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esome website alert! Go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footprintnetwork.org/en/index.php/gfn/page/calc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easure your ecological footprint</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60427-4547-4B66-AE3D-B06928EF66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destruction by far wins as the biggest problem faced today. Agriculture, clear cut logging and urbanization are all heavy pla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gmentation is the result of human activities encroaching on an ecosystem to the point that it gets broken up into smaller parts, isolating individuals from each other, inhibiting the ability for them to interact, breed, obtain resources, etc.</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411F-DEEB-4176-9F6F-56FA72AA05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99009-396A-427B-9DAD-AE4CB54FB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B9154-9B7C-4F5E-B665-69D958B22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39388-9BD8-4D59-9665-6B6617607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9C04C-5D35-4C31-85BD-F12F7C3BD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EC738-732A-4699-94CE-F363AC74C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0A06C-89A1-44DE-B907-0A738FFCC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FCDE1-3057-4FD6-BAC4-CCB084872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98C44-D80A-43A6-AB10-39E42A55D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19547-2347-43A9-83B1-3400DA3C0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58647-7293-467A-B426-4D8DFA228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63FE2-B225-471B-B05A-C5CF447AE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7ABD3-FB43-4FC9-98EB-0B3A610F0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CB99B-4911-44A2-A9AE-152A90D246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footprintnetwork.org/en/index.php/gfn/page/calculator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ing Bio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exploitatio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Overharvesting</a:t>
            </a:r>
            <a:r>
              <a:rPr b="0" lang="en-US" sz="3200" spc="-1" strike="noStrike">
                <a:solidFill>
                  <a:srgbClr val="000000"/>
                </a:solidFill>
                <a:latin typeface="Calibri"/>
              </a:rPr>
              <a:t> has caused the collapse or extinction of many commercially valuable species ex. Passenger pige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Poaching</a:t>
            </a:r>
            <a:r>
              <a:rPr b="0" lang="en-US" sz="3200" spc="-1" strike="noStrike">
                <a:solidFill>
                  <a:srgbClr val="000000"/>
                </a:solidFill>
                <a:latin typeface="Calibri"/>
              </a:rPr>
              <a:t> – the illegal harvest of a species – is a particular threat in less developed countri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gt; Food sources, black market profits</a:t>
            </a:r>
            <a:endParaRPr b="0" lang="en-US" sz="2800" spc="-1" strike="noStrike">
              <a:solidFill>
                <a:srgbClr val="000000"/>
              </a:solidFill>
              <a:latin typeface="Calibri"/>
            </a:endParaRPr>
          </a:p>
        </p:txBody>
      </p:sp>
      <p:pic>
        <p:nvPicPr>
          <p:cNvPr id="76" name="Picture 2" descr="http://www.miamimetrozoo.com/assets/black%20rhino%20&amp;%20calf.jpg"/>
          <p:cNvPicPr/>
          <p:nvPr/>
        </p:nvPicPr>
        <p:blipFill>
          <a:blip r:embed="rId1"/>
          <a:stretch/>
        </p:blipFill>
        <p:spPr>
          <a:xfrm>
            <a:off x="6783480" y="5075280"/>
            <a:ext cx="1815840" cy="151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 Introduction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redators</a:t>
            </a:r>
            <a:r>
              <a:rPr b="0" lang="en-US" sz="3200" spc="-1" strike="noStrike">
                <a:solidFill>
                  <a:srgbClr val="000000"/>
                </a:solidFill>
                <a:latin typeface="Calibri"/>
              </a:rPr>
              <a:t>, such as rats and snakes endanger many island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Intentionally introduced exotic species</a:t>
            </a:r>
            <a:r>
              <a:rPr b="0" lang="en-US" sz="3200" spc="-1" strike="noStrike">
                <a:solidFill>
                  <a:srgbClr val="000000"/>
                </a:solidFill>
                <a:latin typeface="Calibri"/>
              </a:rPr>
              <a:t>, such as kudzu and European starlings outcompete native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athogens</a:t>
            </a:r>
            <a:r>
              <a:rPr b="0" lang="en-US" sz="3200" spc="-1" strike="noStrike">
                <a:solidFill>
                  <a:srgbClr val="000000"/>
                </a:solidFill>
                <a:latin typeface="Calibri"/>
              </a:rPr>
              <a:t>, such as avian malaria, are carried by introduced spe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Goals of Conservation Biology</a:t>
            </a:r>
            <a:endParaRPr b="0" lang="en-US" sz="4400" spc="-1" strike="noStrike">
              <a:solidFill>
                <a:srgbClr val="000000"/>
              </a:solidFill>
              <a:latin typeface="Calibri"/>
            </a:endParaRPr>
          </a:p>
        </p:txBody>
      </p:sp>
      <p:sp>
        <p:nvSpPr>
          <p:cNvPr id="80" name=""/>
          <p:cNvSpPr txBox="1"/>
          <p:nvPr/>
        </p:nvSpPr>
        <p:spPr>
          <a:xfrm>
            <a:off x="380520" y="1218960"/>
            <a:ext cx="8458200" cy="2361960"/>
          </a:xfrm>
          <a:prstGeom prst="rect">
            <a:avLst/>
          </a:prstGeom>
          <a:noFill/>
          <a:ln w="0">
            <a:noFill/>
          </a:ln>
        </p:spPr>
        <p:txBody>
          <a:bodyPr anchor="t">
            <a:normAutofit fontScale="98000"/>
          </a:bodyPr>
          <a:p>
            <a:pPr marL="335880" indent="-335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impact of human activities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e and restore natural habit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the human impact on the plane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ustainable practices to obtain the resources we need.</a:t>
            </a:r>
            <a:endParaRPr b="0" lang="en-US" sz="28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1" name="Picture 5" descr=""/>
          <p:cNvPicPr/>
          <p:nvPr/>
        </p:nvPicPr>
        <p:blipFill>
          <a:blip r:embed="rId1"/>
          <a:stretch/>
        </p:blipFill>
        <p:spPr>
          <a:xfrm>
            <a:off x="4495680" y="3759120"/>
            <a:ext cx="4648320" cy="3098880"/>
          </a:xfrm>
          <a:prstGeom prst="rect">
            <a:avLst/>
          </a:prstGeom>
          <a:ln w="0">
            <a:noFill/>
          </a:ln>
        </p:spPr>
      </p:pic>
      <p:sp>
        <p:nvSpPr>
          <p:cNvPr id="82" name="TextBox 5"/>
          <p:cNvSpPr/>
          <p:nvPr/>
        </p:nvSpPr>
        <p:spPr>
          <a:xfrm>
            <a:off x="609480" y="3809880"/>
            <a:ext cx="3505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ndangered and threatened species are affected by multiple threats, making it a challenge to protect and save declining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6"/>
          <p:cNvSpPr/>
          <p:nvPr/>
        </p:nvSpPr>
        <p:spPr>
          <a:xfrm>
            <a:off x="7238880" y="661176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ixabay.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56840"/>
            <a:ext cx="8229600" cy="5668920"/>
          </a:xfrm>
          <a:prstGeom prst="rect">
            <a:avLst/>
          </a:prstGeom>
          <a:noFill/>
          <a:ln w="0">
            <a:noFill/>
          </a:ln>
        </p:spPr>
        <p:txBody>
          <a:bodyPr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a452a"/>
                </a:solidFill>
                <a:latin typeface="Calibri"/>
              </a:rPr>
              <a:t>Biodiversity</a:t>
            </a:r>
            <a:endParaRPr b="0" lang="en-US" sz="4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and types of organisms in a region or environ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70c0"/>
                </a:solidFill>
                <a:latin typeface="Calibri"/>
              </a:rPr>
              <a:t>variety of life and its processes</a:t>
            </a:r>
            <a:r>
              <a:rPr b="0" lang="en-US" sz="3200" spc="-1" strike="noStrike">
                <a:solidFill>
                  <a:srgbClr val="000000"/>
                </a:solidFill>
                <a:latin typeface="Calibri"/>
              </a:rPr>
              <a:t>; it includes the variety of living organisms, the </a:t>
            </a:r>
            <a:r>
              <a:rPr b="1" lang="en-US" sz="3200" spc="-1" strike="noStrike">
                <a:solidFill>
                  <a:srgbClr val="0070c0"/>
                </a:solidFill>
                <a:latin typeface="Calibri"/>
              </a:rPr>
              <a:t>genetic differences </a:t>
            </a:r>
            <a:r>
              <a:rPr b="0" lang="en-US" sz="3200" spc="-1" strike="noStrike">
                <a:solidFill>
                  <a:srgbClr val="000000"/>
                </a:solidFill>
                <a:latin typeface="Calibri"/>
              </a:rPr>
              <a:t>among them, the </a:t>
            </a:r>
            <a:r>
              <a:rPr b="1" lang="en-US" sz="3200" spc="-1" strike="noStrike">
                <a:solidFill>
                  <a:srgbClr val="0070c0"/>
                </a:solidFill>
                <a:latin typeface="Calibri"/>
              </a:rPr>
              <a:t>communities and ecosystems </a:t>
            </a:r>
            <a:r>
              <a:rPr b="0" lang="en-US" sz="3200" spc="-1" strike="noStrike">
                <a:solidFill>
                  <a:srgbClr val="000000"/>
                </a:solidFill>
                <a:latin typeface="Calibri"/>
              </a:rPr>
              <a:t>in which they occur, and the </a:t>
            </a:r>
            <a:r>
              <a:rPr b="1" lang="en-US" sz="3200" spc="-1" strike="noStrike">
                <a:solidFill>
                  <a:srgbClr val="0070c0"/>
                </a:solidFill>
                <a:latin typeface="Calibri"/>
              </a:rPr>
              <a:t>ecological and evolutionary processes</a:t>
            </a:r>
            <a:r>
              <a:rPr b="0" lang="en-US" sz="3200" spc="-1" strike="noStrike">
                <a:solidFill>
                  <a:srgbClr val="000000"/>
                </a:solidFill>
                <a:latin typeface="Calibri"/>
              </a:rPr>
              <a:t> that keep them functioning, yet ever changing and adap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Conservation Biology</a:t>
            </a:r>
            <a:endParaRPr b="0" lang="en-US" sz="4400" spc="-1" strike="noStrike">
              <a:solidFill>
                <a:srgbClr val="000000"/>
              </a:solidFill>
              <a:latin typeface="Calibri"/>
            </a:endParaRPr>
          </a:p>
        </p:txBody>
      </p:sp>
      <p:sp>
        <p:nvSpPr>
          <p:cNvPr id="51" name=""/>
          <p:cNvSpPr txBox="1"/>
          <p:nvPr/>
        </p:nvSpPr>
        <p:spPr>
          <a:xfrm>
            <a:off x="380880" y="1600200"/>
            <a:ext cx="8229600" cy="449568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a452a"/>
                </a:solidFill>
                <a:latin typeface="Calibri"/>
              </a:rPr>
              <a:t>Three Levels of Concern:</a:t>
            </a:r>
            <a:endParaRPr b="0" lang="en-US" sz="35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es –  </a:t>
            </a:r>
            <a:r>
              <a:rPr b="0" lang="en-US" sz="2400" spc="-1" strike="noStrike">
                <a:solidFill>
                  <a:srgbClr val="000000"/>
                </a:solidFill>
                <a:latin typeface="Calibri"/>
              </a:rPr>
              <a:t>types and numbers of organism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tic – </a:t>
            </a:r>
            <a:r>
              <a:rPr b="0" lang="en-US" sz="2400" spc="-1" strike="noStrike">
                <a:solidFill>
                  <a:srgbClr val="000000"/>
                </a:solidFill>
                <a:latin typeface="Calibri"/>
              </a:rPr>
              <a:t>a large number of traits and adaptations within a specie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osystem diversity – </a:t>
            </a:r>
            <a:r>
              <a:rPr b="0" lang="en-US" sz="2400" spc="-1" strike="noStrike">
                <a:solidFill>
                  <a:srgbClr val="000000"/>
                </a:solidFill>
                <a:latin typeface="Calibri"/>
              </a:rPr>
              <a:t>encompasses the living and non-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Services</a:t>
            </a:r>
            <a:endParaRPr b="0" lang="en-US" sz="4400" spc="-1" strike="noStrike">
              <a:solidFill>
                <a:srgbClr val="000000"/>
              </a:solidFill>
              <a:latin typeface="Calibri"/>
            </a:endParaRPr>
          </a:p>
        </p:txBody>
      </p:sp>
      <p:pic>
        <p:nvPicPr>
          <p:cNvPr id="53" name="Content Placeholder 3" descr="figure_30_01_labeled.jpg"/>
          <p:cNvPicPr/>
          <p:nvPr/>
        </p:nvPicPr>
        <p:blipFill>
          <a:blip r:embed="rId1"/>
          <a:stretch/>
        </p:blipFill>
        <p:spPr>
          <a:xfrm>
            <a:off x="798480" y="1600200"/>
            <a:ext cx="7547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s Extinction Events</a:t>
            </a:r>
            <a:endParaRPr b="0" lang="en-US" sz="4400" spc="-1" strike="noStrike">
              <a:solidFill>
                <a:srgbClr val="000000"/>
              </a:solidFill>
              <a:latin typeface="Calibri"/>
            </a:endParaRPr>
          </a:p>
        </p:txBody>
      </p:sp>
      <p:pic>
        <p:nvPicPr>
          <p:cNvPr id="55" name="Picture Placeholder 3" descr="Figure_B47_01_04.jpg"/>
          <p:cNvPicPr/>
          <p:nvPr/>
        </p:nvPicPr>
        <p:blipFill>
          <a:blip r:embed="rId1"/>
          <a:srcRect l="-20831" t="0" r="-20831" b="0"/>
          <a:stretch/>
        </p:blipFill>
        <p:spPr>
          <a:xfrm>
            <a:off x="533520" y="1447920"/>
            <a:ext cx="8062920" cy="3500280"/>
          </a:xfrm>
          <a:prstGeom prst="rect">
            <a:avLst/>
          </a:prstGeom>
          <a:ln w="0">
            <a:noFill/>
          </a:ln>
        </p:spPr>
      </p:pic>
      <p:sp>
        <p:nvSpPr>
          <p:cNvPr id="56" name="Text Placeholder 6"/>
          <p:cNvSpPr/>
          <p:nvPr/>
        </p:nvSpPr>
        <p:spPr>
          <a:xfrm>
            <a:off x="152280" y="4843440"/>
            <a:ext cx="883944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dden and dramatic losses of biodiversity, called mass extinctions, have occurred five times.</a:t>
            </a:r>
            <a:endParaRPr b="0" lang="en-US" sz="2400" spc="-1" strike="noStrike">
              <a:solidFill>
                <a:srgbClr val="000000"/>
              </a:solidFill>
              <a:latin typeface="Arial"/>
            </a:endParaRPr>
          </a:p>
        </p:txBody>
      </p:sp>
      <p:sp>
        <p:nvSpPr>
          <p:cNvPr id="57" name="TextBox 5"/>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lobal Threatened Species*</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mmals – 2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hibians – 29%</a:t>
            </a:r>
            <a:endParaRPr b="0" lang="en-US" sz="2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tiles –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ering Plants – 3%</a:t>
            </a:r>
            <a:endParaRPr b="0" lang="en-US" sz="2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2007 data and what is known, not all species in a given category have been thoroughly examined</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
          <p:cNvPicPr/>
          <p:nvPr/>
        </p:nvPicPr>
        <p:blipFill>
          <a:blip r:embed="rId1"/>
          <a:stretch/>
        </p:blipFill>
        <p:spPr>
          <a:xfrm>
            <a:off x="1068480" y="3733920"/>
            <a:ext cx="70070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ndangered and Threatened Species</a:t>
            </a:r>
            <a:endParaRPr b="0" lang="en-US" sz="4000" spc="-1" strike="noStrike">
              <a:solidFill>
                <a:srgbClr val="000000"/>
              </a:solidFill>
              <a:latin typeface="Calibri"/>
            </a:endParaRPr>
          </a:p>
        </p:txBody>
      </p:sp>
      <p:sp>
        <p:nvSpPr>
          <p:cNvPr id="63" name=""/>
          <p:cNvSpPr txBox="1"/>
          <p:nvPr/>
        </p:nvSpPr>
        <p:spPr>
          <a:xfrm>
            <a:off x="457200" y="1371240"/>
            <a:ext cx="6019920" cy="52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Endanger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has a population levels so low that is faces extinction in all or part of its rang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reaten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likely to become endangered in the near futur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pecies of Concern (Vulnerable)</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at risk but does not meet criteria for listing; one carefully monitored by biologist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https://encrypted-tbn0.gstatic.com/images?q=tbn:ANd9GcS1UW7T8kAx_yv-2rDqUmK8-bm69d6Emn8ax6HWMcgTRNjZ9j5xW15WMYGN"/>
          <p:cNvPicPr/>
          <p:nvPr/>
        </p:nvPicPr>
        <p:blipFill>
          <a:blip r:embed="rId1"/>
          <a:stretch/>
        </p:blipFill>
        <p:spPr>
          <a:xfrm>
            <a:off x="6872400" y="1371600"/>
            <a:ext cx="1571400" cy="1428840"/>
          </a:xfrm>
          <a:prstGeom prst="rect">
            <a:avLst/>
          </a:prstGeom>
          <a:ln w="0">
            <a:noFill/>
          </a:ln>
        </p:spPr>
      </p:pic>
      <p:pic>
        <p:nvPicPr>
          <p:cNvPr id="65" name="Picture 4" descr="http://www.conserveturtles.org/images/seaturtles/green-adult-DavidSchrichte.jpg"/>
          <p:cNvPicPr/>
          <p:nvPr/>
        </p:nvPicPr>
        <p:blipFill>
          <a:blip r:embed="rId2"/>
          <a:stretch/>
        </p:blipFill>
        <p:spPr>
          <a:xfrm>
            <a:off x="6095880" y="2895480"/>
            <a:ext cx="2857680" cy="1781280"/>
          </a:xfrm>
          <a:prstGeom prst="rect">
            <a:avLst/>
          </a:prstGeom>
          <a:ln w="0">
            <a:noFill/>
          </a:ln>
        </p:spPr>
      </p:pic>
      <p:pic>
        <p:nvPicPr>
          <p:cNvPr id="66" name="Picture 6" descr="http://sdakotabirds.com/species/photos/upland_sandpiper.jpg"/>
          <p:cNvPicPr/>
          <p:nvPr/>
        </p:nvPicPr>
        <p:blipFill>
          <a:blip r:embed="rId3"/>
          <a:stretch/>
        </p:blipFill>
        <p:spPr>
          <a:xfrm>
            <a:off x="6629400" y="4876920"/>
            <a:ext cx="1943280" cy="1771560"/>
          </a:xfrm>
          <a:prstGeom prst="rect">
            <a:avLst/>
          </a:prstGeom>
          <a:ln w="0">
            <a:noFill/>
          </a:ln>
        </p:spPr>
      </p:pic>
      <p:sp>
        <p:nvSpPr>
          <p:cNvPr id="67" name="TextBox 6"/>
          <p:cNvSpPr/>
          <p:nvPr/>
        </p:nvSpPr>
        <p:spPr>
          <a:xfrm>
            <a:off x="6858000" y="259092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Kristi Herbert, Wikimedia Comm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uman Ecological Footprint</a:t>
            </a:r>
            <a:endParaRPr b="0" lang="en-US" sz="4400" spc="-1" strike="noStrike">
              <a:solidFill>
                <a:srgbClr val="000000"/>
              </a:solidFill>
              <a:latin typeface="Calibri"/>
            </a:endParaRPr>
          </a:p>
        </p:txBody>
      </p:sp>
      <p:pic>
        <p:nvPicPr>
          <p:cNvPr id="69" name="Content Placeholder 3" descr="figure_30_06_labeled.jpg"/>
          <p:cNvPicPr/>
          <p:nvPr/>
        </p:nvPicPr>
        <p:blipFill>
          <a:blip r:embed="rId1"/>
          <a:stretch/>
        </p:blipFill>
        <p:spPr>
          <a:xfrm>
            <a:off x="2165400" y="1143000"/>
            <a:ext cx="4813200" cy="4525920"/>
          </a:xfrm>
          <a:prstGeom prst="rect">
            <a:avLst/>
          </a:prstGeom>
          <a:ln w="0">
            <a:noFill/>
          </a:ln>
        </p:spPr>
      </p:pic>
      <p:sp>
        <p:nvSpPr>
          <p:cNvPr id="70" name="TextBox 4"/>
          <p:cNvSpPr/>
          <p:nvPr/>
        </p:nvSpPr>
        <p:spPr>
          <a:xfrm>
            <a:off x="228600" y="57150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Awesome Website Alert! </a:t>
            </a:r>
            <a:r>
              <a:rPr b="0" lang="en-US" sz="2800" spc="-1" strike="noStrike">
                <a:solidFill>
                  <a:srgbClr val="000000"/>
                </a:solidFill>
                <a:latin typeface="Wingdings"/>
                <a:ea typeface="Wingdings"/>
              </a:rPr>
              <a:t></a:t>
            </a:r>
            <a:r>
              <a:rPr b="0" lang="en-US" sz="2800" spc="-1" strike="noStrike">
                <a:solidFill>
                  <a:srgbClr val="000000"/>
                </a:solidFill>
                <a:latin typeface="Calibri"/>
              </a:rPr>
              <a:t>Click here to measure your own ecological footprint (www.footprintnetwork.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environmentalgeography.files.wordpress.com/2012/03/rainforest-destruction.jpg"/>
          <p:cNvPicPr/>
          <p:nvPr/>
        </p:nvPicPr>
        <p:blipFill>
          <a:blip r:embed="rId1"/>
          <a:stretch/>
        </p:blipFill>
        <p:spPr>
          <a:xfrm>
            <a:off x="4952880" y="2641680"/>
            <a:ext cx="4065840" cy="42163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Major Threats to Species</a:t>
            </a:r>
            <a:endParaRPr b="0" lang="en-US" sz="4400" spc="-1" strike="noStrike">
              <a:solidFill>
                <a:srgbClr val="000000"/>
              </a:solidFill>
              <a:latin typeface="Calibri"/>
            </a:endParaRPr>
          </a:p>
        </p:txBody>
      </p:sp>
      <p:sp>
        <p:nvSpPr>
          <p:cNvPr id="7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Habitat Fragmen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sion of land for agricul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gas, and mineral expl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ban expa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graz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 co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sup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01:01:23Z</dcterms:created>
  <dc:creator>Miranda</dc:creator>
  <dc:description/>
  <dc:language>en-US</dc:language>
  <cp:lastModifiedBy>Miranda</cp:lastModifiedBy>
  <dcterms:modified xsi:type="dcterms:W3CDTF">2013-12-04T08:21:51Z</dcterms:modified>
  <cp:revision>11</cp:revision>
  <dc:subject/>
  <dc:title>Biodiversity in Crisis</dc:title>
</cp:coreProperties>
</file>