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534-290D-4AD9-9D20-3BA977EA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90B-6623-45F5-BE6C-E0D355F5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DD60-1C2A-4976-81DC-C6AA9F55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B34-AD20-4E47-97E9-FACB1252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5CA10-E6E7-40EF-B42E-D4374804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C0872-A827-4C36-A9F4-C74244FB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5188F-DCC1-4CD4-B1FC-54361906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1FEBD-7CD9-49A3-8CBB-32C68B09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BCA58-997F-4CF0-BCE7-22710AF8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E9550-6183-4D71-96D5-FC15CD6A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1E535-16F3-470D-9E04-4E0F25D8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E0BF-002A-4CD2-98A9-CDE6983E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A115E-7F44-4555-9BCA-75738B28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1B5B8-2493-413E-9379-6FCCB2A2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1D1D0-F970-44E1-8879-AAF99873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BE439-C369-45BE-B4CD-49615E96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C08FD-207E-455B-A07E-EF403CF0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E5D37-5D74-4C16-B80F-233E1434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92794-8A88-429D-AB20-3182019F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7F01D-F7E3-405C-84B4-66188AC3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E16D6-A315-4F92-981E-ED1DA7E4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C058A-F99E-4071-99EA-A55C09CF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BD7E-2920-4028-AAB9-9EDF4BC1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6D985-6AEA-4EAA-A411-4FC3BF6E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14C10-51A0-4467-9E20-F0A970CA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19B13-491D-4BB9-A18F-9A8682EC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A2116-ED16-4460-813A-18BEAD88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8E514-5A1F-4103-90C8-21B1C0E7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82EE6-D18E-4125-9A3C-B24771B1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56FA5-2636-4AF5-976B-AE146BD6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3DA05-DE23-4AF2-AE55-F034CA38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652B8-53FB-40D9-99FA-206ABC1F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F461E-53EE-4FEC-AB87-FE0CCB88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A088-BC41-4F09-9A27-926AEBD7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01E38-F1FC-494B-9FBD-A9F2F7E2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78F2E-05F7-4517-A90F-128EE8BA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E1BA1-41A2-410D-8E7A-4C858D1A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4D6F1-3700-4243-BD33-47C034D8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15452-A44A-4254-A082-7DFAC5DF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5E0BB-E653-4C96-A18C-E79BBF49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D25C7-5EE0-4386-8760-E3F7BDB0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8A4AB-4923-47E5-A42D-88635978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85011-7866-4487-8D8D-227D1F1C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14EED-C6E8-4E13-A567-D9874904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36BA-6C25-4155-9EEA-C3F82463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EC92E-2B4C-435B-9E1F-A597ABBE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B6BC9-E728-40AE-969E-839915CC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B571C-F387-4A7A-94FA-EF059EA6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DAEB9-9797-40A8-9EF6-46C3F633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D4957-EEF5-49B6-96B9-EE82B23F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01A6B-EB83-4424-821F-E38B209F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15C31-A8C4-4988-A4EE-6A0455A7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C1729-2005-4101-A372-A5FD1250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0EE14-ADFE-44AC-86C3-04BF838C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E4B27-C89D-4CEC-B352-91992ACF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912-D428-4A3A-BB61-775DC4B7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E0F29-7C73-4D56-842C-6C052449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7E7EF-3E06-4ADE-A757-664BD149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25486-87C4-4AAD-B067-02EED525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DFEEE-50A0-491A-8BB6-6C42B286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2D0DA-541D-4618-BCD3-B6DB6D1A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19048-71FB-42BB-B784-7A3B381F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9020B-D4EC-4876-80C0-23D0911A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AE701-6697-4C3B-A6CC-3C894D6B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6D28E-3C39-420D-A9F9-CF136556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3A4D3-36E8-440F-99E5-4AECE202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1BF4-8869-4E64-B7E9-E55EF9A9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913DD-CFC0-4627-8BE7-000FCE09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8BD17-F5AA-44D5-9E84-0469F11C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8939F-A371-4855-8E17-4737FEE1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372A9-6B71-4C93-AFCB-A8102BB5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BBA30-4D48-4079-8F5D-54063B50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0F8CF-E037-4A7D-B266-68C2A8FF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A1709-1BA4-4772-9826-97CEC2C7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E9622-7F0F-406E-BC8E-3963F751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EC748-DA99-4792-9C14-73100AE3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47696-6FDF-4AC0-8764-6FEE42AC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4F8-4964-4F75-8B41-9B614B3E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C3E96-750F-4F83-B0D9-1ACE7400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A0300-13EF-4697-BC85-2D586554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919EC-F770-4944-9834-629989DA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13E39-BCC4-4EDF-A3AD-2FC7B8C1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E5489-2704-48E1-9950-1BEDDF57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BC75F-8D9E-4154-93CB-AE78587B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3EC5E-0940-48D7-816C-72B68063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BBCBE-4F7A-4187-8978-A1E0CDBE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9C029-8FA4-4C23-AFA3-DEE340CC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8B188-5680-4FBA-BE42-AB043D89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598-9CC9-4EE6-A573-CA654216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260AE-5278-4355-9F08-7A747553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D505E-275D-4B3C-BBC8-33F1D7FB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07399-167B-48D1-B514-EEBB4B2A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59FEE-2AC3-41A8-B598-03EADB8E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0E3D4-8B6C-4E3E-B4D7-B1494B34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46D63-C817-4033-8E22-4A41059E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F8E10-1CB2-4446-BC9E-280AD3D5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B42D-D6D2-478A-842B-BB3DF1757A3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1AA9-AB25-4426-827F-8D6BF4D4104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B381-77B5-465D-B023-24F7165694C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4904-1379-4E8E-8772-D0BE6B6D38D0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00DF-04FC-4CA3-AA1D-213F49E6757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56E8-A03D-4337-A2AD-34D601AD1797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8F49-381F-46F9-A0CF-94BDE58FB4B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9177-482D-469A-8F5B-A7386D68FE3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4AF1-794C-486F-A6C2-B9D52EC7DB6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FF5F-B6DD-41C9-8624-4A4D9A93A2F1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B642-7178-416C-A6EA-AD983B3ACA8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53C5-57E6-442E-A8FB-D808374896F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8C9B-07C2-42B0-80C1-D75BA6A4B40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AA9E-6840-438D-87C4-C8B8DFCF8FC0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5908-3D4D-437D-AF75-1C3F50894441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E640-A345-4A95-A2B4-86EE6EC6797A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6"/>
          <p:cNvSpPr/>
          <p:nvPr/>
        </p:nvSpPr>
        <p:spPr>
          <a:xfrm>
            <a:off x="4751640" y="3429000"/>
            <a:ext cx="3585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 the two thousand years since the sars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d been dragged to Stonehenge, t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scape around Sarum had not chang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ch.  Woods of oak and ash, elm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el still graced the broad bowl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 where the five rivers met.  . . B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re were changes: sheep now graz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sacred precincts where the mello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ey stones of the henge, still standing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ir magic circle, were seldom visited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owed many signs of disrepair.  Th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rrows were overgrown with turf, and 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w ones had been built for generations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8" descr="Sarum, mounds.jpg"/>
          <p:cNvPicPr/>
          <p:nvPr/>
        </p:nvPicPr>
        <p:blipFill>
          <a:blip r:embed="rId1"/>
          <a:stretch/>
        </p:blipFill>
        <p:spPr>
          <a:xfrm>
            <a:off x="609480" y="2438280"/>
            <a:ext cx="2806920" cy="2108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Stonehenge goodbye.jpg"/>
          <p:cNvPicPr/>
          <p:nvPr/>
        </p:nvPicPr>
        <p:blipFill>
          <a:blip r:embed="rId2"/>
          <a:stretch/>
        </p:blipFill>
        <p:spPr>
          <a:xfrm>
            <a:off x="1066680" y="304920"/>
            <a:ext cx="2722680" cy="2047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arum, woods.jpg"/>
          <p:cNvPicPr/>
          <p:nvPr/>
        </p:nvPicPr>
        <p:blipFill>
          <a:blip r:embed="rId3"/>
          <a:stretch/>
        </p:blipFill>
        <p:spPr>
          <a:xfrm>
            <a:off x="4038480" y="609480"/>
            <a:ext cx="3353040" cy="2521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Sheep at Sarum.jpg"/>
          <p:cNvPicPr/>
          <p:nvPr/>
        </p:nvPicPr>
        <p:blipFill>
          <a:blip r:embed="rId4"/>
          <a:stretch/>
        </p:blipFill>
        <p:spPr>
          <a:xfrm>
            <a:off x="1905120" y="4800600"/>
            <a:ext cx="2179440" cy="163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4550-2A52-4857-81DE-877D0116A08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9529-6BA6-461C-87E3-2BDB4FC5F94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5" descr="Gilcreaseclub08.JPG.jpeg"/>
          <p:cNvPicPr/>
          <p:nvPr/>
        </p:nvPicPr>
        <p:blipFill>
          <a:blip r:embed="rId1"/>
          <a:stretch/>
        </p:blipFill>
        <p:spPr>
          <a:xfrm>
            <a:off x="4343400" y="533520"/>
            <a:ext cx="3645000" cy="2755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ptscty55aclr2.jpg"/>
          <p:cNvPicPr/>
          <p:nvPr/>
        </p:nvPicPr>
        <p:blipFill>
          <a:blip r:embed="rId2"/>
          <a:stretch/>
        </p:blipFill>
        <p:spPr>
          <a:xfrm>
            <a:off x="4952880" y="3505320"/>
            <a:ext cx="3048120" cy="2463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BigRamey.JPG.jpeg"/>
          <p:cNvPicPr/>
          <p:nvPr/>
        </p:nvPicPr>
        <p:blipFill>
          <a:blip r:embed="rId3"/>
          <a:stretch/>
        </p:blipFill>
        <p:spPr>
          <a:xfrm>
            <a:off x="685800" y="685800"/>
            <a:ext cx="2833560" cy="2055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pttech36clr2.jpg"/>
          <p:cNvPicPr/>
          <p:nvPr/>
        </p:nvPicPr>
        <p:blipFill>
          <a:blip r:embed="rId4"/>
          <a:stretch/>
        </p:blipFill>
        <p:spPr>
          <a:xfrm>
            <a:off x="762120" y="3352680"/>
            <a:ext cx="336528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7DB6-9006-48CB-95BF-ACE827D9BA5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3552-6F95-4D6D-808B-8BA7585AA28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Picture 3" descr="birger.jpg"/>
          <p:cNvPicPr/>
          <p:nvPr/>
        </p:nvPicPr>
        <p:blipFill>
          <a:blip r:embed="rId1"/>
          <a:stretch/>
        </p:blipFill>
        <p:spPr>
          <a:xfrm>
            <a:off x="380880" y="533520"/>
            <a:ext cx="2976840" cy="3287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birger2.jpg"/>
          <p:cNvPicPr/>
          <p:nvPr/>
        </p:nvPicPr>
        <p:blipFill>
          <a:blip r:embed="rId2"/>
          <a:stretch/>
        </p:blipFill>
        <p:spPr>
          <a:xfrm>
            <a:off x="6248520" y="3276720"/>
            <a:ext cx="2539800" cy="3098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Birger3.jpg"/>
          <p:cNvPicPr/>
          <p:nvPr/>
        </p:nvPicPr>
        <p:blipFill>
          <a:blip r:embed="rId3"/>
          <a:stretch/>
        </p:blipFill>
        <p:spPr>
          <a:xfrm>
            <a:off x="3657600" y="1371600"/>
            <a:ext cx="254016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4827-5C2B-4360-AC38-341F0EF1F0C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1886-2585-4025-9B2B-9E686F8FC5BF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9" descr="images-4.jpeg"/>
          <p:cNvPicPr/>
          <p:nvPr/>
        </p:nvPicPr>
        <p:blipFill>
          <a:blip r:embed="rId1"/>
          <a:stretch/>
        </p:blipFill>
        <p:spPr>
          <a:xfrm>
            <a:off x="6400800" y="2971800"/>
            <a:ext cx="2031840" cy="245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images-3.jpeg"/>
          <p:cNvPicPr/>
          <p:nvPr/>
        </p:nvPicPr>
        <p:blipFill>
          <a:blip r:embed="rId2"/>
          <a:stretch/>
        </p:blipFill>
        <p:spPr>
          <a:xfrm>
            <a:off x="4038480" y="914400"/>
            <a:ext cx="1835280" cy="3276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peetBirdman.gif"/>
          <p:cNvPicPr/>
          <p:nvPr/>
        </p:nvPicPr>
        <p:blipFill>
          <a:blip r:embed="rId3"/>
          <a:stretch/>
        </p:blipFill>
        <p:spPr>
          <a:xfrm>
            <a:off x="609480" y="990720"/>
            <a:ext cx="32832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BFE5-3044-4D42-90C1-FF1DC4602F2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8484-C0F7-47BB-8A47-3315BED4259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3" name="Picture 3" descr="CahokiaWoodhenge.gif"/>
          <p:cNvPicPr/>
          <p:nvPr/>
        </p:nvPicPr>
        <p:blipFill>
          <a:blip r:embed="rId1"/>
          <a:stretch/>
        </p:blipFill>
        <p:spPr>
          <a:xfrm>
            <a:off x="3809880" y="990720"/>
            <a:ext cx="4687920" cy="3581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explore_centralpalisades.jpg"/>
          <p:cNvPicPr/>
          <p:nvPr/>
        </p:nvPicPr>
        <p:blipFill>
          <a:blip r:embed="rId2"/>
          <a:stretch/>
        </p:blipFill>
        <p:spPr>
          <a:xfrm>
            <a:off x="762120" y="533520"/>
            <a:ext cx="2271600" cy="2260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Palisade1.JPG.jpeg"/>
          <p:cNvPicPr/>
          <p:nvPr/>
        </p:nvPicPr>
        <p:blipFill>
          <a:blip r:embed="rId3"/>
          <a:stretch/>
        </p:blipFill>
        <p:spPr>
          <a:xfrm>
            <a:off x="762120" y="3200400"/>
            <a:ext cx="2889000" cy="2166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6"/>
          <p:cNvSpPr/>
          <p:nvPr/>
        </p:nvSpPr>
        <p:spPr>
          <a:xfrm>
            <a:off x="4284360" y="2971800"/>
            <a:ext cx="458676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small wooded hill which stood guardi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the valley had been completely transform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had been a promontory really, a natu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ump jutting out of the high ground; but sever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enturies ago, the old promontory had be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raped bare and round the entire summit o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me thirty acres, two massive banks of ear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chalk had been thrown up, with a deep di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tween them.  The lightly wooded hill h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en transformed into a bold, bare mound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ther unsightly, with a steep slope on eve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de. . . The people of Sarum, using a Celt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rm, called this fortress the dune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5" descr="Sarum hill.jpg"/>
          <p:cNvPicPr/>
          <p:nvPr/>
        </p:nvPicPr>
        <p:blipFill>
          <a:blip r:embed="rId1"/>
          <a:stretch/>
        </p:blipFill>
        <p:spPr>
          <a:xfrm>
            <a:off x="380880" y="228600"/>
            <a:ext cx="3759480" cy="281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Sarum hill with sign.jpg"/>
          <p:cNvPicPr/>
          <p:nvPr/>
        </p:nvPicPr>
        <p:blipFill>
          <a:blip r:embed="rId2"/>
          <a:stretch/>
        </p:blipFill>
        <p:spPr>
          <a:xfrm>
            <a:off x="46483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Sarum ditch.jpg"/>
          <p:cNvPicPr/>
          <p:nvPr/>
        </p:nvPicPr>
        <p:blipFill>
          <a:blip r:embed="rId3"/>
          <a:stretch/>
        </p:blipFill>
        <p:spPr>
          <a:xfrm>
            <a:off x="304920" y="35053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BDC6-BF65-4CEF-902E-8465BB1B70B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D84B-1D49-4666-A3D3-E5D9517886C7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US_tribes_map.jpg"/>
          <p:cNvPicPr/>
          <p:nvPr/>
        </p:nvPicPr>
        <p:blipFill>
          <a:blip r:embed="rId1"/>
          <a:stretch/>
        </p:blipFill>
        <p:spPr>
          <a:xfrm>
            <a:off x="457200" y="380880"/>
            <a:ext cx="5079960" cy="3784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images-7.jpeg"/>
          <p:cNvPicPr/>
          <p:nvPr/>
        </p:nvPicPr>
        <p:blipFill>
          <a:blip r:embed="rId2"/>
          <a:stretch/>
        </p:blipFill>
        <p:spPr>
          <a:xfrm>
            <a:off x="1523880" y="4419720"/>
            <a:ext cx="1695600" cy="1695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images-6.jpeg"/>
          <p:cNvPicPr/>
          <p:nvPr/>
        </p:nvPicPr>
        <p:blipFill>
          <a:blip r:embed="rId3"/>
          <a:stretch/>
        </p:blipFill>
        <p:spPr>
          <a:xfrm>
            <a:off x="6172200" y="457200"/>
            <a:ext cx="1668600" cy="1720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images-2.jpeg"/>
          <p:cNvPicPr/>
          <p:nvPr/>
        </p:nvPicPr>
        <p:blipFill>
          <a:blip r:embed="rId4"/>
          <a:stretch/>
        </p:blipFill>
        <p:spPr>
          <a:xfrm>
            <a:off x="5867280" y="2362320"/>
            <a:ext cx="2095560" cy="1612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tunica.jpg"/>
          <p:cNvPicPr/>
          <p:nvPr/>
        </p:nvPicPr>
        <p:blipFill>
          <a:blip r:embed="rId5"/>
          <a:stretch/>
        </p:blipFill>
        <p:spPr>
          <a:xfrm>
            <a:off x="4800600" y="4267080"/>
            <a:ext cx="324180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2DE7-2C2D-4D55-AAA6-19F0BBBD1AA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cahokia mounds_5 ENHANCED.jpg"/>
          <p:cNvPicPr/>
          <p:nvPr/>
        </p:nvPicPr>
        <p:blipFill>
          <a:blip r:embed="rId1"/>
          <a:stretch/>
        </p:blipFill>
        <p:spPr>
          <a:xfrm>
            <a:off x="609480" y="3124080"/>
            <a:ext cx="3829320" cy="23734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7"/>
          <p:cNvSpPr/>
          <p:nvPr/>
        </p:nvSpPr>
        <p:spPr>
          <a:xfrm>
            <a:off x="533520" y="5410080"/>
            <a:ext cx="46080" cy="22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50: Cahokia number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bout 20,000, largest city i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th America until Philadelph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18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8" descr="Cahokia_village.jpeg"/>
          <p:cNvPicPr/>
          <p:nvPr/>
        </p:nvPicPr>
        <p:blipFill>
          <a:blip r:embed="rId2"/>
          <a:stretch/>
        </p:blipFill>
        <p:spPr>
          <a:xfrm>
            <a:off x="685800" y="990720"/>
            <a:ext cx="3878280" cy="1447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images-2.jpeg"/>
          <p:cNvPicPr/>
          <p:nvPr/>
        </p:nvPicPr>
        <p:blipFill>
          <a:blip r:embed="rId3"/>
          <a:stretch/>
        </p:blipFill>
        <p:spPr>
          <a:xfrm>
            <a:off x="4724280" y="1523880"/>
            <a:ext cx="403884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E689-06FE-4126-B6F5-D6FAC9F67F0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3" descr="Indian migration.jpg"/>
          <p:cNvPicPr/>
          <p:nvPr/>
        </p:nvPicPr>
        <p:blipFill>
          <a:blip r:embed="rId1"/>
          <a:stretch/>
        </p:blipFill>
        <p:spPr>
          <a:xfrm>
            <a:off x="304920" y="762120"/>
            <a:ext cx="3733560" cy="495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ississippiancultures_map_HRoe_2008.jpg"/>
          <p:cNvPicPr/>
          <p:nvPr/>
        </p:nvPicPr>
        <p:blipFill>
          <a:blip r:embed="rId2"/>
          <a:stretch/>
        </p:blipFill>
        <p:spPr>
          <a:xfrm>
            <a:off x="4343400" y="990720"/>
            <a:ext cx="4048200" cy="4317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7"/>
          <p:cNvSpPr/>
          <p:nvPr/>
        </p:nvSpPr>
        <p:spPr>
          <a:xfrm>
            <a:off x="4615920" y="5638680"/>
            <a:ext cx="399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00 BCE: Development of farming in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west, with growth of population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tled c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3814-7F1E-43A3-B70C-3B5409F3DD9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D94D-CF63-4ECE-93A3-6B4D39758121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Picture 3" descr="AdenaHopewellMissMap.jpg"/>
          <p:cNvPicPr/>
          <p:nvPr/>
        </p:nvPicPr>
        <p:blipFill>
          <a:blip r:embed="rId1"/>
          <a:stretch/>
        </p:blipFill>
        <p:spPr>
          <a:xfrm>
            <a:off x="380880" y="762120"/>
            <a:ext cx="4419720" cy="45831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609480" y="5486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00 C.E.: Mound building age begins, to continue until about 13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6" descr="93538-004-1B84B585.jpg"/>
          <p:cNvPicPr/>
          <p:nvPr/>
        </p:nvPicPr>
        <p:blipFill>
          <a:blip r:embed="rId2"/>
          <a:stretch/>
        </p:blipFill>
        <p:spPr>
          <a:xfrm>
            <a:off x="5257800" y="838080"/>
            <a:ext cx="3195720" cy="2271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300px-Chromesun_kincaid_site_01.jpg"/>
          <p:cNvPicPr/>
          <p:nvPr/>
        </p:nvPicPr>
        <p:blipFill>
          <a:blip r:embed="rId3"/>
          <a:stretch/>
        </p:blipFill>
        <p:spPr>
          <a:xfrm>
            <a:off x="5181480" y="3352680"/>
            <a:ext cx="30625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27E5-8E3B-4F95-AEA9-1FF9A0CD827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EA83-DB69-47B6-98E4-BBFF586FD877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3" descr="84499-004-017BFB9F.jpg"/>
          <p:cNvPicPr/>
          <p:nvPr/>
        </p:nvPicPr>
        <p:blipFill>
          <a:blip r:embed="rId1"/>
          <a:stretch/>
        </p:blipFill>
        <p:spPr>
          <a:xfrm>
            <a:off x="1295280" y="762120"/>
            <a:ext cx="6222960" cy="41288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2520" y="5257800"/>
            <a:ext cx="731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at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rp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ound: Built about 1075 C.E., in present-day Ohio; alm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¼ mile long or 1,330 feet; serpent’s head aligns with sunset on the summ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stice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7FD1-6863-4A66-9606-596F70ACC59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1F4D-869B-466F-AF69-830AF22902A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4" descr="cahokia-mounds-b_w-web.gif"/>
          <p:cNvPicPr/>
          <p:nvPr/>
        </p:nvPicPr>
        <p:blipFill>
          <a:blip r:embed="rId1"/>
          <a:stretch/>
        </p:blipFill>
        <p:spPr>
          <a:xfrm>
            <a:off x="533520" y="228600"/>
            <a:ext cx="4778280" cy="3886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images-1.jpeg"/>
          <p:cNvPicPr/>
          <p:nvPr/>
        </p:nvPicPr>
        <p:blipFill>
          <a:blip r:embed="rId2"/>
          <a:stretch/>
        </p:blipFill>
        <p:spPr>
          <a:xfrm>
            <a:off x="5486400" y="457200"/>
            <a:ext cx="2941560" cy="2390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Cahokia2.jpg"/>
          <p:cNvPicPr/>
          <p:nvPr/>
        </p:nvPicPr>
        <p:blipFill>
          <a:blip r:embed="rId3"/>
          <a:stretch/>
        </p:blipFill>
        <p:spPr>
          <a:xfrm>
            <a:off x="380880" y="4191120"/>
            <a:ext cx="5104080" cy="1685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cahokia--300x300.jpg"/>
          <p:cNvPicPr/>
          <p:nvPr/>
        </p:nvPicPr>
        <p:blipFill>
          <a:blip r:embed="rId4"/>
          <a:stretch/>
        </p:blipFill>
        <p:spPr>
          <a:xfrm>
            <a:off x="5715000" y="2971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7"/>
          <p:cNvSpPr/>
          <p:nvPr/>
        </p:nvSpPr>
        <p:spPr>
          <a:xfrm>
            <a:off x="1122480" y="6172200"/>
            <a:ext cx="40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0 mounds built from 940 to 1200 C.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5B40-967A-4E3F-AB69-3DC507C622D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888A-FB27-4AED-AF58-49D8B6440FC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3" descr="Cahokia - Mound 72.jpg"/>
          <p:cNvPicPr/>
          <p:nvPr/>
        </p:nvPicPr>
        <p:blipFill>
          <a:blip r:embed="rId1"/>
          <a:stretch/>
        </p:blipFill>
        <p:spPr>
          <a:xfrm>
            <a:off x="533520" y="762120"/>
            <a:ext cx="3598920" cy="1981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ahokia  - Mound 72 burial skeletons.jpg"/>
          <p:cNvPicPr/>
          <p:nvPr/>
        </p:nvPicPr>
        <p:blipFill>
          <a:blip r:embed="rId2"/>
          <a:stretch/>
        </p:blipFill>
        <p:spPr>
          <a:xfrm>
            <a:off x="6248520" y="685800"/>
            <a:ext cx="2298600" cy="3089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Cahokia - Mound 72 decapitted bodies.jpg"/>
          <p:cNvPicPr/>
          <p:nvPr/>
        </p:nvPicPr>
        <p:blipFill>
          <a:blip r:embed="rId3"/>
          <a:stretch/>
        </p:blipFill>
        <p:spPr>
          <a:xfrm>
            <a:off x="762120" y="3276720"/>
            <a:ext cx="2206440" cy="2617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Cahokia - Man buried on shells.jpg"/>
          <p:cNvPicPr/>
          <p:nvPr/>
        </p:nvPicPr>
        <p:blipFill>
          <a:blip r:embed="rId4"/>
          <a:stretch/>
        </p:blipFill>
        <p:spPr>
          <a:xfrm>
            <a:off x="3352680" y="39625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3:06:36Z</dcterms:created>
  <dc:creator/>
  <dc:description/>
  <dc:language>en-US</dc:language>
  <cp:lastModifiedBy>Robert Harrison</cp:lastModifiedBy>
  <cp:lastPrinted>2001-04-17T22:19:08Z</cp:lastPrinted>
  <dcterms:modified xsi:type="dcterms:W3CDTF">2011-10-17T15:30:03Z</dcterms:modified>
  <cp:revision>67</cp:revision>
  <dc:subject/>
  <dc:title>PowerPoint Presentation</dc:title>
</cp:coreProperties>
</file>