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19.png" ContentType="image/png"/>
  <Override PartName="/ppt/media/image18.jpeg" ContentType="image/jpeg"/>
  <Override PartName="/ppt/media/explode.wav" ContentType="audio/x-wav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623A-8443-4F15-9F6D-2EC7E77FB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9486-08CF-4DF6-A88D-A13FD158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535E-DAA8-48ED-A658-0A7E11A76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30D1-A4F3-4445-88F4-E11CA2B3F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741C-44BE-4939-9CA9-4A042B4B6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1C20-FFD9-4A0E-BD16-9618C141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DD30-3AA5-4E62-AF04-AD2EF4BC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FDFC-97F8-4E07-8773-B0683143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0602-BC59-4136-882F-6C4A6D89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EA6B-E70E-47E0-B13D-A348AF51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EA80-1746-43E5-8F86-E7B0AA17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842A-1EEF-4222-9ECD-8E83ACF0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645C-A59B-4DE6-BD71-908E35D2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CB6A-070A-48A6-B393-1566EA66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1992-18C1-42CD-947B-2EB6A2D3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E341-0EC2-4348-A35F-608958EBF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FC49-88A0-4698-94AE-4178104D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613F-4A62-4B33-A578-B4C58842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49E2-0326-4D62-A051-6FC47F46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DEF1-3920-454A-A112-F8097C89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E1AA-5090-4783-ACAD-A3033B68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DD29-60B3-48CB-AC4C-FB5BBB34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676B-1539-464D-8068-AF2D269F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F74E-A160-44A3-847E-0F936E4F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78CE-3AF8-4BE6-89D6-914676E95946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573B-93AE-48C4-8887-11FABD0F14CB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Concord Naval Weapons Station"/>
          <p:cNvPicPr/>
          <p:nvPr/>
        </p:nvPicPr>
        <p:blipFill>
          <a:blip r:embed="rId1"/>
          <a:stretch/>
        </p:blipFill>
        <p:spPr>
          <a:xfrm>
            <a:off x="762120" y="1523880"/>
            <a:ext cx="3429000" cy="2486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Concord Station - Protest photo"/>
          <p:cNvPicPr/>
          <p:nvPr/>
        </p:nvPicPr>
        <p:blipFill>
          <a:blip r:embed="rId2"/>
          <a:stretch/>
        </p:blipFill>
        <p:spPr>
          <a:xfrm>
            <a:off x="4724280" y="1523880"/>
            <a:ext cx="3784680" cy="250524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533520" y="990720"/>
            <a:ext cx="87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September 1, 1987: Concord Nuclear Weapons St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4" name="Picture 5" descr="pic 1.jpg"/>
          <p:cNvPicPr/>
          <p:nvPr/>
        </p:nvPicPr>
        <p:blipFill>
          <a:blip r:embed="rId3"/>
          <a:stretch/>
        </p:blipFill>
        <p:spPr>
          <a:xfrm>
            <a:off x="1066680" y="4133880"/>
            <a:ext cx="2938680" cy="2724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pic 2.jpg"/>
          <p:cNvPicPr/>
          <p:nvPr/>
        </p:nvPicPr>
        <p:blipFill>
          <a:blip r:embed="rId4"/>
          <a:stretch/>
        </p:blipFill>
        <p:spPr>
          <a:xfrm>
            <a:off x="4876920" y="4267080"/>
            <a:ext cx="279396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Greek Drama: Tragedy and Comedy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7" name="Picture 3" descr="Greeks -- Theatre of Dionysus, ruin"/>
          <p:cNvPicPr/>
          <p:nvPr/>
        </p:nvPicPr>
        <p:blipFill>
          <a:blip r:embed="rId1"/>
          <a:stretch/>
        </p:blipFill>
        <p:spPr>
          <a:xfrm>
            <a:off x="1295280" y="434340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5179320" y="1981080"/>
            <a:ext cx="35319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Drama developed fro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itual dances and worshi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f 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Dionysus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, God of win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nd emoti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“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Hubris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”: Tragic flaw causin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ne with great power to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all through iron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“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Catharsis”: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Vicarious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dentification of people wit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haracters, leading to releas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f emotion and exploration of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onflicting issues, especially th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ndividual vs. the Communit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9" name="Picture 5" descr="Greeks -- Theatre of Dionysus in Athens"/>
          <p:cNvPicPr/>
          <p:nvPr/>
        </p:nvPicPr>
        <p:blipFill>
          <a:blip r:embed="rId2"/>
          <a:stretch/>
        </p:blipFill>
        <p:spPr>
          <a:xfrm>
            <a:off x="1371600" y="1828800"/>
            <a:ext cx="320040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Greeks - Antigone, modern poster"/>
          <p:cNvPicPr/>
          <p:nvPr/>
        </p:nvPicPr>
        <p:blipFill>
          <a:blip r:embed="rId1"/>
          <a:stretch/>
        </p:blipFill>
        <p:spPr>
          <a:xfrm>
            <a:off x="228600" y="838080"/>
            <a:ext cx="4000680" cy="2500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Greeks - Antigone and Ismene"/>
          <p:cNvPicPr/>
          <p:nvPr/>
        </p:nvPicPr>
        <p:blipFill>
          <a:blip r:embed="rId2"/>
          <a:stretch/>
        </p:blipFill>
        <p:spPr>
          <a:xfrm>
            <a:off x="4343400" y="685800"/>
            <a:ext cx="1982880" cy="2921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Greeks - Antigone and Haemon"/>
          <p:cNvPicPr/>
          <p:nvPr/>
        </p:nvPicPr>
        <p:blipFill>
          <a:blip r:embed="rId3"/>
          <a:stretch/>
        </p:blipFill>
        <p:spPr>
          <a:xfrm>
            <a:off x="4191120" y="4038480"/>
            <a:ext cx="3193920" cy="2260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Greeks - Antigone and Creon"/>
          <p:cNvPicPr/>
          <p:nvPr/>
        </p:nvPicPr>
        <p:blipFill>
          <a:blip r:embed="rId4"/>
          <a:stretch/>
        </p:blipFill>
        <p:spPr>
          <a:xfrm>
            <a:off x="457200" y="35053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Greeks - Oedipus blind"/>
          <p:cNvPicPr/>
          <p:nvPr/>
        </p:nvPicPr>
        <p:blipFill>
          <a:blip r:embed="rId5"/>
          <a:stretch/>
        </p:blipFill>
        <p:spPr>
          <a:xfrm>
            <a:off x="6651720" y="990720"/>
            <a:ext cx="24922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merican Tragedie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Picture 3" descr="Nixon, Richard -- on phone"/>
          <p:cNvPicPr/>
          <p:nvPr/>
        </p:nvPicPr>
        <p:blipFill>
          <a:blip r:embed="rId1"/>
          <a:stretch/>
        </p:blipFill>
        <p:spPr>
          <a:xfrm>
            <a:off x="1676520" y="2133720"/>
            <a:ext cx="1939680" cy="2438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STewart, Martha - Going to prison"/>
          <p:cNvPicPr/>
          <p:nvPr/>
        </p:nvPicPr>
        <p:blipFill>
          <a:blip r:embed="rId2"/>
          <a:stretch/>
        </p:blipFill>
        <p:spPr>
          <a:xfrm>
            <a:off x="4724280" y="2286000"/>
            <a:ext cx="2457720" cy="183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Comedy: “Lysistrata” by Aristophan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9" name="Picture 3" descr="Greeks -- Lysistrata, Rock opera poster"/>
          <p:cNvPicPr/>
          <p:nvPr/>
        </p:nvPicPr>
        <p:blipFill>
          <a:blip r:embed="rId1"/>
          <a:stretch/>
        </p:blipFill>
        <p:spPr>
          <a:xfrm>
            <a:off x="2743200" y="2133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Greeks -- Lysistrata, photo from broadway play"/>
          <p:cNvPicPr/>
          <p:nvPr/>
        </p:nvPicPr>
        <p:blipFill>
          <a:blip r:embed="rId2"/>
          <a:stretch/>
        </p:blipFill>
        <p:spPr>
          <a:xfrm>
            <a:off x="304920" y="3429000"/>
            <a:ext cx="2571480" cy="2940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Greeks -- Peloponnesian war poster"/>
          <p:cNvPicPr/>
          <p:nvPr/>
        </p:nvPicPr>
        <p:blipFill>
          <a:blip r:embed="rId3"/>
          <a:stretch/>
        </p:blipFill>
        <p:spPr>
          <a:xfrm>
            <a:off x="5181480" y="2133720"/>
            <a:ext cx="312588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6:08:33Z</dcterms:created>
  <dc:creator>faculty</dc:creator>
  <dc:description/>
  <dc:language>en-US</dc:language>
  <cp:lastModifiedBy>Robert Harrison</cp:lastModifiedBy>
  <cp:lastPrinted>2009-04-22T19:24:48Z</cp:lastPrinted>
  <dcterms:modified xsi:type="dcterms:W3CDTF">2010-09-16T17:11:06Z</dcterms:modified>
  <cp:revision>61</cp:revision>
  <dc:subject/>
  <dc:title>    Greek Art and Architecture</dc:title>
</cp:coreProperties>
</file>