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B52-03DF-4B48-AB8A-F9CE4420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A89-6E1C-43D2-B6FF-880A7CAE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A89-BCBD-407A-A6B2-D8514756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652-12F5-40B0-A268-24B9A76C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0A0C-ECF4-4B12-A251-A9534E6C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0E23-7584-46DA-8635-E92CC318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4A76-EE05-4D17-893A-6E5360C7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F6E5-4820-4A39-B08E-97A2DD9B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CECC-7BFA-46F1-BD0F-32B9221B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220A-5900-4631-9296-EC200AB7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07C9-887E-4C28-BFD1-71E76A73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6286-177A-40AF-8607-989C4E63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5149-36D2-4932-BAEC-53DBEA61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B6D1-527E-44E7-A2F5-4EB3002A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FA0D-1E34-4092-8005-19F5608E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1A30-3094-472B-B131-65E03F33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F729-0240-405E-B222-8EF3C0CC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4A6-F1B6-47D8-84AD-D3E4DE6D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617-8916-4875-98C9-3352AF0C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78D7-7FEE-4A3E-A255-72D165A0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F46-D4E8-4827-9F4E-24678369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919-329E-4D36-880F-476B6E99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450-3EA0-44D1-A5E3-A534A9C9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177-3CD3-460E-81DC-29261B30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0206-FBF5-4169-88B7-A34E0F7349B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3F46-3C1E-4058-B74D-043DA35A89C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19555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124080" y="2971800"/>
            <a:ext cx="3600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irst Emperor of Ch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908000" cy="2895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" y="426708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Shuang-d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21-210 B.C.E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eg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2743200" cy="19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092320" cy="3124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17120" y="33526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exander the Gre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36-323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9800" y="4724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49-44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41000" y="56386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achiavelli: </a:t>
            </a: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Prince (1513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2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in and Lincol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973520" cy="246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0640" y="4800600"/>
            <a:ext cx="67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 – Both Qin and Lincoln were subject to very differen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istorical points of view, with Qin being condemned fo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enturies by scholars trained in Confucian ethics, and wi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incoln being condemned by a post-war Southern histori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as cruel tyra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6840" y="1600200"/>
            <a:ext cx="535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 – Both Qin and Lincoln unified their n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rough war and tremendous bloodshed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Both earning the title of tyrant during their liv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6120" y="28954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 – Both Qin and Lincoln violated establish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ocial values in pursuit of greater political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conomic, and social goa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3543480" cy="3298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1730520" cy="2685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715000" y="3886200"/>
            <a:ext cx="198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1974:  First pit discovered, 689 feet long and 197 feet wide, containing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over 6,000 clay soldiers, Horses, chariots, in trenches from 14 to 2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Feet deep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5334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9080" cy="646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230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35360" y="3846600"/>
            <a:ext cx="34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74:  Pit #2 discovered, with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,400 warriors, horses, and 6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ariots, 64,000 square fe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4520" y="48769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80:  Pit #3, much smaller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Discovered, with 1 chariot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6 warriors, and weap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0560" y="59436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mb mound of Qin himsel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t yet excavat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hina during Warring States perio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22600" cy="4496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164920" y="15350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480-221 B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25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Victory of Qin  Shi-huangdi -- 221 BC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334120" cy="3776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9920" y="529416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f the whole world has suffered from unceasing warfare, this 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e fault of feudal lords and kings.  Thanks to my ancestors, t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mpire has been pacified for the first time.”  -- Q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6120" y="158436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hi: First dynas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79800" y="2346480"/>
            <a:ext cx="206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Huang: Thre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gendary rulers a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awn of Chi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46400" y="3897360"/>
            <a:ext cx="20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i:  5 legendary king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Who followed th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huang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hievements of Qin Shuang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960" y="1243080"/>
            <a:ext cx="69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– Unification of China through defeat or rival armies and dismantlin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aristocratic system of control by feudal lord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20" y="2004840"/>
            <a:ext cx="66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– Creation of districts to replace feudal kingdoms, each with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Political leader and a military leader (with political leader in control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2640" y="2843280"/>
            <a:ext cx="611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– Protection of new unified China through completion of th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eat Wall”, 1500 miles long and linking previous wall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3295800" cy="220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60240" y="3581280"/>
            <a:ext cx="431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– Standardization of language, currency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ismantling barriers between district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nd uniformity of road and axle width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1840" y="4672080"/>
            <a:ext cx="34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– Creation of vast road an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Canal network to speed economi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49680" y="592776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– Ordered construction of one of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World’s most magnificent tomb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ocities of Qin Shuangi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60" y="1166760"/>
            <a:ext cx="67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- High taxes and forced labor from millions of peasants, man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whom died building Great Wall, roads, canals, and other projec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360" y="2743200"/>
            <a:ext cx="653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- Hostility to Confucian thought and historical writing, leading 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estruction of all literature not sanctioned by Qin, an inestimab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oss of knowledg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9160" y="379404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- Burial and execution of 460 Confucian schola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081160" cy="2438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6360" y="4327560"/>
            <a:ext cx="45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- Arbitrary and cruel executions of official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uch as generals beheaded for arriving 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o meeting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26120" y="5510160"/>
            <a:ext cx="47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- Spread of a climate of fear and terror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ading to revolt and fall of Qin’s new kingdo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on after his dea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1560" y="188928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- Extreme hardship on peasants left on the land, with much of their crop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aken in taxes and so many others taken awa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39:44Z</dcterms:created>
  <dc:creator>harrisr</dc:creator>
  <dc:description/>
  <dc:language>en-US</dc:language>
  <cp:lastModifiedBy>Staff</cp:lastModifiedBy>
  <dcterms:modified xsi:type="dcterms:W3CDTF">2008-04-21T20:40:44Z</dcterms:modified>
  <cp:revision>9</cp:revision>
  <dc:subject/>
  <dc:title>Slide 1</dc:title>
</cp:coreProperties>
</file>