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32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.png" ContentType="image/png"/>
  <Override PartName="/ppt/media/image43.jpeg" ContentType="image/jpeg"/>
  <Override PartName="/ppt/media/image42.jpeg" ContentType="image/jpeg"/>
  <Override PartName="/ppt/media/image1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038-4651-4BF6-B6A9-61F809F4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404B-8E2F-44C9-B03B-2A6AAA69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F0C4-988A-491D-BBF4-3E83AB0C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F116-1AF8-4CCE-AAAC-3BC5F143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8B2E-4126-4EF7-81C5-6261564E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33F4-7A45-4348-9FAE-8C64EE4F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D589-5530-409F-BE34-30AE641D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BE89-6F1C-49E3-9341-A3444799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EB37-9BE8-4D88-B1A6-29882E18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1D44-C8AC-405D-AE7E-5747631E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5D1F-7C8D-4B37-AF62-D6575528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E64-BF03-49ED-AE83-A49D1472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772C-0882-4B80-95B2-2B374881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0B02-9D15-4C65-8303-B1A7DF25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967F-F0BC-4FF7-9B1B-B44423D8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457E-0D9C-48A2-B9C6-1623C4A7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7EBF-76B7-447C-9AEA-83AC49CE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12EF-173B-4BB6-9435-39155D02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EBCB-11C0-4C2C-9292-0BBB2159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A7B8-F9C2-4689-AE45-77A7BDAA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AD37-D138-4F0D-9209-485F5DA8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891-51B2-4106-9ED3-DE7312FA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17F2-3D1A-4DB1-A3A1-BE97DFD6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F42-53D4-4333-A14C-7B500D8A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AC09-334B-4AEA-831F-672B115F585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F34D-D528-4BF5-8FD0-5D575FD908A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Greeks - Crete tourist map"/>
          <p:cNvPicPr/>
          <p:nvPr/>
        </p:nvPicPr>
        <p:blipFill>
          <a:blip r:embed="rId1"/>
          <a:stretch/>
        </p:blipFill>
        <p:spPr>
          <a:xfrm>
            <a:off x="533520" y="838080"/>
            <a:ext cx="4429080" cy="259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Greeks - Minotaur"/>
          <p:cNvPicPr/>
          <p:nvPr/>
        </p:nvPicPr>
        <p:blipFill>
          <a:blip r:embed="rId2"/>
          <a:stretch/>
        </p:blipFill>
        <p:spPr>
          <a:xfrm>
            <a:off x="6095880" y="762120"/>
            <a:ext cx="10540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Greeks - Daedalus and Icarus"/>
          <p:cNvPicPr/>
          <p:nvPr/>
        </p:nvPicPr>
        <p:blipFill>
          <a:blip r:embed="rId3"/>
          <a:stretch/>
        </p:blipFill>
        <p:spPr>
          <a:xfrm>
            <a:off x="5791320" y="3657600"/>
            <a:ext cx="2176200" cy="256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Minoans - Theseus slaying Minotaur on vase"/>
          <p:cNvPicPr/>
          <p:nvPr/>
        </p:nvPicPr>
        <p:blipFill>
          <a:blip r:embed="rId4"/>
          <a:stretch/>
        </p:blipFill>
        <p:spPr>
          <a:xfrm>
            <a:off x="1676520" y="3886200"/>
            <a:ext cx="2474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Rise of the Mycenaeans, 1400-1200 BC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2" name="Picture 4" descr="Greeks - Mycenaean cities"/>
          <p:cNvPicPr/>
          <p:nvPr/>
        </p:nvPicPr>
        <p:blipFill>
          <a:blip r:embed="rId1"/>
          <a:stretch/>
        </p:blipFill>
        <p:spPr>
          <a:xfrm>
            <a:off x="457200" y="1676520"/>
            <a:ext cx="3586320" cy="2793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Greeks - Mycenaeans fighting"/>
          <p:cNvPicPr/>
          <p:nvPr/>
        </p:nvPicPr>
        <p:blipFill>
          <a:blip r:embed="rId2"/>
          <a:stretch/>
        </p:blipFill>
        <p:spPr>
          <a:xfrm>
            <a:off x="1905120" y="4495680"/>
            <a:ext cx="6172200" cy="2129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Greeks - Mycenaeans daggers"/>
          <p:cNvPicPr/>
          <p:nvPr/>
        </p:nvPicPr>
        <p:blipFill>
          <a:blip r:embed="rId3"/>
          <a:stretch/>
        </p:blipFill>
        <p:spPr>
          <a:xfrm>
            <a:off x="4495680" y="1676520"/>
            <a:ext cx="36259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Trojan War: Achilles’ Ang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6" name="Picture 4" descr="Greeks - Achilles by Brad Pitt"/>
          <p:cNvPicPr/>
          <p:nvPr/>
        </p:nvPicPr>
        <p:blipFill>
          <a:blip r:embed="rId1"/>
          <a:stretch/>
        </p:blipFill>
        <p:spPr>
          <a:xfrm>
            <a:off x="990720" y="4038480"/>
            <a:ext cx="162864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Greeks - Burning of Troy"/>
          <p:cNvPicPr/>
          <p:nvPr/>
        </p:nvPicPr>
        <p:blipFill>
          <a:blip r:embed="rId2"/>
          <a:stretch/>
        </p:blipFill>
        <p:spPr>
          <a:xfrm>
            <a:off x="4648320" y="1523880"/>
            <a:ext cx="3200400" cy="243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reeks - Wooden horse in Troy"/>
          <p:cNvPicPr/>
          <p:nvPr/>
        </p:nvPicPr>
        <p:blipFill>
          <a:blip r:embed="rId3"/>
          <a:stretch/>
        </p:blipFill>
        <p:spPr>
          <a:xfrm>
            <a:off x="838080" y="1600200"/>
            <a:ext cx="3289320" cy="24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Greeks - Achilles fighting Hector"/>
          <p:cNvPicPr/>
          <p:nvPr/>
        </p:nvPicPr>
        <p:blipFill>
          <a:blip r:embed="rId4"/>
          <a:stretch/>
        </p:blipFill>
        <p:spPr>
          <a:xfrm>
            <a:off x="5943600" y="4267080"/>
            <a:ext cx="2838600" cy="2162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Greeks - Achilles and dead Patroclus"/>
          <p:cNvPicPr/>
          <p:nvPr/>
        </p:nvPicPr>
        <p:blipFill>
          <a:blip r:embed="rId5"/>
          <a:stretch/>
        </p:blipFill>
        <p:spPr>
          <a:xfrm>
            <a:off x="3429000" y="4038480"/>
            <a:ext cx="1825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 a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04800" y="144792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1: Glory in battle – Achilles, Patroclus, and Hecto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56720" y="205740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2:  Respect for fallen enemies – Priam’s plea to Achil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767520" y="266688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3 – Great emotion – tears fall freely and anger is aroused easil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Picture 8" descr="Greeks - Priam pleads to Achilles"/>
          <p:cNvPicPr/>
          <p:nvPr/>
        </p:nvPicPr>
        <p:blipFill>
          <a:blip r:embed="rId1"/>
          <a:stretch/>
        </p:blipFill>
        <p:spPr>
          <a:xfrm>
            <a:off x="4572000" y="4114800"/>
            <a:ext cx="4062240" cy="242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Greeks - Achilles cries over cropse"/>
          <p:cNvPicPr/>
          <p:nvPr/>
        </p:nvPicPr>
        <p:blipFill>
          <a:blip r:embed="rId2"/>
          <a:stretch/>
        </p:blipFill>
        <p:spPr>
          <a:xfrm>
            <a:off x="457200" y="42670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749880" y="3338640"/>
            <a:ext cx="553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4 – Primacy of nobles over commoners and men over wome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: Beyo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1720" y="1371600"/>
            <a:ext cx="766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 – Struggle between personal/family and the wider community: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) Agamemnon sacrifices Ipghegenia before the Trojan War bega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B) Achilles’ anger pushes Greeks to the point of defea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0720" y="2971800"/>
            <a:ext cx="66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 – Recognition of the terrible price of war and the need for peace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ctor with his wife Andromache and their s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1" name="Picture 6" descr="Greeks - Iphigenia sacrificed"/>
          <p:cNvPicPr/>
          <p:nvPr/>
        </p:nvPicPr>
        <p:blipFill>
          <a:blip r:embed="rId1"/>
          <a:stretch/>
        </p:blipFill>
        <p:spPr>
          <a:xfrm>
            <a:off x="0" y="4495680"/>
            <a:ext cx="3098880" cy="2057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Greeks - Hector from Troy movie"/>
          <p:cNvPicPr/>
          <p:nvPr/>
        </p:nvPicPr>
        <p:blipFill>
          <a:blip r:embed="rId2"/>
          <a:stretch/>
        </p:blipFill>
        <p:spPr>
          <a:xfrm>
            <a:off x="3505320" y="4419720"/>
            <a:ext cx="2247840" cy="2109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Greeks - Hector with Andromache and son"/>
          <p:cNvPicPr/>
          <p:nvPr/>
        </p:nvPicPr>
        <p:blipFill>
          <a:blip r:embed="rId3"/>
          <a:stretch/>
        </p:blipFill>
        <p:spPr>
          <a:xfrm>
            <a:off x="5943600" y="4419720"/>
            <a:ext cx="32004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roy: From Myth to Hist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5" name="Picture 4" descr="Greeks - Troy, ruins of in aerial photo"/>
          <p:cNvPicPr/>
          <p:nvPr/>
        </p:nvPicPr>
        <p:blipFill>
          <a:blip r:embed="rId1"/>
          <a:stretch/>
        </p:blipFill>
        <p:spPr>
          <a:xfrm>
            <a:off x="3657600" y="1600200"/>
            <a:ext cx="3654360" cy="2387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reeks - Schliemann, Heinrich"/>
          <p:cNvPicPr/>
          <p:nvPr/>
        </p:nvPicPr>
        <p:blipFill>
          <a:blip r:embed="rId2"/>
          <a:stretch/>
        </p:blipFill>
        <p:spPr>
          <a:xfrm>
            <a:off x="533520" y="1828800"/>
            <a:ext cx="2041560" cy="3390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289440" y="544824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inrich Schlieman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8" name="Picture 7" descr="Greeks - Troy, ruins of"/>
          <p:cNvPicPr/>
          <p:nvPr/>
        </p:nvPicPr>
        <p:blipFill>
          <a:blip r:embed="rId3"/>
          <a:stretch/>
        </p:blipFill>
        <p:spPr>
          <a:xfrm>
            <a:off x="3733920" y="4191120"/>
            <a:ext cx="363204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he Trojan War:  Origins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0" name="Picture 4" descr="Greeks - Judgement of Paris"/>
          <p:cNvPicPr/>
          <p:nvPr/>
        </p:nvPicPr>
        <p:blipFill>
          <a:blip r:embed="rId1"/>
          <a:stretch/>
        </p:blipFill>
        <p:spPr>
          <a:xfrm>
            <a:off x="380880" y="1981080"/>
            <a:ext cx="2971800" cy="2301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Greeks - Helen of Troy"/>
          <p:cNvPicPr/>
          <p:nvPr/>
        </p:nvPicPr>
        <p:blipFill>
          <a:blip r:embed="rId2"/>
          <a:stretch/>
        </p:blipFill>
        <p:spPr>
          <a:xfrm>
            <a:off x="6248520" y="2057400"/>
            <a:ext cx="2257200" cy="2190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Greeks - World of the Odyssey map"/>
          <p:cNvPicPr/>
          <p:nvPr/>
        </p:nvPicPr>
        <p:blipFill>
          <a:blip r:embed="rId3"/>
          <a:stretch/>
        </p:blipFill>
        <p:spPr>
          <a:xfrm>
            <a:off x="2895480" y="3048120"/>
            <a:ext cx="33912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4" name="Picture 3" descr="Greeks -- Odssey, map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Greeks -- Wooden horse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Greeks -- The Cyclops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Greeks -- Scylla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Geography and Greec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6" name="Picture 4" descr="Ancient Near East trade routes map"/>
          <p:cNvPicPr/>
          <p:nvPr/>
        </p:nvPicPr>
        <p:blipFill>
          <a:blip r:embed="rId1"/>
          <a:stretch/>
        </p:blipFill>
        <p:spPr>
          <a:xfrm>
            <a:off x="5138640" y="1905120"/>
            <a:ext cx="4005360" cy="4138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79080" y="495000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No great rivers or fertile areas,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Creating small independent city-stat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Picture 6" descr="Greek world, map"/>
          <p:cNvPicPr/>
          <p:nvPr/>
        </p:nvPicPr>
        <p:blipFill>
          <a:blip r:embed="rId2"/>
          <a:stretch/>
        </p:blipFill>
        <p:spPr>
          <a:xfrm>
            <a:off x="380880" y="2133720"/>
            <a:ext cx="4419720" cy="2627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456120" y="579132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Far enough from old empires to breath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51440" y="632448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Trade and commerce kept the Greeks in contact with old and new ide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Minoan Civilization: A New Approach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Picture 4" descr="Minoans -- Knossos ruins"/>
          <p:cNvPicPr/>
          <p:nvPr/>
        </p:nvPicPr>
        <p:blipFill>
          <a:blip r:embed="rId1"/>
          <a:stretch/>
        </p:blipFill>
        <p:spPr>
          <a:xfrm>
            <a:off x="4876920" y="4267080"/>
            <a:ext cx="3902040" cy="241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inoans -- Knossus in painting"/>
          <p:cNvPicPr/>
          <p:nvPr/>
        </p:nvPicPr>
        <p:blipFill>
          <a:blip r:embed="rId2"/>
          <a:stretch/>
        </p:blipFill>
        <p:spPr>
          <a:xfrm>
            <a:off x="228600" y="1905120"/>
            <a:ext cx="4572000" cy="3427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26080" y="5305320"/>
            <a:ext cx="450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alace of Knossos, discovered b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ir Arthur Evans in 1900.  Minoa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ivilization was at its height about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400 B.C.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Picture 7" descr="Minoans - Throne room of Knossos"/>
          <p:cNvPicPr/>
          <p:nvPr/>
        </p:nvPicPr>
        <p:blipFill>
          <a:blip r:embed="rId3"/>
          <a:stretch/>
        </p:blipFill>
        <p:spPr>
          <a:xfrm>
            <a:off x="4952880" y="1676520"/>
            <a:ext cx="37846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7" name="Picture 4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Minoan Life: Colorful and Progressiv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1" name="Picture 3" descr="Minoans -- Woman in wall painting"/>
          <p:cNvPicPr/>
          <p:nvPr/>
        </p:nvPicPr>
        <p:blipFill>
          <a:blip r:embed="rId1"/>
          <a:stretch/>
        </p:blipFill>
        <p:spPr>
          <a:xfrm>
            <a:off x="152280" y="2057400"/>
            <a:ext cx="2692440" cy="304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Minoans -- Minoan man in wall painting"/>
          <p:cNvPicPr/>
          <p:nvPr/>
        </p:nvPicPr>
        <p:blipFill>
          <a:blip r:embed="rId2"/>
          <a:stretch/>
        </p:blipFill>
        <p:spPr>
          <a:xfrm>
            <a:off x="6818400" y="2057400"/>
            <a:ext cx="2325600" cy="391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Minoans - Dolphins in frescoe"/>
          <p:cNvPicPr/>
          <p:nvPr/>
        </p:nvPicPr>
        <p:blipFill>
          <a:blip r:embed="rId3"/>
          <a:stretch/>
        </p:blipFill>
        <p:spPr>
          <a:xfrm>
            <a:off x="2971800" y="2057400"/>
            <a:ext cx="32781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Relig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-5040" y="5181480"/>
            <a:ext cx="87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ncient faience was made by grinding quartz or sand crystals and mixing them with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arious levels of sodium, potassium, calcium, magnesium, and/or copper oxide. This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mixture was formed into shapes such as beads or amulets, and then the shapes were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exposed to heat. During heating, the formed shapes created their own glazes, essentially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 thin hard layer of various bright colors,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5" descr="Minoans - Snake goddess"/>
          <p:cNvPicPr/>
          <p:nvPr/>
        </p:nvPicPr>
        <p:blipFill>
          <a:blip r:embed="rId1"/>
          <a:stretch/>
        </p:blipFill>
        <p:spPr>
          <a:xfrm>
            <a:off x="762120" y="1676520"/>
            <a:ext cx="1768320" cy="290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inoans - Bull jumping fresco in color"/>
          <p:cNvPicPr/>
          <p:nvPr/>
        </p:nvPicPr>
        <p:blipFill>
          <a:blip r:embed="rId2"/>
          <a:stretch/>
        </p:blipFill>
        <p:spPr>
          <a:xfrm>
            <a:off x="3276720" y="1600200"/>
            <a:ext cx="4892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Picture 3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Decline, 1400-1200 B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3" name="Picture 4" descr="Minoans - Thera or Santorini"/>
          <p:cNvPicPr/>
          <p:nvPr/>
        </p:nvPicPr>
        <p:blipFill>
          <a:blip r:embed="rId1"/>
          <a:stretch/>
        </p:blipFill>
        <p:spPr>
          <a:xfrm>
            <a:off x="685800" y="2209680"/>
            <a:ext cx="3632040" cy="340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inoans - Atlantis legend"/>
          <p:cNvPicPr/>
          <p:nvPr/>
        </p:nvPicPr>
        <p:blipFill>
          <a:blip r:embed="rId2"/>
          <a:stretch/>
        </p:blipFill>
        <p:spPr>
          <a:xfrm>
            <a:off x="4800600" y="2057400"/>
            <a:ext cx="3706920" cy="3860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64320" y="582948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olcanic explosion on Thera, 1628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liad: The Trojan Wa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7" name="Picture 4" descr="Greeks - Trojan War map"/>
          <p:cNvPicPr/>
          <p:nvPr/>
        </p:nvPicPr>
        <p:blipFill>
          <a:blip r:embed="rId1"/>
          <a:stretch/>
        </p:blipFill>
        <p:spPr>
          <a:xfrm>
            <a:off x="4495680" y="1828800"/>
            <a:ext cx="3934080" cy="390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Greeks - Army at Troy"/>
          <p:cNvPicPr/>
          <p:nvPr/>
        </p:nvPicPr>
        <p:blipFill>
          <a:blip r:embed="rId2"/>
          <a:stretch/>
        </p:blipFill>
        <p:spPr>
          <a:xfrm>
            <a:off x="838080" y="4495680"/>
            <a:ext cx="3070440" cy="202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Greeks - Homer statue"/>
          <p:cNvPicPr/>
          <p:nvPr/>
        </p:nvPicPr>
        <p:blipFill>
          <a:blip r:embed="rId3"/>
          <a:stretch/>
        </p:blipFill>
        <p:spPr>
          <a:xfrm>
            <a:off x="1600200" y="1752480"/>
            <a:ext cx="1671480" cy="2057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973800" y="38480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omer, c. 850-750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Callie Palmer</cp:lastModifiedBy>
  <cp:lastPrinted>2009-04-22T19:24:48Z</cp:lastPrinted>
  <dcterms:modified xsi:type="dcterms:W3CDTF">2008-11-26T03:09:38Z</dcterms:modified>
  <cp:revision>54</cp:revision>
  <dc:subject/>
  <dc:title>    Greek Art and Architecture</dc:title>
</cp:coreProperties>
</file>