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applause.wav" ContentType="audio/x-wav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4842-8C37-4A6E-A173-3F5C6FB8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CA3D-3720-4726-BD84-40CCCAAA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21E5-E077-4E5D-B537-F5E673D3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8D43-06FA-445E-91D7-5D8F4926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B467-D0AE-4704-B1DF-81A2AA40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105D-0704-4ED0-A96E-BB3BE75A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3F3F-75F0-49DE-BA17-A73B66E9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6959-1CB7-4B26-931A-DD8069C8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0BF7-25C1-4E30-A67A-B327DC9A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784D-65E2-4CD2-80A5-4A60808E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CDF4-AD12-4A2D-A1FD-4DB0EC89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8CA6-3283-45A1-8259-562EA352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BED1-74B2-4B55-9642-1894D638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84B1-53E3-4B65-9CFD-560A7862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DC87-29B2-4A00-BE3D-2BD510D6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155B-C923-414F-9E90-C47E20AD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44E8-8C18-4AF9-AB5C-85FD4A4F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9EA-7172-4A96-9E27-B53EFD4B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0FF0-AB0E-4DFF-9F5E-C6151D34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978-2094-48A1-AC98-E103877D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CD0-6F1A-4224-BEE9-91857998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1D3-4E7C-408E-84DA-09C6375C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BF21-0AF6-4FF9-996D-C76246B9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FD1F-DF22-4567-88A1-FF9A7742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A62D-26EF-453D-A530-36ED18630E45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4CC3-3CD7-44F9-8126-C2699B7601D5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809720" cy="2209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3657600" cy="2048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1955520" cy="2539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124080" y="2971800"/>
            <a:ext cx="36007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First Emperor of Chi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1908000" cy="2895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40" y="4267080"/>
            <a:ext cx="175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Shuang-d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21-210 B.C.E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egalis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2743200" cy="1922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638680" y="1447920"/>
            <a:ext cx="2092320" cy="3124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17120" y="335268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lexander the Grea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36-323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9800" y="47242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Julius Caesa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49-44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438280" y="4343400"/>
            <a:ext cx="1506600" cy="2286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041000" y="56386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achiavelli: </a:t>
            </a:r>
            <a:r>
              <a:rPr b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The Prince (1513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Qin and Lincol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1973520" cy="2467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0640" y="4800600"/>
            <a:ext cx="678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 – Both Qin and Lincoln were subject to very different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Historical points of view, with Qin being condemned for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enturies by scholars trained in Confucian ethics, and wit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incoln being condemned by a post-war Southern histori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as cruel tyra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6840" y="1600200"/>
            <a:ext cx="535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 – Both Qin and Lincoln unified their nati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rough war and tremendous bloodshed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Both earning the title of tyrant during their liv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36120" y="2895480"/>
            <a:ext cx="51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 – Both Qin and Lincoln violated establish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ocial values in pursuit of greater political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conomic, and social goal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3543480" cy="3298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1730520" cy="2685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715000" y="3886200"/>
            <a:ext cx="198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1974:  First pit discovered, 689 feet long and 197 feet wide, containing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over 6,000 clay soldiers, Horses, chariots, in trenches from 14 to 21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Feet deep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533412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9080" cy="6467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114800" cy="3230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35360" y="3846600"/>
            <a:ext cx="34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74:  Pit #2 discovered, with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,400 warriors, horses, and 6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hariots, 64,000 square fee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4520" y="4876920"/>
            <a:ext cx="316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80:  Pit #3, much smaller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Discovered, with 1 chariot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6 warriors, and weap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0560" y="59436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omb mound of Qin himsel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ot yet excavat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hina during Warring States perio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22600" cy="4496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164920" y="15350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480-221 B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2514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Victory of Qin  Shi-huangdi -- 221 BCE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5334120" cy="3776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9920" y="5294160"/>
            <a:ext cx="71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If the whole world has suffered from unceasing warfare, this i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e fault of feudal lords and kings.  Thanks to my ancestors, t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mpire has been pacified for the first time.”  -- Qin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56120" y="1584360"/>
            <a:ext cx="18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hi: First dynast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79800" y="2346480"/>
            <a:ext cx="206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Huang: Thre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gendary rulers a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awn of Chin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46400" y="3897360"/>
            <a:ext cx="202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Di:  5 legendary king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Who followed the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huang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chievements of Qin Shuang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8960" y="1243080"/>
            <a:ext cx="695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– Unification of China through defeat or rival armies and dismantling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aristocratic system of control by feudal lord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0120" y="2004840"/>
            <a:ext cx="667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– Creation of districts to replace feudal kingdoms, each with 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Political leader and a military leader (with political leader in control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2640" y="2843280"/>
            <a:ext cx="611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– Protection of new unified China through completion of th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eat Wall”, 1500 miles long and linking previous wall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3295800" cy="2205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360240" y="3581280"/>
            <a:ext cx="431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– Standardization of language, currency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ismantling barriers between district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And uniformity of road and axle width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41840" y="4672080"/>
            <a:ext cx="34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– Creation of vast road and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Canal network to speed economic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ow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49680" y="5927760"/>
            <a:ext cx="34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– Ordered construction of one of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World’s most magnificent tomb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trocities of Qin Shuangi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60" y="1166760"/>
            <a:ext cx="670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- High taxes and forced labor from millions of peasants, man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whom died building Great Wall, roads, canals, and other project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360" y="2743200"/>
            <a:ext cx="653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- Hostility to Confucian thought and historical writing, leading t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estruction of all literature not sanctioned by Qin, an inestimabl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oss of knowledg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9160" y="3794040"/>
            <a:ext cx="50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- Burial and execution of 460 Confucian scholar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2081160" cy="2438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736360" y="4327560"/>
            <a:ext cx="45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- Arbitrary and cruel executions of official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uch as generals beheaded for arriving lat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o meeting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26120" y="5510160"/>
            <a:ext cx="473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- Spread of a climate of fear and terror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ading to revolt and fall of Qin’s new kingdom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oon after his dea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1560" y="1889280"/>
            <a:ext cx="73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- Extreme hardship on peasants left on the land, with much of their crop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aken in taxes and so many others taken awa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4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77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770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39:44Z</dcterms:created>
  <dc:creator>harrisr</dc:creator>
  <dc:description/>
  <dc:language>en-US</dc:language>
  <cp:lastModifiedBy>Staff</cp:lastModifiedBy>
  <dcterms:modified xsi:type="dcterms:W3CDTF">2008-04-21T20:40:44Z</dcterms:modified>
  <cp:revision>9</cp:revision>
  <dc:subject/>
  <dc:title>Slide 1</dc:title>
</cp:coreProperties>
</file>