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D7454-C75C-4F8E-A9EA-778A5ED4F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5B9C7-01D6-4243-98C6-C9D5874C2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DC975-75D3-49E1-8A28-96CD2E44A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3EE4-1858-4C01-844B-B6FE43DA0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09F64-6335-43A6-BBFE-8B3CFFF6A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542B-D3B7-4426-9D30-66D0B5DC1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048B4-9716-4B4E-8C30-50B12C038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EDBA5-3401-445E-847A-6CB3A1EB7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7082D-CDFF-46CA-8E98-806505F02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C9FB4-B7EF-45E7-83C4-57651F179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83CA5-7D13-4F1B-8961-B8D5775F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78B4-6FC2-431B-A418-7A6225F77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46768-E0BD-4AB6-AA5C-659A84B53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F360-7BDA-49D0-9788-95AABC94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4761C-15D4-4521-9545-ABC2309DD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FA635-3D00-41C2-B5FA-30315E12A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67041-E4D1-4239-8FD6-62A5E1B9C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8F17D-5540-48B2-91BF-7B6F144CD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743CE-ABF1-4046-B784-6E02E0AC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18137-F5E0-4D0D-ABE7-A07BBB1C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FD56-134A-4B52-949B-BA2F99F28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93CFB-66DF-434A-88B5-0A0D17E0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EFB7-BF8A-49DB-A11B-3014A7DC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460E-1A57-4C23-B1B1-D5D55B898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80CC-4C7B-43AB-B8A6-09125A42841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5971-1536-4AB8-B45A-6BE65A579143}"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10" dur="1000" fill="hold"/>
                                        <p:tgtEl>
                                          <p:spTgt spid="11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repl">
                                        <p:cTn id="19" dur="15000" fill="hold"/>
                                        <p:tgtEl>
                                          <p:spTgt spid="118"/>
                                        </p:tgtEl>
                                        <p:attrNameLst>
                                          <p:attrName>ppt_x</p:attrName>
                                        </p:attrNameLst>
                                      </p:cBhvr>
                                      <p:tavLst>
                                        <p:tav tm="0">
                                          <p:val>
                                            <p:strVal val="#ppt_x"/>
                                          </p:val>
                                        </p:tav>
                                        <p:tav tm="100000">
                                          <p:val>
                                            <p:strVal val="#ppt_x"/>
                                          </p:val>
                                        </p:tav>
                                      </p:tavLst>
                                    </p:anim>
                                    <p:anim calcmode="lin" valueType="num">
                                      <p:cBhvr additive="repl">
                                        <p:cTn id="20" dur="15000" fill="hold"/>
                                        <p:tgtEl>
                                          <p:spTgt spid="118"/>
                                        </p:tgtEl>
                                        <p:attrNameLst>
                                          <p:attrName>ppt_y</p:attrName>
                                        </p:attrNameLst>
                                      </p:cBhvr>
                                      <p:tavLst>
                                        <p:tav tm="0">
                                          <p:val>
                                            <p:strVal val="#ppt_y+1"/>
                                          </p:val>
                                        </p:tav>
                                        <p:tav tm="100000">
                                          <p:val>
                                            <p:strVal val="#ppt_y-1"/>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repl">
                                        <p:cTn id="25" dur="500" fill="hold"/>
                                        <p:tgtEl>
                                          <p:spTgt spid="119"/>
                                        </p:tgtEl>
                                        <p:attrNameLst>
                                          <p:attrName>ppt_w</p:attrName>
                                        </p:attrNameLst>
                                      </p:cBhvr>
                                      <p:tavLst>
                                        <p:tav tm="0">
                                          <p:val>
                                            <p:strVal val="0"/>
                                          </p:val>
                                        </p:tav>
                                        <p:tav tm="100000">
                                          <p:val>
                                            <p:strVal val="#ppt_w"/>
                                          </p:val>
                                        </p:tav>
                                      </p:tavLst>
                                    </p:anim>
                                    <p:anim calcmode="lin" valueType="num">
                                      <p:cBhvr additive="repl">
                                        <p:cTn id="26" dur="500" fill="hold"/>
                                        <p:tgtEl>
                                          <p:spTgt spid="119"/>
                                        </p:tgtEl>
                                        <p:attrNameLst>
                                          <p:attrName>ppt_h</p:attrName>
                                        </p:attrNameLst>
                                      </p:cBhvr>
                                      <p:tavLst>
                                        <p:tav tm="0">
                                          <p:val>
                                            <p:strVal val="0"/>
                                          </p:val>
                                        </p:tav>
                                        <p:tav tm="100000">
                                          <p:val>
                                            <p:strVal val="#ppt_h"/>
                                          </p:val>
                                        </p:tav>
                                      </p:tavLst>
                                    </p:anim>
                                    <p:animEffect filter="fade" transition="in">
                                      <p:cBhvr additive="repl">
                                        <p:cTn id="2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