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6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33E-AB94-430C-AFB3-00552DC7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72D6-FC4B-44D3-8C81-A65FAAF2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0604-DFD6-4F26-929D-F839888F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C787-4EAC-42AB-B237-E57C637E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4FEF-3D32-4224-9E5B-1C9D020E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A11C-FE79-4EDF-9C8E-D3BAE05F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2BE-A988-456D-AB8A-5B6835C6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87FA-B9D1-4C40-9EB1-08CF0BFA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FCDB-6362-4877-B4DC-D6CD3FF7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CE18-EB39-4CEF-965F-A767A729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3238-B74E-4A5C-AB2F-F287ADF1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5DFD-2CA7-4354-ADEA-DF4CBA16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F33F-F613-4892-9BED-A230A81BB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quotationspage.com/quote/23583.html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383000" cy="3230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52680" y="3733920"/>
            <a:ext cx="5604120" cy="2725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10200" y="762120"/>
            <a:ext cx="3771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en-US" sz="1800" spc="-1" strike="noStrike">
                <a:solidFill>
                  <a:srgbClr val="333333"/>
                </a:solidFill>
                <a:latin typeface="Verdana-Bold"/>
              </a:rPr>
              <a:t>Great cavities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gape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broken limbs, and insid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one can see stones of gre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size, which were used to we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the Colossus dow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--Roman Pliny the 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841480" cy="1952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6520" y="2514600"/>
            <a:ext cx="3057480" cy="2181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5029200" cy="1676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172200" y="0"/>
            <a:ext cx="2635200" cy="2092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962520" y="5105520"/>
            <a:ext cx="4114800" cy="1457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09480" y="4572000"/>
            <a:ext cx="2367000" cy="199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3124080" y="2133720"/>
            <a:ext cx="26226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828880" cy="2111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2349720" cy="286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94360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965920" y="2438280"/>
            <a:ext cx="3178080" cy="2117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935440" cy="2201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400800" y="4861080"/>
            <a:ext cx="2298600" cy="199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276720" y="3124080"/>
            <a:ext cx="2336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905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8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onder: Library at Alexa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11480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114800" cy="2579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7640" y="4537080"/>
            <a:ext cx="36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truction of Main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1560" y="4384800"/>
            <a:ext cx="408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atosthenes’ map of the wor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9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112680"/>
            <a:ext cx="762012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for “Ataraxi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000" y="1946160"/>
            <a:ext cx="86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Diogenes and the “Cynics”: Freedom from possessions and 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Stoics:  Acceptance of “fate” and freedom from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– Epicureans:  All things in moderation and freedom from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4038480"/>
            <a:ext cx="1811160" cy="243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9880" y="4495680"/>
            <a:ext cx="3581640" cy="129564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Most men are within a finger's breadth of being mad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07680" y="651816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genes the Cy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ellenistic World: 300-30 B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391520" cy="353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1527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even Wonders of the Ancient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72200" y="1143000"/>
            <a:ext cx="2590920" cy="1741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286000" cy="1704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2362320" cy="19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505320" y="3581280"/>
            <a:ext cx="2361960" cy="180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124080" y="1295280"/>
            <a:ext cx="2476800" cy="163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685800" y="449568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anging Gardens of Babyl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77520" y="1954080"/>
            <a:ext cx="3783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by King Nebuchadnez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of Babylon in about 60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 queen from Media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sed the lush trees and f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her lan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out 400 feet spare and 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t high, with irrigation ca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led with water from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phrates river, pull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n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564080" cy="260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2689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e of Zeus at Olym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47880" y="1600200"/>
            <a:ext cx="5269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ved for the temple at Olympia, G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the sculptor Phidias in about 4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 feet tall, made of ivory, with a cloak of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d to Constantinople but destroy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bout 4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emple of Artemis at Eph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762440" cy="35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0400" y="5195880"/>
            <a:ext cx="788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ed by architect Chersiphron and completed in about 5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noring the goddess Artemis (Diana), it was about 200 feet X 400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least 106 columns 40-60 feet high, in double rows, was fea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5400" y="1219320"/>
            <a:ext cx="337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fire in 356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built and burn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2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2060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lossus of Rh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095560" cy="3781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59080" y="1790640"/>
            <a:ext cx="507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in 282 BCE, but destroyed by an earthqu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6 year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bout 120 feet high, on large base, at the ent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the harbor of Rhodes, symbol of the island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 wealth an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2663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ghthouse of Pha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2360" y="1752480"/>
            <a:ext cx="337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in 280 BCE and la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over 1,500 years, but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an earthqu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he 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entury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46400" y="3429000"/>
            <a:ext cx="392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84 feet high, with three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tangular base with worker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ganel center with ramp to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cular top with fire and bro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es for illu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usoleum of Halicarnas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360" y="1752480"/>
            <a:ext cx="3974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about 350 BCE as a tomb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ng Mausolus of Halicarnassus by 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en Artemi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3440" y="3352680"/>
            <a:ext cx="420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0 feet high, with chariot on top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6 columns and statues around four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32120" y="476244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t by several earthquakes and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cept for its base by 1400 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6:09:48Z</dcterms:created>
  <dc:creator>user</dc:creator>
  <dc:description/>
  <dc:language>en-US</dc:language>
  <cp:lastModifiedBy>Callie Palmer</cp:lastModifiedBy>
  <cp:lastPrinted>2009-04-22T19:24:48Z</cp:lastPrinted>
  <dcterms:modified xsi:type="dcterms:W3CDTF">2008-11-19T04:30:02Z</dcterms:modified>
  <cp:revision>11</cp:revision>
  <dc:subject/>
  <dc:title>The Hellenistic World: 300-30 BCE</dc:title>
</cp:coreProperties>
</file>