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applause.wav" ContentType="audio/x-wav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7974-FF3F-403C-A2CE-E8433962F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B4C8-3CFD-4D9F-9A46-E579B7B3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867D-3AD3-41C2-9A56-2D406E744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5192-A1D7-40AF-A0D4-C1101683A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3981-E9E8-4242-BF2D-258F4132A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F86B-CB9E-4C70-AE88-40A616F9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138C-544E-44D2-83A3-B47AAEF5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1057-4609-418F-B7B0-38F88C2B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1284-C6B1-4BA9-87B0-DEDA1BAD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F25E-2529-44DC-A7DE-1F82D13E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C66D-BBCA-4E03-9100-2D601BE2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C3A0-4289-42CD-ABCF-1EDE4CE7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A943-A7B6-4270-9A5D-68D8D2CA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8C80-E5ED-4602-9F54-25EFF56D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6023-C49F-425E-99BA-6C7D54D5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D5C4-60B9-495A-A9D7-9C0F87E2B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F30E-F341-47F9-A6A9-BC97EBEC1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B0D0-D128-46B0-AA53-126D894C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629C-CF9E-40F2-B36C-26CE8388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4530-CAE6-42A6-BF20-73682A26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DA0D-7CEF-45BE-9ECE-6BC2D2A1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D151-42D0-4DFA-AA15-AC6ABA76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D7D4-93F9-447E-AC73-37744DD1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FBC4-8961-4848-BA9E-18B59295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B6DE-D648-47A8-8075-BDAE33BD4F6D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A6B5-4515-47CB-BFC5-1E8DBEA45547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1809720" cy="22096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124080" y="609480"/>
            <a:ext cx="3657600" cy="20480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33520" y="3276720"/>
            <a:ext cx="1955520" cy="2539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3124080" y="2971800"/>
            <a:ext cx="360072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e First Emperor of Chin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1908000" cy="2895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240" y="4267080"/>
            <a:ext cx="175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Qin Shuang-di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221-210 B.C.E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Legalism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666880" y="1295280"/>
            <a:ext cx="2743200" cy="19227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638680" y="1447920"/>
            <a:ext cx="2092320" cy="3124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517120" y="3352680"/>
            <a:ext cx="23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Alexander the Grea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336-323 B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9800" y="4724280"/>
            <a:ext cx="16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Julius Caesa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49-44 B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2438280" y="4343400"/>
            <a:ext cx="1506600" cy="2286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041000" y="5638680"/>
            <a:ext cx="34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Machiavelli: </a:t>
            </a:r>
            <a:r>
              <a:rPr b="1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The Prince (1513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Qin and Lincol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1973520" cy="24670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0640" y="4800600"/>
            <a:ext cx="6781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3 – Both Qin and Lincoln were subject to very different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Historical points of view, with Qin being condemned for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enturies by scholars trained in Confucian ethics, and with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Lincoln being condemned by a post-war Southern historia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Qin as cruel tyran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6840" y="1600200"/>
            <a:ext cx="535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 – Both Qin and Lincoln unified their natio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hrough war and tremendous bloodshed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Both earning the title of tyrant during their liv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36120" y="2895480"/>
            <a:ext cx="512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2 – Both Qin and Lincoln violated establishe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Social values in pursuit of greater political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Economic, and social goal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3543480" cy="32986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1730520" cy="26859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715000" y="3886200"/>
            <a:ext cx="1981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1974:  First pit discovered, 689 feet long and 197 feet wide, containing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over 6,000 clay soldiers, Horses, chariots, in trenches from 14 to 21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Feet deep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228600" y="3505320"/>
            <a:ext cx="533412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9080" cy="6467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572000" y="304920"/>
            <a:ext cx="4114800" cy="3230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635360" y="3846600"/>
            <a:ext cx="344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974:  Pit #2 discovered, with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,400 warriors, horses, and 64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hariots, 64,000 square fee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4520" y="4876920"/>
            <a:ext cx="316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980:  Pit #3, much smaller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Discovered, with 1 chariot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6 warriors, and weapo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0560" y="5943600"/>
            <a:ext cx="32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omb mound of Qin himself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Not yet excavate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China during Warring States period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22600" cy="44960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164920" y="1535040"/>
            <a:ext cx="17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480-221 BC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876920" y="2362320"/>
            <a:ext cx="25146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Victory of Qin  Shi-huangdi -- 221 BCE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5334120" cy="3776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39920" y="5294160"/>
            <a:ext cx="718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If the whole world has suffered from unceasing warfare, this i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he fault of feudal lords and kings.  Thanks to my ancestors, th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Empire has been pacified for the first time.”  -- Qin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56120" y="1584360"/>
            <a:ext cx="187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hi: First dynast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79800" y="2346480"/>
            <a:ext cx="206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Huang: Thre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egendary rulers at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awn of Chin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46400" y="3897360"/>
            <a:ext cx="2024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Di:  5 legendary kings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Who followed the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huang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9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chievements of Qin Shuang-d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8960" y="1243080"/>
            <a:ext cx="695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1 – Unification of China through defeat or rival armies and dismantling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Of aristocratic system of control by feudal lord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0120" y="2004840"/>
            <a:ext cx="667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2 – Creation of districts to replace feudal kingdoms, each with 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Political leader and a military leader (with political leader in control)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2640" y="2843280"/>
            <a:ext cx="611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3 – Protection of new unified China through completion of th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Great Wall”, 1500 miles long and linking previous wall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3581280"/>
            <a:ext cx="3295800" cy="2205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360240" y="3581280"/>
            <a:ext cx="431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4 – Standardization of language, currency,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ismantling barriers between districts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And uniformity of road and axle width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41840" y="4672080"/>
            <a:ext cx="345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5 – Creation of vast road and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Canal network to speed economic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growth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49680" y="5927760"/>
            <a:ext cx="349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6 – Ordered construction of one of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World’s most magnificent tomb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trocities of Qin Shuangi-d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960" y="1166760"/>
            <a:ext cx="6706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1 - High taxes and forced labor from millions of peasants, man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Of whom died building Great Wall, roads, canals, and other project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3360" y="2743200"/>
            <a:ext cx="653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3 - Hostility to Confucian thought and historical writing, leading to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estruction of all literature not sanctioned by Qin, an inestimabl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oss of knowledg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9160" y="3794040"/>
            <a:ext cx="50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4 - Burial and execution of 460 Confucian scholar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28600" y="4267080"/>
            <a:ext cx="2081160" cy="24386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736360" y="4327560"/>
            <a:ext cx="452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5 - Arbitrary and cruel executions of officials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uch as generals beheaded for arriving lat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To meeting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26120" y="5510160"/>
            <a:ext cx="473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6 - Spread of a climate of fear and terror,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eading to revolt and fall of Qin’s new kingdom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oon after his death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1560" y="1889280"/>
            <a:ext cx="738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2 - Extreme hardship on peasants left on the land, with much of their crop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Taken in taxes and so many others taken awa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01:39:44Z</dcterms:created>
  <dc:creator>harrisr</dc:creator>
  <dc:description/>
  <dc:language>en-US</dc:language>
  <cp:lastModifiedBy>Staff</cp:lastModifiedBy>
  <dcterms:modified xsi:type="dcterms:W3CDTF">2008-04-21T20:40:44Z</dcterms:modified>
  <cp:revision>9</cp:revision>
  <dc:subject/>
  <dc:title>Slide 1</dc:title>
</cp:coreProperties>
</file>