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BA4B0-0FC9-4652-A9E1-534066BCA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EC94-F599-4832-B21B-48B605B75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D4D22-E958-406C-98CC-8D77FDC52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434E1-F3D7-4253-A319-94F4D32D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90505-7209-411A-9860-333DCF701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51E5C-5FB0-48AE-B86F-25EEB774A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B1E55-47E4-4B7C-9874-918B739A0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2B000-1B45-4B5C-9EC7-ECFD00B3A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AB519-2F62-4F96-8754-DC89E5E38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1C6B4-CCA4-436E-8B24-FEE9DE210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93B68-406C-41B0-BC50-618555700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E9E6-DB3E-4D39-BB56-600A4F301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AEB9-1870-4679-89FD-69561B232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A9F2-DAC8-42B1-AC5F-2FB35CAF4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C9DDA-C5E8-445B-8787-D97104313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5F79F-BC4F-4ABE-BB2C-63F6952A2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CAF3F-265B-46D6-AB59-4F94DAEA6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6696-8FB5-4246-AE50-BD585D7F2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A0B3-FFB5-4994-A00B-5E8FDB59C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2222-B762-47E1-AC6B-D2993F27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748C0-46B5-44E2-A271-0D25A6FC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0525-456B-4EC6-8AFC-59EFE4F6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864B-4E1D-426F-AE04-84E5752D9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5E4A-2789-42E7-B917-686DE25EB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5841-6725-4FCE-810A-847A666B44E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3910-0BB1-48A1-8726-50B0358FAC22}"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diamond(out)"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repl">
                                        <p:cTn id="12" dur="1000" fill="hold"/>
                                        <p:tgtEl>
                                          <p:spTgt spid="118"/>
                                        </p:tgtEl>
                                        <p:attrNameLst>
                                          <p:attrName>ppt_w</p:attrName>
                                        </p:attrNameLst>
                                      </p:cBhvr>
                                      <p:tavLst>
                                        <p:tav tm="0">
                                          <p:val>
                                            <p:strVal val="0"/>
                                          </p:val>
                                        </p:tav>
                                        <p:tav tm="100000">
                                          <p:val>
                                            <p:strVal val="#ppt_w"/>
                                          </p:val>
                                        </p:tav>
                                      </p:tavLst>
                                    </p:anim>
                                    <p:anim calcmode="lin" valueType="num">
                                      <p:cBhvr additive="repl">
                                        <p:cTn id="13" dur="1000" fill="hold"/>
                                        <p:tgtEl>
                                          <p:spTgt spid="118"/>
                                        </p:tgtEl>
                                        <p:attrNameLst>
                                          <p:attrName>ppt_h</p:attrName>
                                        </p:attrNameLst>
                                      </p:cBhvr>
                                      <p:tavLst>
                                        <p:tav tm="0">
                                          <p:val>
                                            <p:strVal val="0"/>
                                          </p:val>
                                        </p:tav>
                                        <p:tav tm="100000">
                                          <p:val>
                                            <p:strVal val="#ppt_h"/>
                                          </p:val>
                                        </p:tav>
                                      </p:tavLst>
                                    </p:anim>
                                    <p:anim calcmode="lin" valueType="num">
                                      <p:cBhvr additive="repl">
                                        <p:cTn id="14" dur="1000" fill="hold"/>
                                        <p:tgtEl>
                                          <p:spTgt spid="118"/>
                                        </p:tgtEl>
                                        <p:attrNameLst>
                                          <p:attrName>r</p:attrName>
                                        </p:attrNameLst>
                                      </p:cBhvr>
                                      <p:tavLst>
                                        <p:tav tm="0">
                                          <p:val>
                                            <p:strVal val="90"/>
                                          </p:val>
                                        </p:tav>
                                        <p:tav tm="100000">
                                          <p:val>
                                            <p:strVal val="0"/>
                                          </p:val>
                                        </p:tav>
                                      </p:tavLst>
                                    </p:anim>
                                    <p:animEffect filter="fade" transition="in">
                                      <p:cBhvr additive="repl">
                                        <p:cTn id="15" dur="1000"/>
                                        <p:tgtEl>
                                          <p:spTgt spid="11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Effect filter="strips(downRight)" transition="in">
                                      <p:cBhvr additive="repl">
                                        <p:cTn id="2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