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9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applause.wav" ContentType="audio/x-wav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png" ContentType="image/png"/>
  <Override PartName="/ppt/media/explode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89B0-6048-4A4F-A5D6-6E681AADD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99D4-0BC8-4A02-86D7-31828603B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1926-3DB9-4F77-A048-8F7C2F4BE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3EA7-E02C-473D-AEB8-0427BAFAE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83715-DD13-4374-9A20-C5F5FF8CE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5404E-3748-4712-BE82-EA3BDF188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A314D-F9AD-4D56-907D-16920EDC7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E203C-F0C9-48C5-B4BF-47860150A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7A7F5-911B-4AD4-9D90-4ADA0EE14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F467E-428F-4CE5-87CB-AA8F015BC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28BF0-10C6-4B6E-8BED-EDA1709F4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ED38-F331-4D3E-8C58-DF427618D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E55AD-445D-42E9-86DB-87F059149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84B95-BA04-45DB-8933-3C274C573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18CBB-1F79-4F0D-956D-72B502B34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053F3-084C-473C-A983-1CA61B245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B8A61-0342-4AA5-B30B-24FC58B76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BCDD-D883-4F7B-BE75-8C271D51C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F031-8A73-451F-AD10-62698AF91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34F6-4C40-400F-AC66-370835286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4BBB-50AE-4AFA-BC4C-B7A3CB402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1A88-2CF0-4743-8945-3D5690F4E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262C-3CB6-4EAF-963B-DB1FD4B6A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F4A1-7F2D-41F7-BFF6-2DCF05D03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C6C73-AA8A-44BE-8D1B-7F415E18B41D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99951-D975-4A88-9C7D-1B94BB0789F0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audio" Target="../media/explode.wav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1809720" cy="220968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3124080" y="609480"/>
            <a:ext cx="3657600" cy="20480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533520" y="3276720"/>
            <a:ext cx="1955520" cy="25398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4"/>
          <a:stretch/>
        </p:blipFill>
        <p:spPr>
          <a:xfrm>
            <a:off x="3124080" y="2971800"/>
            <a:ext cx="3600720" cy="34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The First Emperor of China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1908000" cy="289548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3240" y="4267080"/>
            <a:ext cx="1753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Qin Shuang-di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221-210 B.C.E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Legalism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2666880" y="1295280"/>
            <a:ext cx="2743200" cy="192276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5638680" y="1447920"/>
            <a:ext cx="2092320" cy="3124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2517120" y="3352680"/>
            <a:ext cx="235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Alexander the Great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336-323 BCE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869800" y="4724280"/>
            <a:ext cx="166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Julius Caesar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49-44 BCE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4"/>
          <a:stretch/>
        </p:blipFill>
        <p:spPr>
          <a:xfrm>
            <a:off x="2438280" y="4343400"/>
            <a:ext cx="1506600" cy="22860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4041000" y="5638680"/>
            <a:ext cx="343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Machiavelli: </a:t>
            </a:r>
            <a:r>
              <a:rPr b="1" lang="en-US" sz="1800" spc="-1" strike="noStrike" u="sng">
                <a:solidFill>
                  <a:srgbClr val="2f1311"/>
                </a:solidFill>
                <a:uFillTx/>
                <a:latin typeface="Arial"/>
              </a:rPr>
              <a:t>The Prince (1513)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77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" dur="770" fill="hold"/>
                                        <p:tgtEl>
                                          <p:spTgt spid="20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3" dur="77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5" dur="77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Qin and Lincoln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152280" y="1371600"/>
            <a:ext cx="1973520" cy="246708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530640" y="4800600"/>
            <a:ext cx="6781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3 – Both Qin and Lincoln were subject to very different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Historical points of view, with Qin being condemned for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Centuries by scholars trained in Confucian ethics, and with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Lincoln being condemned by a post-war Southern historian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Qin as cruel tyrant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436840" y="1600200"/>
            <a:ext cx="535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1 – Both Qin and Lincoln unified their nation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Through war and tremendous bloodshed,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Both earning the title of tyrant during their live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436120" y="2895480"/>
            <a:ext cx="512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2 – Both Qin and Lincoln violated established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Social values in pursuit of greater political,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Economic, and social goal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3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5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5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4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4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914400" y="0"/>
            <a:ext cx="3543480" cy="329868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4800600" y="304920"/>
            <a:ext cx="1730520" cy="268596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5715000" y="3886200"/>
            <a:ext cx="198108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1311"/>
                </a:solidFill>
                <a:latin typeface="Arial"/>
              </a:rPr>
              <a:t>1974:  First pit discovered, 689 feet long and 197 feet wide, containing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1311"/>
                </a:solidFill>
                <a:latin typeface="Arial"/>
              </a:rPr>
              <a:t>over 6,000 clay soldiers, Horses, chariots, in trenches from 14 to 21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1311"/>
                </a:solidFill>
                <a:latin typeface="Arial"/>
              </a:rPr>
              <a:t>Feet deep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228600" y="3505320"/>
            <a:ext cx="5334120" cy="30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9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29080" cy="646740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4572000" y="304920"/>
            <a:ext cx="4114800" cy="323028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4635360" y="3846600"/>
            <a:ext cx="3443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1974:  Pit #2 discovered, with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1,400 warriors, horses, and 64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Chariots, 64,000 square feet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574520" y="4876920"/>
            <a:ext cx="3164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1980:  Pit #3, much smaller,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Discovered, with 1 chariot,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6 warriors, and weapon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570560" y="5943600"/>
            <a:ext cx="322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Tomb mound of Qin himself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Not yet excavated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2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7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China during Warring States period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4422600" cy="449604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5164920" y="1535040"/>
            <a:ext cx="172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480-221 BCE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4876920" y="2362320"/>
            <a:ext cx="251460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d47d"/>
                </a:solidFill>
                <a:latin typeface="Arial"/>
              </a:rPr>
              <a:t>Victory of Qin  Shi-huangdi -- 221 BCE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380880" y="1295280"/>
            <a:ext cx="5334120" cy="377676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439920" y="5294160"/>
            <a:ext cx="7186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If the whole world has suffered from unceasing warfare, this i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The fault of feudal lords and kings.  Thanks to my ancestors, the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Empire has been pacified for the first time.”  -- Qin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856120" y="1584360"/>
            <a:ext cx="187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Shi: First dynasty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779800" y="2346480"/>
            <a:ext cx="2061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Huang: Three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Legendary rulers at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Dawn of China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846400" y="3897360"/>
            <a:ext cx="2024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1311"/>
                </a:solidFill>
                <a:latin typeface="Arial"/>
              </a:rPr>
              <a:t>Di:  5 legendary kings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1311"/>
                </a:solidFill>
                <a:latin typeface="Arial"/>
              </a:rPr>
              <a:t>Who followed the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1311"/>
                </a:solidFill>
                <a:latin typeface="Arial"/>
              </a:rPr>
              <a:t>huang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70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75" dur="20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Achievements of Qin Shuang-di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8960" y="1243080"/>
            <a:ext cx="6953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1 – Unification of China through defeat or rival armies and dismantling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Of aristocratic system of control by feudal lords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40120" y="2004840"/>
            <a:ext cx="6675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2 – Creation of districts to replace feudal kingdoms, each with a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Political leader and a military leader (with political leader in control)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42640" y="2843280"/>
            <a:ext cx="6116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3 – Protection of new unified China through completion of the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Great Wall”, 1500 miles long and linking previous walls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0" y="3581280"/>
            <a:ext cx="3295800" cy="2205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3360240" y="3581280"/>
            <a:ext cx="4312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4 – Standardization of language, currency,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Dismantling barriers between districts,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And uniformity of road and axle widths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741840" y="4672080"/>
            <a:ext cx="3454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5 – Creation of vast road and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Canal network to speed economic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growth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649680" y="5927760"/>
            <a:ext cx="3498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6 – Ordered construction of one of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World’s most magnificent tombs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82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0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2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Atrocities of Qin Shuangi-di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2960" y="1166760"/>
            <a:ext cx="6706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1 - High taxes and forced labor from millions of peasants, many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Of whom died building Great Wall, roads, canals, and other projects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3360" y="2743200"/>
            <a:ext cx="6532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3 - Hostility to Confucian thought and historical writing, leading to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Destruction of all literature not sanctioned by Qin, an inestimable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Loss of knowledge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99160" y="3794040"/>
            <a:ext cx="504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4 - Burial and execution of 460 Confucian scholars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228600" y="4267080"/>
            <a:ext cx="2081160" cy="243864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2736360" y="4327560"/>
            <a:ext cx="4525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5 - Arbitrary and cruel executions of officials,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Such as generals beheaded for arriving late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To meetings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526120" y="5510160"/>
            <a:ext cx="4734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6 - Spread of a climate of fear and terror,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Leading to revolt and fall of Qin’s new kingdom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Soon after his death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51560" y="1889280"/>
            <a:ext cx="7380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2 - Extreme hardship on peasants left on the land, with much of their crops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Taken in taxes and so many others taken away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9" dur="5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4" dur="8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5" dur="8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6" dur="8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3T01:39:44Z</dcterms:created>
  <dc:creator>harrisr</dc:creator>
  <dc:description/>
  <dc:language>en-US</dc:language>
  <cp:lastModifiedBy>Staff</cp:lastModifiedBy>
  <dcterms:modified xsi:type="dcterms:W3CDTF">2008-04-21T20:40:44Z</dcterms:modified>
  <cp:revision>9</cp:revision>
  <dc:subject/>
  <dc:title>Slide 1</dc:title>
</cp:coreProperties>
</file>