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applause.wav" ContentType="audio/x-wav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1EF8-042D-41CA-B09E-14C8DA666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7F6F-AC09-4E88-93CD-F5FED5DB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CBD6-ABC7-49EA-9588-21DAB0DE3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A711-CEC7-4FD7-874F-B4AF83A5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F59F-2120-4E5E-A206-D588129F3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CFDF-78BF-49E1-AC33-C1C8A691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5AB2-90F5-4A55-946E-3D65AF5B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9BFE-AC39-46B3-AEA7-EF42235F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A7CC-C933-417C-912E-6CE8AA07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9B84-A084-4739-AC7A-57F57E68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3419-32EC-4F33-99E5-D7724611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9850-27E2-419B-83A0-2CA4E8C2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ED86-0812-4243-ABF5-102A8E78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7A07-EB2C-4496-BC58-E2A15808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3C4C-ACE0-456A-803A-DC148547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A92C-63D6-4469-B6EF-83A412825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AB09-BD13-4163-AC8A-F21FCF5FA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31CC-9268-467F-87E9-0F936066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FF1B-0798-4231-8957-70036FE3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22C1-AA27-4FDD-9AA0-0D08D167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C3A6-F66D-4D43-AB10-B84B1110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FFC2-F326-45C5-8F42-1DFD7E3B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DC59-9D1D-433E-BEFC-F242C5C7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8ECA-DD47-44C8-8174-8E265DDB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D009-0C7F-49A3-BE01-3E00407D88B0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E119-AF86-4950-BDDD-C7EAB9C3F881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1809720" cy="22096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124080" y="609480"/>
            <a:ext cx="3657600" cy="20480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33520" y="3276720"/>
            <a:ext cx="1955520" cy="2539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3124080" y="2971800"/>
            <a:ext cx="360072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e First Emperor of Chin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1908000" cy="2895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240" y="4267080"/>
            <a:ext cx="175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Qin Shuang-di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221-210 B.C.E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Legalism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666880" y="1295280"/>
            <a:ext cx="2743200" cy="19227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638680" y="1447920"/>
            <a:ext cx="2092320" cy="3124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517120" y="3352680"/>
            <a:ext cx="23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Alexander the Grea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336-323 B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9800" y="4724280"/>
            <a:ext cx="16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Julius Caesa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49-44 B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2438280" y="4343400"/>
            <a:ext cx="1506600" cy="2286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041000" y="5638680"/>
            <a:ext cx="34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Machiavelli: </a:t>
            </a:r>
            <a:r>
              <a:rPr b="1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The Prince (1513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Qin and Lincol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1973520" cy="24670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0640" y="4800600"/>
            <a:ext cx="6781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3 – Both Qin and Lincoln were subject to very different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Historical points of view, with Qin being condemned for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enturies by scholars trained in Confucian ethics, and with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Lincoln being condemned by a post-war Southern historia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Qin as cruel tyran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6840" y="1600200"/>
            <a:ext cx="535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 – Both Qin and Lincoln unified their natio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hrough war and tremendous bloodshed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Both earning the title of tyrant during their liv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36120" y="2895480"/>
            <a:ext cx="512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2 – Both Qin and Lincoln violated establishe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Social values in pursuit of greater political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Economic, and social goal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4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3543480" cy="32986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1730520" cy="26859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715000" y="3886200"/>
            <a:ext cx="1981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1974:  First pit discovered, 689 feet long and 197 feet wide, containing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over 6,000 clay soldiers, Horses, chariots, in trenches from 14 to 21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Feet deep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228600" y="3505320"/>
            <a:ext cx="533412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9080" cy="6467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572000" y="304920"/>
            <a:ext cx="4114800" cy="3230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635360" y="3846600"/>
            <a:ext cx="344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974:  Pit #2 discovered, with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,400 warriors, horses, and 64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hariots, 64,000 square fee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4520" y="4876920"/>
            <a:ext cx="316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980:  Pit #3, much smaller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Discovered, with 1 chariot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6 warriors, and weapo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0560" y="5943600"/>
            <a:ext cx="32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omb mound of Qin himself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Not yet excavate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China during Warring States period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22600" cy="44960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164920" y="1535040"/>
            <a:ext cx="17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480-221 BC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876920" y="2362320"/>
            <a:ext cx="25146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Victory of Qin  Shi-huangdi -- 221 BCE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5334120" cy="3776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39920" y="5294160"/>
            <a:ext cx="718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If the whole world has suffered from unceasing warfare, this i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he fault of feudal lords and kings.  Thanks to my ancestors, th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Empire has been pacified for the first time.”  -- Qin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56120" y="1584360"/>
            <a:ext cx="187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hi: First dynast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79800" y="2346480"/>
            <a:ext cx="206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Huang: Thre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egendary rulers at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awn of Chin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46400" y="3897360"/>
            <a:ext cx="2024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Di:  5 legendary kings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Who followed the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huang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2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chievements of Qin Shuang-d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8960" y="1243080"/>
            <a:ext cx="695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1 – Unification of China through defeat or rival armies and dismantling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Of aristocratic system of control by feudal lord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0120" y="2004840"/>
            <a:ext cx="667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2 – Creation of districts to replace feudal kingdoms, each with 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Political leader and a military leader (with political leader in control)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2640" y="2843280"/>
            <a:ext cx="611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3 – Protection of new unified China through completion of th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Great Wall”, 1500 miles long and linking previous wall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3581280"/>
            <a:ext cx="3295800" cy="2205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360240" y="3581280"/>
            <a:ext cx="431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4 – Standardization of language, currency,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ismantling barriers between districts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And uniformity of road and axle width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41840" y="4672080"/>
            <a:ext cx="345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5 – Creation of vast road and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Canal network to speed economic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growth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49680" y="5927760"/>
            <a:ext cx="349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6 – Ordered construction of one of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World’s most magnificent tomb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77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770" fill="hold"/>
                                        <p:tgtEl>
                                          <p:spTgt spid="2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5" dur="77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7" dur="77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trocities of Qin Shuangi-d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960" y="1166760"/>
            <a:ext cx="6706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1 - High taxes and forced labor from millions of peasants, man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Of whom died building Great Wall, roads, canals, and other project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3360" y="2743200"/>
            <a:ext cx="653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3 - Hostility to Confucian thought and historical writing, leading to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estruction of all literature not sanctioned by Qin, an inestimabl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oss of knowledg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9160" y="3794040"/>
            <a:ext cx="50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4 - Burial and execution of 460 Confucian scholar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28600" y="4267080"/>
            <a:ext cx="2081160" cy="24386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736360" y="4327560"/>
            <a:ext cx="452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5 - Arbitrary and cruel executions of officials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uch as generals beheaded for arriving lat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To meeting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26120" y="5510160"/>
            <a:ext cx="473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6 - Spread of a climate of fear and terror,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eading to revolt and fall of Qin’s new kingdom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oon after his death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1560" y="1889280"/>
            <a:ext cx="738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2 - Extreme hardship on peasants left on the land, with much of their crop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Taken in taxes and so many others taken awa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4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01:39:44Z</dcterms:created>
  <dc:creator>harrisr</dc:creator>
  <dc:description/>
  <dc:language>en-US</dc:language>
  <cp:lastModifiedBy>Staff</cp:lastModifiedBy>
  <dcterms:modified xsi:type="dcterms:W3CDTF">2008-04-21T20:40:44Z</dcterms:modified>
  <cp:revision>9</cp:revision>
  <dc:subject/>
  <dc:title>Slide 1</dc:title>
</cp:coreProperties>
</file>