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2E793-BC55-45B3-83C1-929C25F2D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821B3-059F-4655-AF24-66CFF0BD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81F3F-7CF8-4562-8289-3C9DF3B22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B2CE1-4660-4F2B-BB66-A6431AC4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94DF8-FE40-473E-A750-13F2D34BA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A1DEA-730C-48F2-A355-E4C84D639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A5DFF-99A1-4BD6-A40A-CE0DEB8CC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9F8A7-E0C7-4C76-B83B-5E124B95C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4FF03-4A83-4943-AB09-CB21EE4A0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F2AD-CB39-4D25-BF76-6567FFD0D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4859-B1AE-4E9E-9BD7-A252A626C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13A97-B93D-40F1-A505-608E7D97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DD44-416D-4992-93D6-04AF0C88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E2BFD-5F47-430A-9771-60C3B989B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A827B-65B7-4A6D-AA2B-83E316395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ED4F6-1DEC-4CEF-9689-DCB0C48D8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DE4F7-1C2D-4D67-9B0F-A6B18EFD0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555B-6C03-4ED1-B569-1DBF7E78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B789-F85A-480C-9609-D79C9152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192D-A246-46CF-9F9D-74AF02216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DD4B-BD64-4A9E-A07F-D4049B1C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C31A-10A0-4FEF-B77E-20F8EF42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BC9E-8D6B-458B-A3CA-BAE7D889C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3892-F564-48BF-8B40-C2990B44A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4FFE-D59B-4A03-9D36-6C40CFEE575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415B-ABF8-44C9-8BD1-65A8D093FF42}"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0" fill="hold"/>
                                        <p:tgtEl>
                                          <p:spTgt spid="117"/>
                                        </p:tgtEl>
                                        <p:attrNameLst>
                                          <p:attrName>ppt_w</p:attrName>
                                        </p:attrNameLst>
                                      </p:cBhvr>
                                      <p:tavLst>
                                        <p:tav tm="0">
                                          <p:val>
                                            <p:strVal val="#ppt_w"/>
                                          </p:val>
                                        </p:tav>
                                        <p:tav tm="100000">
                                          <p:val>
                                            <p:strVal val="#ppt_w"/>
                                          </p:val>
                                        </p:tav>
                                      </p:tavLst>
                                    </p:anim>
                                    <p:anim calcmode="lin" valueType="num">
                                      <p:cBhvr additive="repl">
                                        <p:cTn id="8" dur="5000" fill="hold"/>
                                        <p:tgtEl>
                                          <p:spTgt spid="11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repl">
                                        <p:cTn id="13" dur="500" fill="hold"/>
                                        <p:tgtEl>
                                          <p:spTgt spid="118"/>
                                        </p:tgtEl>
                                        <p:attrNameLst>
                                          <p:attrName>ppt_w</p:attrName>
                                        </p:attrNameLst>
                                      </p:cBhvr>
                                      <p:tavLst>
                                        <p:tav tm="0">
                                          <p:val>
                                            <p:strVal val="0"/>
                                          </p:val>
                                        </p:tav>
                                        <p:tav tm="100000">
                                          <p:val>
                                            <p:strVal val="#ppt_w"/>
                                          </p:val>
                                        </p:tav>
                                      </p:tavLst>
                                    </p:anim>
                                    <p:anim calcmode="lin" valueType="num">
                                      <p:cBhvr additive="repl">
                                        <p:cTn id="14" dur="500" fill="hold"/>
                                        <p:tgtEl>
                                          <p:spTgt spid="118"/>
                                        </p:tgtEl>
                                        <p:attrNameLst>
                                          <p:attrName>ppt_h</p:attrName>
                                        </p:attrNameLst>
                                      </p:cBhvr>
                                      <p:tavLst>
                                        <p:tav tm="0">
                                          <p:val>
                                            <p:strVal val="0"/>
                                          </p:val>
                                        </p:tav>
                                        <p:tav tm="100000">
                                          <p:val>
                                            <p:strVal val="#ppt_h"/>
                                          </p:val>
                                        </p:tav>
                                      </p:tavLst>
                                    </p:anim>
                                    <p:animEffect filter="fade" transition="in">
                                      <p:cBhvr additive="repl">
                                        <p:cTn id="15" dur="500"/>
                                        <p:tgtEl>
                                          <p:spTgt spid="11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Effect filter="fade" transition="in">
                                      <p:cBhvr additive="repl">
                                        <p:cTn id="20" dur="1000"/>
                                        <p:tgtEl>
                                          <p:spTgt spid="119"/>
                                        </p:tgtEl>
                                      </p:cBhvr>
                                    </p:animEffect>
                                    <p:anim calcmode="lin" valueType="num">
                                      <p:cBhvr additive="repl">
                                        <p:cTn id="21" dur="1000" fill="hold"/>
                                        <p:tgtEl>
                                          <p:spTgt spid="119"/>
                                        </p:tgtEl>
                                        <p:attrNameLst>
                                          <p:attrName>ppt_x</p:attrName>
                                        </p:attrNameLst>
                                      </p:cBhvr>
                                      <p:tavLst>
                                        <p:tav tm="0">
                                          <p:val>
                                            <p:strVal val="#ppt_x"/>
                                          </p:val>
                                        </p:tav>
                                        <p:tav tm="100000">
                                          <p:val>
                                            <p:strVal val="#ppt_x"/>
                                          </p:val>
                                        </p:tav>
                                      </p:tavLst>
                                    </p:anim>
                                    <p:anim calcmode="lin" valueType="num">
                                      <p:cBhvr additive="repl">
                                        <p:cTn id="22" dur="900" fill="hold"/>
                                        <p:tgtEl>
                                          <p:spTgt spid="119"/>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