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5B4-0411-4FB4-A1C7-1EA48723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233-7AE0-4338-BC6C-A82ADEEA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2151-9F97-47E6-98FE-F4BCB0FB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EAD6-31D1-46F8-AB8D-BE3C211E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B8908-405B-436D-8B9C-740CCCBA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A8B24-AB5A-4F2B-BA21-97EAA46F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E7EE9-BAA9-46E2-9678-84147E07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D7339-BEAB-48AA-99D6-6AF133CE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E76B9-FB04-4D09-AB68-6CB301E8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FE774-EC39-4675-B2DA-587EDEF7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03EDD-8B5E-4595-9567-1A92CBEB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C8C6-E8C3-43FE-8BAF-AE2FDDFD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0754E-9B6D-4792-A1BB-4D930DC3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2544E-0F46-4D8C-9464-AE8A7F44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409CB-2AFB-4C40-B937-D9FAF919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7B324-55B8-4CDE-B06B-C0AE3C01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09DC9-77F9-4F19-8A10-07CB1FF0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106B3-2113-4A53-A331-955B6D14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C95C5-CD23-4A75-9217-3B545253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EBA7B-077A-44F9-9C74-A0BBA2F6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0EC1A-561D-4215-B154-888F94ED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9E942-C604-4DD5-A7E4-51B22A60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8E8-F010-4C6D-808D-5C97358B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18D92-3759-485C-A0FF-988B7864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088F7-B7C7-411D-85C1-E5096560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70EFC-5CDB-402D-A26E-0A72C865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0C508-4598-486B-A2DD-F45C2549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F6A99-E563-425D-B559-2F33696C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CEEC7-E760-40A9-A62F-A292C757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6C9AB-497F-4A61-B3E4-CD13C984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A2B44-BCEC-4A9A-BE55-A1BC540F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FD909-846E-458C-AF13-8BB170A1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14B1D-C5EB-4723-B441-EA7A3AD8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F3B8-C30A-4727-A5B4-B1495EA1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FE42B-4553-4847-907A-7B8EE7EA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44208-077C-4A2A-A86B-F8478A05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41F0E-3F7B-4DAA-BB9E-DA258770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DF70E-EDE5-437A-B177-460942C7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41E23-1D30-4989-85A1-83C65E04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A50DB-0D9E-4550-83BF-9EC8822C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0071B-1156-44C8-ADE3-1BAB496B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7A449-25D9-4B07-AFDF-5591A87F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6A1AF-5BB8-4645-8605-56D7A87C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F6873-965E-423F-ADD7-3424442E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2E7-115C-4E71-AF18-BE4944F6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9037F-3266-4B6D-B0CC-9B8EB8F9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52B1A-ED81-40C5-B4C5-C2560600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A7945-0C62-4916-AB44-087FE869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00D8F-A7B2-4C76-8C34-B9B268F8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40AF8-D736-4181-8673-1B8491A5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B0ED6-B0BE-428D-BA0D-826268F9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C46A1-55A6-4A4A-99A3-0028F56D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00EA4-2BC6-4122-AECF-AAFF3A82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568AD-774D-4E9A-931D-F39B597C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6ADBB-642E-45F3-B4E6-8A1CA8F0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275-662C-40F4-974E-F56BC9BA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39953-BE85-40E7-AA0E-4A1364D8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5849D-CECB-4C8D-A6D3-34DFFA9D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4E182-0245-4266-A88C-9E7E4766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19F3E-637C-445B-B6A7-2652CD9A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138CD-B9DC-455F-9981-000BDB50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BCAD0-8822-42C9-85A1-3F9A7B76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825AC-FB96-4BB4-8499-23A0BD88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2CA11-1C42-4C26-98E3-924DCD72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8A891-BE09-4171-854A-B2F8AD15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FEFB4-027C-4A8B-A89C-3D614F28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5D0-E04C-4414-8DD2-58546AD8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FA875-D4BA-4F5B-8940-916418AB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149C5-693D-45B3-B031-821EE148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FFC46-019E-4FF1-BD3D-ACB856EF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EE03D-28E0-4386-BD22-A5996393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51CE1-A183-4BA9-B778-90336D46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56345-76C6-46F0-B1C1-D535055B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F972D-BD3E-4BBE-A339-27969BB2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9D1A4-9571-4793-B8F6-1DA7BD26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C4D88-4E4A-45FE-B519-66BE2B6E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69FEF-0F59-4F7F-B090-3712B939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9B7-51FE-4D8A-B741-72A695E8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57EB0-2D23-4F53-B6AB-5F7B5350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89B2F-EB77-4517-87B0-36B02D4D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1E04F-7F01-43FC-9F0A-7B363FB7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BF064-9DFF-4A8D-BA56-217C26E6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B1CB5-8C1B-4EED-A220-0EF8247B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92DCE-2220-45AC-9E0B-C76CDCB3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3C50F-ADF5-44CB-B73B-0DC39F16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586DC-81ED-493F-BBF8-B7D30BB9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17AB6-D255-4C57-AFAB-B70BE7DE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35164-F542-4EE8-9216-DA6FF99B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BCF-1A5F-4465-8292-E472F82F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94289-B9B2-433B-8E09-929B6097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5860E-409C-40AB-A612-F7BBE458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C3C69-41A1-4519-A34C-A1C1B4F0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ECF1B-1623-4DCD-BF0D-B12B9BF3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AF0A5-24D3-4AC4-9C9E-99A6D4B1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32A33-BBFA-47FA-AEAF-AD7A4F98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42F30-508B-4A7B-965F-A1D7AECD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6446-2FED-4DF1-8C33-C48357E21E4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005B-C309-426D-B30A-060903A8B61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9EA4-94A9-4BD3-B579-0AFCC6D08311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240A-F407-46D3-A390-4880276F032E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E87C-0F7B-467D-9150-B29F26C5E8F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3F70-D0CD-4BD4-904B-F2AA3C6D374C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F3BE-026D-4F42-8898-1D55C39565D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D127-2B2D-458F-AAF0-58DD6B13F387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8ECC-5726-48CD-8995-FF31CEF59EF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A713-C354-40A5-9392-2B92629BDD7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75F7-0086-44FD-808B-B3291038BB6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8171-FE48-4C59-9A72-EB48B555BB0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CB7D-7DD4-47B4-8C92-8937342E14A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C243-424D-491C-8924-F782AFAA425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8313-B373-44F6-B5F2-738C388DDCB1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CE61-C9E4-43AC-9A9D-91CEBA39381D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6"/>
          <p:cNvSpPr/>
          <p:nvPr/>
        </p:nvSpPr>
        <p:spPr>
          <a:xfrm>
            <a:off x="4751640" y="3429000"/>
            <a:ext cx="358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 the two thousand years since the sars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d been dragged to Stonehenge, t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scape around Sarum had not chang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ch.  Woods of oak and ash, elm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el still graced the broad bowl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 where the five rivers met.  . . B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re were changes: sheep now graz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sacred precincts where the mello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ey stones of the henge, still standing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ir magic circle, were seldom visited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owed many signs of disrepair.  Th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rrows were overgrown with turf, and 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w ones had been built for generations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8" descr="Sarum, mounds.jpg"/>
          <p:cNvPicPr/>
          <p:nvPr/>
        </p:nvPicPr>
        <p:blipFill>
          <a:blip r:embed="rId1"/>
          <a:stretch/>
        </p:blipFill>
        <p:spPr>
          <a:xfrm>
            <a:off x="609480" y="2438280"/>
            <a:ext cx="2806920" cy="2108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Stonehenge goodbye.jpg"/>
          <p:cNvPicPr/>
          <p:nvPr/>
        </p:nvPicPr>
        <p:blipFill>
          <a:blip r:embed="rId2"/>
          <a:stretch/>
        </p:blipFill>
        <p:spPr>
          <a:xfrm>
            <a:off x="1066680" y="304920"/>
            <a:ext cx="2722680" cy="2047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arum, woods.jpg"/>
          <p:cNvPicPr/>
          <p:nvPr/>
        </p:nvPicPr>
        <p:blipFill>
          <a:blip r:embed="rId3"/>
          <a:stretch/>
        </p:blipFill>
        <p:spPr>
          <a:xfrm>
            <a:off x="4038480" y="609480"/>
            <a:ext cx="3353040" cy="252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Sheep at Sarum.jpg"/>
          <p:cNvPicPr/>
          <p:nvPr/>
        </p:nvPicPr>
        <p:blipFill>
          <a:blip r:embed="rId4"/>
          <a:stretch/>
        </p:blipFill>
        <p:spPr>
          <a:xfrm>
            <a:off x="1905120" y="4800600"/>
            <a:ext cx="217944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38DF-2896-490E-B1E0-7F332E8A97D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92E1-C7C8-49CE-926E-60462ACF0B2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5" descr="Gilcreaseclub08.JPG.jpeg"/>
          <p:cNvPicPr/>
          <p:nvPr/>
        </p:nvPicPr>
        <p:blipFill>
          <a:blip r:embed="rId1"/>
          <a:stretch/>
        </p:blipFill>
        <p:spPr>
          <a:xfrm>
            <a:off x="4343400" y="533520"/>
            <a:ext cx="3645000" cy="2755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ptscty55aclr2.jpg"/>
          <p:cNvPicPr/>
          <p:nvPr/>
        </p:nvPicPr>
        <p:blipFill>
          <a:blip r:embed="rId2"/>
          <a:stretch/>
        </p:blipFill>
        <p:spPr>
          <a:xfrm>
            <a:off x="4952880" y="3505320"/>
            <a:ext cx="3048120" cy="2463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BigRamey.JPG.jpeg"/>
          <p:cNvPicPr/>
          <p:nvPr/>
        </p:nvPicPr>
        <p:blipFill>
          <a:blip r:embed="rId3"/>
          <a:stretch/>
        </p:blipFill>
        <p:spPr>
          <a:xfrm>
            <a:off x="685800" y="685800"/>
            <a:ext cx="2833560" cy="2055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pttech36clr2.jpg"/>
          <p:cNvPicPr/>
          <p:nvPr/>
        </p:nvPicPr>
        <p:blipFill>
          <a:blip r:embed="rId4"/>
          <a:stretch/>
        </p:blipFill>
        <p:spPr>
          <a:xfrm>
            <a:off x="762120" y="3352680"/>
            <a:ext cx="336528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003A-0076-4403-9E01-5BF5145CC9F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C1A6-CAED-4B04-A714-083DD9D7994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3" descr="birger.jpg"/>
          <p:cNvPicPr/>
          <p:nvPr/>
        </p:nvPicPr>
        <p:blipFill>
          <a:blip r:embed="rId1"/>
          <a:stretch/>
        </p:blipFill>
        <p:spPr>
          <a:xfrm>
            <a:off x="380880" y="533520"/>
            <a:ext cx="2976840" cy="3287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birger2.jpg"/>
          <p:cNvPicPr/>
          <p:nvPr/>
        </p:nvPicPr>
        <p:blipFill>
          <a:blip r:embed="rId2"/>
          <a:stretch/>
        </p:blipFill>
        <p:spPr>
          <a:xfrm>
            <a:off x="6248520" y="3276720"/>
            <a:ext cx="2539800" cy="3098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Birger3.jpg"/>
          <p:cNvPicPr/>
          <p:nvPr/>
        </p:nvPicPr>
        <p:blipFill>
          <a:blip r:embed="rId3"/>
          <a:stretch/>
        </p:blipFill>
        <p:spPr>
          <a:xfrm>
            <a:off x="3657600" y="1371600"/>
            <a:ext cx="254016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AB19-66F8-40EA-ADE6-C7D5882DADF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F870-752F-43E9-A63F-14970CEB2E8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9" descr="images-4.jpeg"/>
          <p:cNvPicPr/>
          <p:nvPr/>
        </p:nvPicPr>
        <p:blipFill>
          <a:blip r:embed="rId1"/>
          <a:stretch/>
        </p:blipFill>
        <p:spPr>
          <a:xfrm>
            <a:off x="6400800" y="2971800"/>
            <a:ext cx="2031840" cy="245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images-3.jpeg"/>
          <p:cNvPicPr/>
          <p:nvPr/>
        </p:nvPicPr>
        <p:blipFill>
          <a:blip r:embed="rId2"/>
          <a:stretch/>
        </p:blipFill>
        <p:spPr>
          <a:xfrm>
            <a:off x="4038480" y="914400"/>
            <a:ext cx="1835280" cy="3276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peetBirdman.gif"/>
          <p:cNvPicPr/>
          <p:nvPr/>
        </p:nvPicPr>
        <p:blipFill>
          <a:blip r:embed="rId3"/>
          <a:stretch/>
        </p:blipFill>
        <p:spPr>
          <a:xfrm>
            <a:off x="609480" y="990720"/>
            <a:ext cx="32832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B8B5-0F18-4464-B87C-08091D19CAB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6A90-7DAD-4F27-A262-71C4C662B285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Picture 3" descr="CahokiaWoodhenge.gif"/>
          <p:cNvPicPr/>
          <p:nvPr/>
        </p:nvPicPr>
        <p:blipFill>
          <a:blip r:embed="rId1"/>
          <a:stretch/>
        </p:blipFill>
        <p:spPr>
          <a:xfrm>
            <a:off x="3809880" y="990720"/>
            <a:ext cx="4687920" cy="3581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explore_centralpalisades.jpg"/>
          <p:cNvPicPr/>
          <p:nvPr/>
        </p:nvPicPr>
        <p:blipFill>
          <a:blip r:embed="rId2"/>
          <a:stretch/>
        </p:blipFill>
        <p:spPr>
          <a:xfrm>
            <a:off x="762120" y="533520"/>
            <a:ext cx="2271600" cy="2260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Palisade1.JPG.jpeg"/>
          <p:cNvPicPr/>
          <p:nvPr/>
        </p:nvPicPr>
        <p:blipFill>
          <a:blip r:embed="rId3"/>
          <a:stretch/>
        </p:blipFill>
        <p:spPr>
          <a:xfrm>
            <a:off x="762120" y="3200400"/>
            <a:ext cx="28890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6"/>
          <p:cNvSpPr/>
          <p:nvPr/>
        </p:nvSpPr>
        <p:spPr>
          <a:xfrm>
            <a:off x="4284360" y="2971800"/>
            <a:ext cx="458676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small wooded hill which stood guardi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the valley had been completely transform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had been a promontory really, a natu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ump jutting out of the high ground; but sever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enturies ago, the old promontory had b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raped bare and round the entire summit o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me thirty acres, two massive banks of ear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chalk had been thrown up, with a deep di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tween them.  The lightly wooded hill h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en transformed into a bold, bare moun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ther unsightly, with a steep slope on eve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de. . . The people of Sarum, using a Celt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rm, called this fortress the dun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5" descr="Sarum hill.jpg"/>
          <p:cNvPicPr/>
          <p:nvPr/>
        </p:nvPicPr>
        <p:blipFill>
          <a:blip r:embed="rId1"/>
          <a:stretch/>
        </p:blipFill>
        <p:spPr>
          <a:xfrm>
            <a:off x="380880" y="228600"/>
            <a:ext cx="3759480" cy="281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Sarum hill with sign.jpg"/>
          <p:cNvPicPr/>
          <p:nvPr/>
        </p:nvPicPr>
        <p:blipFill>
          <a:blip r:embed="rId2"/>
          <a:stretch/>
        </p:blipFill>
        <p:spPr>
          <a:xfrm>
            <a:off x="46483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Sarum ditch.jpg"/>
          <p:cNvPicPr/>
          <p:nvPr/>
        </p:nvPicPr>
        <p:blipFill>
          <a:blip r:embed="rId3"/>
          <a:stretch/>
        </p:blipFill>
        <p:spPr>
          <a:xfrm>
            <a:off x="304920" y="35053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7ABC-DBDC-4AD1-9DBD-5C3A99DE1A0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968E-932F-4603-BE7A-75D6A697DAE3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US_tribes_map.jpg"/>
          <p:cNvPicPr/>
          <p:nvPr/>
        </p:nvPicPr>
        <p:blipFill>
          <a:blip r:embed="rId1"/>
          <a:stretch/>
        </p:blipFill>
        <p:spPr>
          <a:xfrm>
            <a:off x="457200" y="380880"/>
            <a:ext cx="5079960" cy="3784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images-7.jpeg"/>
          <p:cNvPicPr/>
          <p:nvPr/>
        </p:nvPicPr>
        <p:blipFill>
          <a:blip r:embed="rId2"/>
          <a:stretch/>
        </p:blipFill>
        <p:spPr>
          <a:xfrm>
            <a:off x="1523880" y="4419720"/>
            <a:ext cx="1695600" cy="1695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images-6.jpeg"/>
          <p:cNvPicPr/>
          <p:nvPr/>
        </p:nvPicPr>
        <p:blipFill>
          <a:blip r:embed="rId3"/>
          <a:stretch/>
        </p:blipFill>
        <p:spPr>
          <a:xfrm>
            <a:off x="6172200" y="457200"/>
            <a:ext cx="1668600" cy="1720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images-2.jpeg"/>
          <p:cNvPicPr/>
          <p:nvPr/>
        </p:nvPicPr>
        <p:blipFill>
          <a:blip r:embed="rId4"/>
          <a:stretch/>
        </p:blipFill>
        <p:spPr>
          <a:xfrm>
            <a:off x="5867280" y="2362320"/>
            <a:ext cx="2095560" cy="1612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tunica.jpg"/>
          <p:cNvPicPr/>
          <p:nvPr/>
        </p:nvPicPr>
        <p:blipFill>
          <a:blip r:embed="rId5"/>
          <a:stretch/>
        </p:blipFill>
        <p:spPr>
          <a:xfrm>
            <a:off x="4800600" y="4267080"/>
            <a:ext cx="32418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80B1-3053-40A3-A812-D21FF8FF646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cahokia mounds_5 ENHANCED.jpg"/>
          <p:cNvPicPr/>
          <p:nvPr/>
        </p:nvPicPr>
        <p:blipFill>
          <a:blip r:embed="rId1"/>
          <a:stretch/>
        </p:blipFill>
        <p:spPr>
          <a:xfrm>
            <a:off x="609480" y="3124080"/>
            <a:ext cx="3829320" cy="23734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7"/>
          <p:cNvSpPr/>
          <p:nvPr/>
        </p:nvSpPr>
        <p:spPr>
          <a:xfrm>
            <a:off x="533520" y="5410080"/>
            <a:ext cx="46080" cy="22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50: Cahokia number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out 20,000, largest city 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th America until Philadelph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18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8" descr="Cahokia_village.jpeg"/>
          <p:cNvPicPr/>
          <p:nvPr/>
        </p:nvPicPr>
        <p:blipFill>
          <a:blip r:embed="rId2"/>
          <a:stretch/>
        </p:blipFill>
        <p:spPr>
          <a:xfrm>
            <a:off x="685800" y="990720"/>
            <a:ext cx="3878280" cy="1447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images-2.jpeg"/>
          <p:cNvPicPr/>
          <p:nvPr/>
        </p:nvPicPr>
        <p:blipFill>
          <a:blip r:embed="rId3"/>
          <a:stretch/>
        </p:blipFill>
        <p:spPr>
          <a:xfrm>
            <a:off x="4724280" y="1523880"/>
            <a:ext cx="403884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B72E-75D5-41DC-AA52-7B33DA92537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3" descr="Indian migration.jpg"/>
          <p:cNvPicPr/>
          <p:nvPr/>
        </p:nvPicPr>
        <p:blipFill>
          <a:blip r:embed="rId1"/>
          <a:stretch/>
        </p:blipFill>
        <p:spPr>
          <a:xfrm>
            <a:off x="304920" y="762120"/>
            <a:ext cx="3733560" cy="495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ississippiancultures_map_HRoe_2008.jpg"/>
          <p:cNvPicPr/>
          <p:nvPr/>
        </p:nvPicPr>
        <p:blipFill>
          <a:blip r:embed="rId2"/>
          <a:stretch/>
        </p:blipFill>
        <p:spPr>
          <a:xfrm>
            <a:off x="4343400" y="990720"/>
            <a:ext cx="4048200" cy="4317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7"/>
          <p:cNvSpPr/>
          <p:nvPr/>
        </p:nvSpPr>
        <p:spPr>
          <a:xfrm>
            <a:off x="4615920" y="5638680"/>
            <a:ext cx="399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00 BCE: Development of farming in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west, with growth of population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tled c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5A07-9C4C-4C4D-ADCC-62B9169CCDD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D45D-2C24-4594-91DA-553639D6CD1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3" descr="AdenaHopewellMissMap.jpg"/>
          <p:cNvPicPr/>
          <p:nvPr/>
        </p:nvPicPr>
        <p:blipFill>
          <a:blip r:embed="rId1"/>
          <a:stretch/>
        </p:blipFill>
        <p:spPr>
          <a:xfrm>
            <a:off x="380880" y="762120"/>
            <a:ext cx="4419720" cy="45831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609480" y="5486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00 C.E.: Mound building age begins, to continue until about 13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6" descr="93538-004-1B84B585.jpg"/>
          <p:cNvPicPr/>
          <p:nvPr/>
        </p:nvPicPr>
        <p:blipFill>
          <a:blip r:embed="rId2"/>
          <a:stretch/>
        </p:blipFill>
        <p:spPr>
          <a:xfrm>
            <a:off x="5257800" y="838080"/>
            <a:ext cx="3195720" cy="2271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300px-Chromesun_kincaid_site_01.jpg"/>
          <p:cNvPicPr/>
          <p:nvPr/>
        </p:nvPicPr>
        <p:blipFill>
          <a:blip r:embed="rId3"/>
          <a:stretch/>
        </p:blipFill>
        <p:spPr>
          <a:xfrm>
            <a:off x="5181480" y="3352680"/>
            <a:ext cx="3062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CD7A-D57F-443A-8314-BF97A80CFF1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CBAC-93CF-4F88-AEF9-9B0A6F8D726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" descr="84499-004-017BFB9F.jpg"/>
          <p:cNvPicPr/>
          <p:nvPr/>
        </p:nvPicPr>
        <p:blipFill>
          <a:blip r:embed="rId1"/>
          <a:stretch/>
        </p:blipFill>
        <p:spPr>
          <a:xfrm>
            <a:off x="1295280" y="762120"/>
            <a:ext cx="6222960" cy="4128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2520" y="5257800"/>
            <a:ext cx="731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rp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ound: Built about 1075 C.E., in present-day Ohio; alm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¼ mile long or 1,330 feet; serpent’s head aligns with sunset on the summ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stice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4160-61B9-4DF3-BCEF-DC8188F97A7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EDE7-5FB7-495E-96D8-E3CB141561DD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4" descr="cahokia-mounds-b_w-web.gif"/>
          <p:cNvPicPr/>
          <p:nvPr/>
        </p:nvPicPr>
        <p:blipFill>
          <a:blip r:embed="rId1"/>
          <a:stretch/>
        </p:blipFill>
        <p:spPr>
          <a:xfrm>
            <a:off x="533520" y="228600"/>
            <a:ext cx="4778280" cy="3886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images-1.jpeg"/>
          <p:cNvPicPr/>
          <p:nvPr/>
        </p:nvPicPr>
        <p:blipFill>
          <a:blip r:embed="rId2"/>
          <a:stretch/>
        </p:blipFill>
        <p:spPr>
          <a:xfrm>
            <a:off x="5486400" y="457200"/>
            <a:ext cx="2941560" cy="2390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Cahokia2.jpg"/>
          <p:cNvPicPr/>
          <p:nvPr/>
        </p:nvPicPr>
        <p:blipFill>
          <a:blip r:embed="rId3"/>
          <a:stretch/>
        </p:blipFill>
        <p:spPr>
          <a:xfrm>
            <a:off x="380880" y="4191120"/>
            <a:ext cx="5104080" cy="1685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ahokia--300x300.jpg"/>
          <p:cNvPicPr/>
          <p:nvPr/>
        </p:nvPicPr>
        <p:blipFill>
          <a:blip r:embed="rId4"/>
          <a:stretch/>
        </p:blipFill>
        <p:spPr>
          <a:xfrm>
            <a:off x="5715000" y="2971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7"/>
          <p:cNvSpPr/>
          <p:nvPr/>
        </p:nvSpPr>
        <p:spPr>
          <a:xfrm>
            <a:off x="1122480" y="6172200"/>
            <a:ext cx="40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0 mounds built from 940 to 1200 C.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0D6A-9540-44DF-AEC7-A1F36297297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E653-2257-41FC-A690-CEF22119661D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3" descr="Cahokia - Mound 72.jpg"/>
          <p:cNvPicPr/>
          <p:nvPr/>
        </p:nvPicPr>
        <p:blipFill>
          <a:blip r:embed="rId1"/>
          <a:stretch/>
        </p:blipFill>
        <p:spPr>
          <a:xfrm>
            <a:off x="533520" y="762120"/>
            <a:ext cx="3598920" cy="1981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ahokia  - Mound 72 burial skeletons.jpg"/>
          <p:cNvPicPr/>
          <p:nvPr/>
        </p:nvPicPr>
        <p:blipFill>
          <a:blip r:embed="rId2"/>
          <a:stretch/>
        </p:blipFill>
        <p:spPr>
          <a:xfrm>
            <a:off x="6248520" y="685800"/>
            <a:ext cx="2298600" cy="3089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Cahokia - Mound 72 decapitted bodies.jpg"/>
          <p:cNvPicPr/>
          <p:nvPr/>
        </p:nvPicPr>
        <p:blipFill>
          <a:blip r:embed="rId3"/>
          <a:stretch/>
        </p:blipFill>
        <p:spPr>
          <a:xfrm>
            <a:off x="762120" y="3276720"/>
            <a:ext cx="2206440" cy="2617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Cahokia - Man buried on shells.jpg"/>
          <p:cNvPicPr/>
          <p:nvPr/>
        </p:nvPicPr>
        <p:blipFill>
          <a:blip r:embed="rId4"/>
          <a:stretch/>
        </p:blipFill>
        <p:spPr>
          <a:xfrm>
            <a:off x="3352680" y="39625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06:36Z</dcterms:created>
  <dc:creator/>
  <dc:description/>
  <dc:language>en-US</dc:language>
  <cp:lastModifiedBy>Robert Harrison</cp:lastModifiedBy>
  <cp:lastPrinted>2001-04-17T22:19:08Z</cp:lastPrinted>
  <dcterms:modified xsi:type="dcterms:W3CDTF">2011-10-17T15:30:03Z</dcterms:modified>
  <cp:revision>67</cp:revision>
  <dc:subject/>
  <dc:title>PowerPoint Presentation</dc:title>
</cp:coreProperties>
</file>