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F71C2-7A1C-400C-891F-C8F730B5B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FD01D-80B2-47CC-A08A-D93EC836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FCE83-5FE6-4B59-84B2-00F5A5D41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E2AB0-A63A-471D-8AC2-18F9BE373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E404A-6EB1-43DE-AF95-9FD203489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C8B69-894A-4EC1-B8B6-5B315B722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B1712-91D0-4D0D-85AF-5C9BC8832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457FF-620C-4383-A4EC-1A2E043F4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A96E9-D932-4A1A-9B9C-36572F89B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10F27-DFCD-47B7-B3A7-EAC8B8464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51444-AA63-48F1-9506-0DF41E8A8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11DB0-A437-46B3-BA86-38F95A50A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D148C-E0AC-48B5-A208-9D468A5F4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CAC06-36E1-46E1-8C8B-32DD2C2DA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3EF75-4259-4019-A50D-D4E996EDA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A4A4D-525D-4C7F-9BF0-47D9CD5BF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3FDD1-458A-4FF8-9FCE-9EE1EE391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6F22F-4CE6-4DC4-9C18-C2C973C62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2BDAF-50AB-4289-BFFF-0B4D22395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CCED-D53C-4D09-B382-47DAD0BA1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096CB-9246-4553-B404-B014D1139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DCE6A-D36D-4939-9DDF-C6C0FDCC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9AF7D-0321-4807-8BAE-92FD7352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A35E3-F512-43BA-953D-5F3DED711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08D2-FFF3-428E-A00E-4E517EB2F011}"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1B38-928D-46B6-A5E1-0C9E799C133F}"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Effect filter="plus(out)"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119"/>
                                        </p:tgtEl>
                                        <p:attrNameLst>
                                          <p:attrName>style.visibility</p:attrName>
                                        </p:attrNameLst>
                                      </p:cBhvr>
                                      <p:to>
                                        <p:strVal val="visible"/>
                                      </p:to>
                                    </p:set>
                                    <p:animEffect filter="diamond(in)" transition="in">
                                      <p:cBhvr additive="repl">
                                        <p:cTn id="1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