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BB5-E4F0-47E9-B4DD-F150105A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3A1-0E29-4C82-8D80-998E8A57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5BC-16BE-4578-99C2-50FBB37E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AD5-6E65-4021-BC80-15973D71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CAB68-AA25-48BA-BD8F-04D8BFC3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82EB5-2574-43DC-8335-C46B260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D7277-86E0-4BF3-A583-42E3C690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7097A-995C-477B-BE6D-2BB12853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C8FF3-9C90-47FF-943A-4333A999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AEBB0-8B75-448E-BB6B-DD42EFDB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8E415-0E6C-47A6-9B1F-D0CEBB5B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5CD-FE2D-4021-9B4F-87A2A35D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3061A-1CB7-40A7-A416-D54FE5A9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8B11E-C2C3-4959-981C-FD3F9D3A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43D13-06DC-4BB0-B59E-B64BBB19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13A21-63CF-475D-A34E-E3F67A46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64AFD-3323-40BC-811A-E2138860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8CF7-7819-4C19-9671-AC555B1F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7B63-5850-44D1-B5AC-5F92B69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5042-BA5D-4E8A-AA3E-87101FED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DB6E-1033-4694-98D6-4B4588A0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5503-71C8-4EE4-B149-56DB13DB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140-A70F-4BF9-871E-31D7593C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B3B4-AA02-49DF-845C-702295E9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0818-A6FB-41E2-A189-8508A33C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15E1-00BE-4C2D-BD2E-EFAAB42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74C2-4431-4849-82C8-194DFF0D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77CC9-B98A-478B-95A4-05958DC8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5235-E054-4A59-9278-213FDE6B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27B7-3386-446B-888A-445B76C3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C3E1-F6B8-4813-AFEF-ADCE1590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310A-2239-4FC2-B591-6A69EB4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AA6A-4BBD-4C35-A449-270E3D48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705-F978-4486-963D-64ABC425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F088-6272-4BAC-A107-F5E7272A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2868-B4BC-465A-9FD1-DD73C5B1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A363-F047-42D8-A8F8-FF85550F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93234-A194-45FC-8D62-C879A703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711F-C86E-4A5C-AB19-E7A8881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A7FA3-5921-4A8F-8A28-7BAFD7B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C00F-6A65-436C-B254-8F2B47C8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C10BE-AC70-43D3-8F6F-98FD9E7A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E1290-9F8C-491C-BD15-EC7D0F88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7F07-72F2-4423-93BB-BEA92D5D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B85-6A71-4414-B53A-EB448B4B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A9A9-BD76-4D97-8843-0BB3D70A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0DE5-9FC3-43C5-B0B5-8CB19C15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8B090-25A0-48B2-9091-34454C81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CF389-FFEC-41BB-8BF0-544F7FF8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23A16-BC7C-4FEB-A124-176DA11C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9C64E-CDD5-40C8-999B-9C10ADE2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1F449-E5EE-4EC0-8914-9068C520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1116C-D4E4-4C5F-B097-A0502F8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9552-ABF4-43B9-9B7F-213BA80D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147B-DC68-4A58-8126-3AFB1637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DB1-B07C-476A-A521-F50DCEBF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9B006-A790-4FAD-AB8E-5815B88F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9BA38-D969-462C-A866-DA549FED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D1DE6-EC9F-4B66-A8F5-D487649F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73A5-42CE-4862-AF7B-96D54C66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305B4-BC2B-4A4E-8BAE-96B7674A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6C3CA-B0A0-43D0-894A-AA542BF7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3B0EA-1E8E-4A66-8AAC-0FD0E3B6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8593B-1B37-4819-AF47-04AB501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4B205-392C-4176-9F4E-CDC679A6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6BCC1-FB07-4738-B55F-DE3FECC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D09-8E09-48C8-8DE9-D0405331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E7963-834C-47B3-940F-3377CD4E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16F58-644E-4DB6-82DD-66C16F4E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0DFF-2413-4E19-B9A2-FB5F38CF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502B4-A3CB-4737-9A1D-85FB43BA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03FD1-E714-4DEC-BED1-41912F8B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29D12-E0F5-4101-8CA3-2899B67E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9A3A8-97CC-4526-8B08-5078527F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17FA8-D1B5-4E41-84F6-83723A48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AC747-8F59-4F1F-B0A4-7ED84A5D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1DE9A-B42B-4237-9599-7F4090F0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CDF-4678-41C1-8234-623C22ED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0D22E-CB0A-4EA9-9200-D66B3749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FCF5D-EAD7-4656-BDFA-6FCD373D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6EA7-8F05-4C16-B405-31FCF668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AC74A-ADB0-4717-803E-E8B545DA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C9906-3937-4757-8B62-3FBF7DCF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0911B-C322-4A8F-8E9F-FA8871C6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F838D-D3CC-4461-84BE-D0D0D394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DD263-C26E-475C-AA27-2B4D95C4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DE5FA-8EA5-4DB3-A1A1-BC9B26B5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06CE9-D4BB-4B3D-BC30-06CC3CDC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895-BF42-44E0-B99F-0EF623F8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41BCE-664F-4F27-8BC2-36F4C0B3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E4825-905C-4DB3-B743-0C4E1C29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E3BA2-D2C7-4C68-8977-98422CA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8ED04-DDCA-43E6-B36A-3F54EB7A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3DB4B-0265-415B-8585-BC72E804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55C50-A925-43E6-BF1C-3442E0F7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5B3B-5D2E-44C4-ADE3-03F8B926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F68D-82C5-46E1-B810-CDA9EA95CBB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17AE-658E-4569-B22B-99E29847CE2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915C-CFF9-47CF-A4AD-423F24A317B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D4F-B8DF-4CB5-93B7-8350CBA8CAEB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93F1-CAA9-405F-B7CE-10F762EB6C6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F864-B8CC-4D77-9BDC-60C9DB7AA66E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A88F-D9A8-4C76-BAE7-03E35588BFC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F40E-67F6-497A-8DDC-8B7C48DBCEC6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6EA9-67AB-478C-AC1B-9D9B4E6555F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6D2C-16FE-48A7-9319-AACA7AD96E1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B0F7-EE78-4464-BA03-8870F239B2FC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431E-57D8-4153-A465-4C29C6A370C3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91E2-E754-4AB0-99E5-1870AA7A8F8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803-62A0-4BC3-8E75-DEFF6F06CC9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37B7-F540-45B1-A123-55C51117290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74EB-4C7F-406B-A369-4143C83B967B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6"/>
          <p:cNvSpPr/>
          <p:nvPr/>
        </p:nvSpPr>
        <p:spPr>
          <a:xfrm>
            <a:off x="4751640" y="3429000"/>
            <a:ext cx="358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 the two thousand years since the sars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d been dragged to Stonehenge, th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scape around Sarum had not chang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ch.  Woods of oak and ash, elm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zel still graced the broad bowl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d where the five rivers met.  . . B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re were changes: sheep now graz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sacred precincts where the mello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ey stones of the henge, still standing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ir magic circle, were seldom visited 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wed many signs of disrepair.  Th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rrows were overgrown with turf, and 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w ones had been built for generations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8" descr="Sarum, mounds.jpg"/>
          <p:cNvPicPr/>
          <p:nvPr/>
        </p:nvPicPr>
        <p:blipFill>
          <a:blip r:embed="rId1"/>
          <a:stretch/>
        </p:blipFill>
        <p:spPr>
          <a:xfrm>
            <a:off x="609480" y="2438280"/>
            <a:ext cx="2806920" cy="21081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onehenge goodbye.jpg"/>
          <p:cNvPicPr/>
          <p:nvPr/>
        </p:nvPicPr>
        <p:blipFill>
          <a:blip r:embed="rId2"/>
          <a:stretch/>
        </p:blipFill>
        <p:spPr>
          <a:xfrm>
            <a:off x="1066680" y="304920"/>
            <a:ext cx="2722680" cy="2047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arum, woods.jpg"/>
          <p:cNvPicPr/>
          <p:nvPr/>
        </p:nvPicPr>
        <p:blipFill>
          <a:blip r:embed="rId3"/>
          <a:stretch/>
        </p:blipFill>
        <p:spPr>
          <a:xfrm>
            <a:off x="4038480" y="609480"/>
            <a:ext cx="3353040" cy="252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Sheep at Sarum.jpg"/>
          <p:cNvPicPr/>
          <p:nvPr/>
        </p:nvPicPr>
        <p:blipFill>
          <a:blip r:embed="rId4"/>
          <a:stretch/>
        </p:blipFill>
        <p:spPr>
          <a:xfrm>
            <a:off x="1905120" y="4800600"/>
            <a:ext cx="217944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37E6-A053-4E46-B12B-FD2C0CB6A53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092C-F42B-4E66-B273-2FB8F4FAB75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5" descr="Gilcreaseclub08.JPG.jpeg"/>
          <p:cNvPicPr/>
          <p:nvPr/>
        </p:nvPicPr>
        <p:blipFill>
          <a:blip r:embed="rId1"/>
          <a:stretch/>
        </p:blipFill>
        <p:spPr>
          <a:xfrm>
            <a:off x="4343400" y="533520"/>
            <a:ext cx="3645000" cy="2755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ptscty55aclr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048120" cy="24638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igRamey.JPG.jpeg"/>
          <p:cNvPicPr/>
          <p:nvPr/>
        </p:nvPicPr>
        <p:blipFill>
          <a:blip r:embed="rId3"/>
          <a:stretch/>
        </p:blipFill>
        <p:spPr>
          <a:xfrm>
            <a:off x="685800" y="685800"/>
            <a:ext cx="2833560" cy="2055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pttech36clr2.jpg"/>
          <p:cNvPicPr/>
          <p:nvPr/>
        </p:nvPicPr>
        <p:blipFill>
          <a:blip r:embed="rId4"/>
          <a:stretch/>
        </p:blipFill>
        <p:spPr>
          <a:xfrm>
            <a:off x="762120" y="3352680"/>
            <a:ext cx="3365280" cy="260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9B0F-CF42-454F-AF4F-6643F4676ED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E085-F8C0-4668-A39E-B482B14238A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birger.jpg"/>
          <p:cNvPicPr/>
          <p:nvPr/>
        </p:nvPicPr>
        <p:blipFill>
          <a:blip r:embed="rId1"/>
          <a:stretch/>
        </p:blipFill>
        <p:spPr>
          <a:xfrm>
            <a:off x="380880" y="533520"/>
            <a:ext cx="2976840" cy="3287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birger2.jpg"/>
          <p:cNvPicPr/>
          <p:nvPr/>
        </p:nvPicPr>
        <p:blipFill>
          <a:blip r:embed="rId2"/>
          <a:stretch/>
        </p:blipFill>
        <p:spPr>
          <a:xfrm>
            <a:off x="6248520" y="3276720"/>
            <a:ext cx="2539800" cy="3098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Birger3.jpg"/>
          <p:cNvPicPr/>
          <p:nvPr/>
        </p:nvPicPr>
        <p:blipFill>
          <a:blip r:embed="rId3"/>
          <a:stretch/>
        </p:blipFill>
        <p:spPr>
          <a:xfrm>
            <a:off x="3657600" y="1371600"/>
            <a:ext cx="254016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C4EB-62D3-40B8-BE06-5F2B5482227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A48B-F830-4539-A655-15C0EB057C08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9" descr="images-4.jpeg"/>
          <p:cNvPicPr/>
          <p:nvPr/>
        </p:nvPicPr>
        <p:blipFill>
          <a:blip r:embed="rId1"/>
          <a:stretch/>
        </p:blipFill>
        <p:spPr>
          <a:xfrm>
            <a:off x="6400800" y="2971800"/>
            <a:ext cx="2031840" cy="245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images-3.jpeg"/>
          <p:cNvPicPr/>
          <p:nvPr/>
        </p:nvPicPr>
        <p:blipFill>
          <a:blip r:embed="rId2"/>
          <a:stretch/>
        </p:blipFill>
        <p:spPr>
          <a:xfrm>
            <a:off x="4038480" y="914400"/>
            <a:ext cx="1835280" cy="3276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peetBirdman.gif"/>
          <p:cNvPicPr/>
          <p:nvPr/>
        </p:nvPicPr>
        <p:blipFill>
          <a:blip r:embed="rId3"/>
          <a:stretch/>
        </p:blipFill>
        <p:spPr>
          <a:xfrm>
            <a:off x="609480" y="990720"/>
            <a:ext cx="3283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65AE-19AE-47F6-966C-0A85581806CE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FB49-2462-489E-9C71-C7F7EC6AABD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Picture 3" descr="CahokiaWoodhenge.gif"/>
          <p:cNvPicPr/>
          <p:nvPr/>
        </p:nvPicPr>
        <p:blipFill>
          <a:blip r:embed="rId1"/>
          <a:stretch/>
        </p:blipFill>
        <p:spPr>
          <a:xfrm>
            <a:off x="3809880" y="990720"/>
            <a:ext cx="4687920" cy="3581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explore_centralpalisades.jpg"/>
          <p:cNvPicPr/>
          <p:nvPr/>
        </p:nvPicPr>
        <p:blipFill>
          <a:blip r:embed="rId2"/>
          <a:stretch/>
        </p:blipFill>
        <p:spPr>
          <a:xfrm>
            <a:off x="762120" y="533520"/>
            <a:ext cx="2271600" cy="2260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Palisade1.JPG.jpeg"/>
          <p:cNvPicPr/>
          <p:nvPr/>
        </p:nvPicPr>
        <p:blipFill>
          <a:blip r:embed="rId3"/>
          <a:stretch/>
        </p:blipFill>
        <p:spPr>
          <a:xfrm>
            <a:off x="762120" y="3200400"/>
            <a:ext cx="2889000" cy="2166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6"/>
          <p:cNvSpPr/>
          <p:nvPr/>
        </p:nvSpPr>
        <p:spPr>
          <a:xfrm>
            <a:off x="4284360" y="2971800"/>
            <a:ext cx="458676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small wooded hill which stood guardi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the valley had been completely transform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had been a promontory really, a natur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ump jutting out of the high ground; but severa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uries ago, the old promontory had be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raped bare and round the entire summit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me thirty acres, two massive banks of ear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d chalk had been thrown up, with a deep dit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tween them.  The lightly wooded hill h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en transformed into a bold, bare mound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ther unsightly, with a steep slope on eve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de. . . The people of Sarum, using a Celt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m, called this fortress the dun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. 14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5" descr="Sarum hill.jpg"/>
          <p:cNvPicPr/>
          <p:nvPr/>
        </p:nvPicPr>
        <p:blipFill>
          <a:blip r:embed="rId1"/>
          <a:stretch/>
        </p:blipFill>
        <p:spPr>
          <a:xfrm>
            <a:off x="380880" y="228600"/>
            <a:ext cx="3759480" cy="281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Sarum hill with sign.jpg"/>
          <p:cNvPicPr/>
          <p:nvPr/>
        </p:nvPicPr>
        <p:blipFill>
          <a:blip r:embed="rId2"/>
          <a:stretch/>
        </p:blipFill>
        <p:spPr>
          <a:xfrm>
            <a:off x="4648320" y="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Sarum ditch.jpg"/>
          <p:cNvPicPr/>
          <p:nvPr/>
        </p:nvPicPr>
        <p:blipFill>
          <a:blip r:embed="rId3"/>
          <a:stretch/>
        </p:blipFill>
        <p:spPr>
          <a:xfrm>
            <a:off x="304920" y="35053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B578-C922-42F1-8FF3-A35554A9062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DF58-E5F3-4301-98D2-51D3F2449F6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US_tribes_map.jpg"/>
          <p:cNvPicPr/>
          <p:nvPr/>
        </p:nvPicPr>
        <p:blipFill>
          <a:blip r:embed="rId1"/>
          <a:stretch/>
        </p:blipFill>
        <p:spPr>
          <a:xfrm>
            <a:off x="457200" y="38088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images-7.jpeg"/>
          <p:cNvPicPr/>
          <p:nvPr/>
        </p:nvPicPr>
        <p:blipFill>
          <a:blip r:embed="rId2"/>
          <a:stretch/>
        </p:blipFill>
        <p:spPr>
          <a:xfrm>
            <a:off x="1523880" y="4419720"/>
            <a:ext cx="1695600" cy="1695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images-6.jpeg"/>
          <p:cNvPicPr/>
          <p:nvPr/>
        </p:nvPicPr>
        <p:blipFill>
          <a:blip r:embed="rId3"/>
          <a:stretch/>
        </p:blipFill>
        <p:spPr>
          <a:xfrm>
            <a:off x="6172200" y="457200"/>
            <a:ext cx="1668600" cy="1720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3" descr="images-2.jpeg"/>
          <p:cNvPicPr/>
          <p:nvPr/>
        </p:nvPicPr>
        <p:blipFill>
          <a:blip r:embed="rId4"/>
          <a:stretch/>
        </p:blipFill>
        <p:spPr>
          <a:xfrm>
            <a:off x="5867280" y="2362320"/>
            <a:ext cx="2095560" cy="1612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tunica.jpg"/>
          <p:cNvPicPr/>
          <p:nvPr/>
        </p:nvPicPr>
        <p:blipFill>
          <a:blip r:embed="rId5"/>
          <a:stretch/>
        </p:blipFill>
        <p:spPr>
          <a:xfrm>
            <a:off x="4800600" y="4267080"/>
            <a:ext cx="324180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DA27-C8F4-4EAE-B055-848E72A3650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cahokia mounds_5 ENHANCED.jpg"/>
          <p:cNvPicPr/>
          <p:nvPr/>
        </p:nvPicPr>
        <p:blipFill>
          <a:blip r:embed="rId1"/>
          <a:stretch/>
        </p:blipFill>
        <p:spPr>
          <a:xfrm>
            <a:off x="609480" y="3124080"/>
            <a:ext cx="3829320" cy="23734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7"/>
          <p:cNvSpPr/>
          <p:nvPr/>
        </p:nvSpPr>
        <p:spPr>
          <a:xfrm>
            <a:off x="533520" y="5410080"/>
            <a:ext cx="46080" cy="22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50: Cahokia number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bout 20,000, largest city i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th America until Philadelph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 18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8" descr="Cahokia_village.jpeg"/>
          <p:cNvPicPr/>
          <p:nvPr/>
        </p:nvPicPr>
        <p:blipFill>
          <a:blip r:embed="rId2"/>
          <a:stretch/>
        </p:blipFill>
        <p:spPr>
          <a:xfrm>
            <a:off x="685800" y="990720"/>
            <a:ext cx="3878280" cy="1447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images-2.jpeg"/>
          <p:cNvPicPr/>
          <p:nvPr/>
        </p:nvPicPr>
        <p:blipFill>
          <a:blip r:embed="rId3"/>
          <a:stretch/>
        </p:blipFill>
        <p:spPr>
          <a:xfrm>
            <a:off x="4724280" y="1523880"/>
            <a:ext cx="40388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BE73-1386-4F07-ACAC-B8BF580A9214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3" descr="Indian migration.jpg"/>
          <p:cNvPicPr/>
          <p:nvPr/>
        </p:nvPicPr>
        <p:blipFill>
          <a:blip r:embed="rId1"/>
          <a:stretch/>
        </p:blipFill>
        <p:spPr>
          <a:xfrm>
            <a:off x="304920" y="762120"/>
            <a:ext cx="3733560" cy="495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Mississippiancultures_map_HRoe_2008.jpg"/>
          <p:cNvPicPr/>
          <p:nvPr/>
        </p:nvPicPr>
        <p:blipFill>
          <a:blip r:embed="rId2"/>
          <a:stretch/>
        </p:blipFill>
        <p:spPr>
          <a:xfrm>
            <a:off x="4343400" y="990720"/>
            <a:ext cx="4048200" cy="43178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7"/>
          <p:cNvSpPr/>
          <p:nvPr/>
        </p:nvSpPr>
        <p:spPr>
          <a:xfrm>
            <a:off x="4615920" y="5638680"/>
            <a:ext cx="399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00 BCE: Development of farming in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west, with growth of population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tled cit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1FE8-AC64-49B1-9A64-72CE7F6A0AC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42D-D30E-4748-9AA2-15BD5F464075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Picture 3" descr="AdenaHopewellMissMap.jpg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4583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60948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00 C.E.: Mound building age begins, to continue until about 13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6" descr="93538-004-1B84B585.jpg"/>
          <p:cNvPicPr/>
          <p:nvPr/>
        </p:nvPicPr>
        <p:blipFill>
          <a:blip r:embed="rId2"/>
          <a:stretch/>
        </p:blipFill>
        <p:spPr>
          <a:xfrm>
            <a:off x="5257800" y="838080"/>
            <a:ext cx="3195720" cy="2271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300px-Chromesun_kincaid_site_01.jpg"/>
          <p:cNvPicPr/>
          <p:nvPr/>
        </p:nvPicPr>
        <p:blipFill>
          <a:blip r:embed="rId3"/>
          <a:stretch/>
        </p:blipFill>
        <p:spPr>
          <a:xfrm>
            <a:off x="5181480" y="33526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532B-CB17-42E1-AF98-748C387CEC0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F6E0-BA3F-426B-81C4-AF711A1C793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" descr="84499-004-017BFB9F.jpg"/>
          <p:cNvPicPr/>
          <p:nvPr/>
        </p:nvPicPr>
        <p:blipFill>
          <a:blip r:embed="rId1"/>
          <a:stretch/>
        </p:blipFill>
        <p:spPr>
          <a:xfrm>
            <a:off x="1295280" y="762120"/>
            <a:ext cx="6222960" cy="4128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2520" y="5257800"/>
            <a:ext cx="731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rp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ound: Built about 1075 C.E., in present-day Ohio; alm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¼ mile long or 1,330 feet; serpent’s head aligns with sunset on the summ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stice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5109-61E1-4316-8DD5-8E6518B9226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312A-275A-4CCE-8A84-CFFDF208E26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4" descr="cahokia-mounds-b_w-web.gif"/>
          <p:cNvPicPr/>
          <p:nvPr/>
        </p:nvPicPr>
        <p:blipFill>
          <a:blip r:embed="rId1"/>
          <a:stretch/>
        </p:blipFill>
        <p:spPr>
          <a:xfrm>
            <a:off x="533520" y="228600"/>
            <a:ext cx="4778280" cy="3886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images-1.jpeg"/>
          <p:cNvPicPr/>
          <p:nvPr/>
        </p:nvPicPr>
        <p:blipFill>
          <a:blip r:embed="rId2"/>
          <a:stretch/>
        </p:blipFill>
        <p:spPr>
          <a:xfrm>
            <a:off x="5486400" y="457200"/>
            <a:ext cx="2941560" cy="2390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Cahokia2.jpg"/>
          <p:cNvPicPr/>
          <p:nvPr/>
        </p:nvPicPr>
        <p:blipFill>
          <a:blip r:embed="rId3"/>
          <a:stretch/>
        </p:blipFill>
        <p:spPr>
          <a:xfrm>
            <a:off x="380880" y="4191120"/>
            <a:ext cx="5104080" cy="1685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ahokia--300x300.jpg"/>
          <p:cNvPicPr/>
          <p:nvPr/>
        </p:nvPicPr>
        <p:blipFill>
          <a:blip r:embed="rId4"/>
          <a:stretch/>
        </p:blipFill>
        <p:spPr>
          <a:xfrm>
            <a:off x="5715000" y="2971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7"/>
          <p:cNvSpPr/>
          <p:nvPr/>
        </p:nvSpPr>
        <p:spPr>
          <a:xfrm>
            <a:off x="1122480" y="6172200"/>
            <a:ext cx="40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0 mounds built from 940 to 1200 C.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71F9-22F3-4E6F-9927-EB640FBCE1B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lide Number Placeholder 2"/>
          <p:cNvSpPr/>
          <p:nvPr/>
        </p:nvSpPr>
        <p:spPr>
          <a:xfrm>
            <a:off x="379440" y="6149880"/>
            <a:ext cx="5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7AD0-0D97-49A9-9AF3-1B828EC2E70C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3" descr="Cahokia - Mound 72.jpg"/>
          <p:cNvPicPr/>
          <p:nvPr/>
        </p:nvPicPr>
        <p:blipFill>
          <a:blip r:embed="rId1"/>
          <a:stretch/>
        </p:blipFill>
        <p:spPr>
          <a:xfrm>
            <a:off x="533520" y="762120"/>
            <a:ext cx="3598920" cy="1981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ahokia  - Mound 72 burial skeletons.jpg"/>
          <p:cNvPicPr/>
          <p:nvPr/>
        </p:nvPicPr>
        <p:blipFill>
          <a:blip r:embed="rId2"/>
          <a:stretch/>
        </p:blipFill>
        <p:spPr>
          <a:xfrm>
            <a:off x="6248520" y="685800"/>
            <a:ext cx="2298600" cy="3089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ahokia - Mound 72 decapitted bodies.jpg"/>
          <p:cNvPicPr/>
          <p:nvPr/>
        </p:nvPicPr>
        <p:blipFill>
          <a:blip r:embed="rId3"/>
          <a:stretch/>
        </p:blipFill>
        <p:spPr>
          <a:xfrm>
            <a:off x="762120" y="3276720"/>
            <a:ext cx="2206440" cy="2617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Cahokia - Man buried on shells.jpg"/>
          <p:cNvPicPr/>
          <p:nvPr/>
        </p:nvPicPr>
        <p:blipFill>
          <a:blip r:embed="rId4"/>
          <a:stretch/>
        </p:blipFill>
        <p:spPr>
          <a:xfrm>
            <a:off x="3352680" y="39625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3:06:36Z</dcterms:created>
  <dc:creator/>
  <dc:description/>
  <dc:language>en-US</dc:language>
  <cp:lastModifiedBy>Robert Harrison</cp:lastModifiedBy>
  <cp:lastPrinted>2001-04-17T22:19:08Z</cp:lastPrinted>
  <dcterms:modified xsi:type="dcterms:W3CDTF">2011-10-17T15:30:03Z</dcterms:modified>
  <cp:revision>67</cp:revision>
  <dc:subject/>
  <dc:title>PowerPoint Presentation</dc:title>
</cp:coreProperties>
</file>