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73B-0EBE-4265-B48B-A8DB1174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AD1-14BA-4B80-ADF7-9202330F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7E0-BFAF-442A-B051-8BC37748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769-A5BB-43F7-A8D1-395A28FA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D916-1E98-4B4E-885E-2E109A95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272F-3192-45C8-9E01-9491AD17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8195-D7E7-48BF-9DA3-1C66AAF6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2282-2765-434F-BAAD-56BF40B9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B184-BE06-444E-AC83-858451C1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B3E9-63CC-48B0-B951-84AE1C6E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62DF-F141-42DA-AB43-AFC72A82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765-D4D7-494D-BDDA-932A36B0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EDD7-9874-45E3-9B21-D52E655F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8DB0-55A9-48E0-85A6-9D75FD7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F7AE-F32E-4DAD-A89D-0DDB77D7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4A12-BD42-4630-AD6E-329D64B9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9107-EFD5-4920-9EE8-733B2A94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816-DA77-4D57-9943-C37870D2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0BE-B9F7-42D2-A02D-F3C60CD5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562-5ECD-4655-9578-49C8F22B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6D5-822A-445E-A485-7746A3AE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A5C-BD3A-44C7-9628-0668CD49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BE6-FFAD-4ECF-BD3E-F6ABD20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47D-FA00-49F7-A5D4-C70AD61B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698B-C3AF-426E-A71F-0FA8088164C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6EE3-7932-49AB-B96C-D400608C11D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s: A New Tradi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Greeks%20--%20Ancient%20Greece,%20good%20map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792240" cy="4267080"/>
          </a:xfrm>
          <a:prstGeom prst="rect">
            <a:avLst/>
          </a:prstGeom>
          <a:ln w="0">
            <a:noFill/>
          </a:ln>
        </p:spPr>
      </p:pic>
      <p:pic>
        <p:nvPicPr>
          <p:cNvPr id="92" name="Greeks%20--%20Daedalus%20with%20Icarus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0639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llenistic Sculpture: Laoco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Greeks%20--%20Laocoon%20sculpture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50292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Drama: Tragedy and Comed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4" name="Greeks%20--%20Theatre%20of%20Dionysus,%20ruin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phocles: Oedipus and Antigon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Greeks%20--%20Theatre%20of%20Dionysus%20from%20spectator's%20view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Greeks%20--%20Actors%20with%20masks%20mosaic" descr=""/>
          <p:cNvPicPr/>
          <p:nvPr/>
        </p:nvPicPr>
        <p:blipFill>
          <a:blip r:embed="rId2"/>
          <a:stretch/>
        </p:blipFill>
        <p:spPr>
          <a:xfrm>
            <a:off x="0" y="2895480"/>
            <a:ext cx="3809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Greek hero:  Odysse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Greeks%20--%20Odssey,%20map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8769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Greeks%20--%20Wooden%20horse" descr=""/>
          <p:cNvPicPr/>
          <p:nvPr/>
        </p:nvPicPr>
        <p:blipFill>
          <a:blip r:embed="rId2"/>
          <a:stretch/>
        </p:blipFill>
        <p:spPr>
          <a:xfrm>
            <a:off x="6019920" y="2057400"/>
            <a:ext cx="2295360" cy="3605040"/>
          </a:xfrm>
          <a:prstGeom prst="rect">
            <a:avLst/>
          </a:prstGeom>
          <a:ln w="0">
            <a:noFill/>
          </a:ln>
        </p:spPr>
      </p:pic>
      <p:pic>
        <p:nvPicPr>
          <p:cNvPr id="96" name="Greeks%20--%20The%20Cyclops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Greeks%20--%20Scylla" descr=""/>
          <p:cNvPicPr/>
          <p:nvPr/>
        </p:nvPicPr>
        <p:blipFill>
          <a:blip r:embed="rId4"/>
          <a:stretch/>
        </p:blipFill>
        <p:spPr>
          <a:xfrm>
            <a:off x="3048120" y="4343400"/>
            <a:ext cx="24382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Greek Civilization: the Classical Spirit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Greeks%20--%20Map%20of%20Greece%20%23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3386160"/>
          </a:xfrm>
          <a:prstGeom prst="rect">
            <a:avLst/>
          </a:prstGeom>
          <a:ln w="0">
            <a:noFill/>
          </a:ln>
        </p:spPr>
      </p:pic>
      <p:pic>
        <p:nvPicPr>
          <p:cNvPr id="100" name="Ancient%20Near%20East%20trade%20routes%20map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05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Art and Archite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2" name="57%20chevy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29000" cy="1965240"/>
          </a:xfrm>
          <a:prstGeom prst="rect">
            <a:avLst/>
          </a:prstGeom>
          <a:ln w="0">
            <a:noFill/>
          </a:ln>
        </p:spPr>
      </p:pic>
      <p:pic>
        <p:nvPicPr>
          <p:cNvPr id="103" name="Gone%20with%20the%20Wind%20poster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2820960" cy="4534200"/>
          </a:xfrm>
          <a:prstGeom prst="rect">
            <a:avLst/>
          </a:prstGeom>
          <a:ln w="0">
            <a:noFill/>
          </a:ln>
        </p:spPr>
      </p:pic>
      <p:pic>
        <p:nvPicPr>
          <p:cNvPr id="104" name="Babe%20Ruth" descr=""/>
          <p:cNvPicPr/>
          <p:nvPr/>
        </p:nvPicPr>
        <p:blipFill>
          <a:blip r:embed="rId3"/>
          <a:stretch/>
        </p:blipFill>
        <p:spPr>
          <a:xfrm>
            <a:off x="1828800" y="3809880"/>
            <a:ext cx="221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arly Greek sculpture: the “Kouros” and “Kor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Greeks%20--%20Kouros,%20%232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68400" cy="4719600"/>
          </a:xfrm>
          <a:prstGeom prst="rect">
            <a:avLst/>
          </a:prstGeom>
          <a:ln w="0">
            <a:noFill/>
          </a:ln>
        </p:spPr>
      </p:pic>
      <p:pic>
        <p:nvPicPr>
          <p:cNvPr id="107" name="Greeks%20--%20Kore,%20490%20BCE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66760" cy="4267080"/>
          </a:xfrm>
          <a:prstGeom prst="rect">
            <a:avLst/>
          </a:prstGeom>
          <a:ln w="0">
            <a:noFill/>
          </a:ln>
        </p:spPr>
      </p:pic>
      <p:pic>
        <p:nvPicPr>
          <p:cNvPr id="108" name="Egypt%20--%20Akhenaton%20statue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1600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reek Naturalism: “Kritian” Boy and “Discobolus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Greeks%20--%20Kritian%20boy" descr=""/>
          <p:cNvPicPr/>
          <p:nvPr/>
        </p:nvPicPr>
        <p:blipFill>
          <a:blip r:embed="rId1"/>
          <a:stretch/>
        </p:blipFill>
        <p:spPr>
          <a:xfrm>
            <a:off x="1447920" y="1967040"/>
            <a:ext cx="2293920" cy="4890960"/>
          </a:xfrm>
          <a:prstGeom prst="rect">
            <a:avLst/>
          </a:prstGeom>
          <a:ln w="0">
            <a:noFill/>
          </a:ln>
        </p:spPr>
      </p:pic>
      <p:pic>
        <p:nvPicPr>
          <p:cNvPr id="111" name="Greeks%20--%20Discus%20thrower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ical Architecture: Parthenon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Greeks%20--%20Parthenon,%20image%20%231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451400" cy="3233880"/>
          </a:xfrm>
          <a:prstGeom prst="rect">
            <a:avLst/>
          </a:prstGeom>
          <a:ln w="0">
            <a:noFill/>
          </a:ln>
        </p:spPr>
      </p:pic>
      <p:pic>
        <p:nvPicPr>
          <p:cNvPr id="114" name="Greeks%20--%20Acropolis%20and%20theatre,%20aerial%20view" descr=""/>
          <p:cNvPicPr/>
          <p:nvPr/>
        </p:nvPicPr>
        <p:blipFill>
          <a:blip r:embed="rId2"/>
          <a:stretch/>
        </p:blipFill>
        <p:spPr>
          <a:xfrm>
            <a:off x="0" y="1905120"/>
            <a:ext cx="4648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 Sculptures: Pediments and Freiz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Greeks%20--%20Parthenon,%20freize%20depiction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87760" cy="3268800"/>
          </a:xfrm>
          <a:prstGeom prst="rect">
            <a:avLst/>
          </a:prstGeom>
          <a:ln w="0">
            <a:noFill/>
          </a:ln>
        </p:spPr>
      </p:pic>
      <p:pic>
        <p:nvPicPr>
          <p:cNvPr id="117" name="Greeks%20--%20Parthenon%20pediment%20sculpture" descr=""/>
          <p:cNvPicPr/>
          <p:nvPr/>
        </p:nvPicPr>
        <p:blipFill>
          <a:blip r:embed="rId2"/>
          <a:stretch/>
        </p:blipFill>
        <p:spPr>
          <a:xfrm>
            <a:off x="0" y="3624120"/>
            <a:ext cx="4562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thenon: Statue of Athen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Greeks%20--%20parthenon,%20statue%20of%20Athena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505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Greeks%20--%20parthenon,%20original%20appearance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47703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2:29:30Z</dcterms:created>
  <dc:creator>faculty</dc:creator>
  <dc:description/>
  <dc:language>en-US</dc:language>
  <cp:lastModifiedBy>faculty</cp:lastModifiedBy>
  <dcterms:modified xsi:type="dcterms:W3CDTF">2005-03-15T02:12:42Z</dcterms:modified>
  <cp:revision>3</cp:revision>
  <dc:subject/>
  <dc:title>    Greek Art and Architecture</dc:title>
</cp:coreProperties>
</file>