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explod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44C-A34E-4749-96A5-05846D06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2F7-3E55-40E9-A93D-94A99AF1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AC1-B3AB-440C-B57C-E18E8BC0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718-8513-4E64-93FA-D4B30CF8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F8E2-710C-42A1-8AFE-396FF779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4183-F97B-4FF2-BAA9-7AD5C4CB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8CB2-0F23-4308-ACAF-6FB9D74F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DB5C-8EFE-4905-ACED-C77C51AE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9664-858C-4769-AD32-3815D154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79D3-1D42-424B-9C47-435D2A41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440F-C0AE-476B-A7B0-6181E8C5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676-6F6F-4D75-930B-AB6C12D0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4983-951A-4A71-BADE-899E64E9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409F-7370-4FF9-9F4D-F7FF2289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414A-02F1-40F0-B1D9-6ACDF832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2E08-DF37-4C30-88B9-817BD47E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03AE-629C-422A-82D2-2038E7D6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E35-8BCA-4D6E-B4D5-68D64542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75E-87EB-4EEB-A1FF-B033B27C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959-7D77-406C-996B-782F58FD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34B-30F3-4101-8E63-9B471A39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B89-7903-49AA-BBD0-9A4EFB0D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2B7-3211-4058-B212-A39F6F75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A8A-8E12-4C0D-B59E-D0F56FDB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8760-7E5D-4FA1-9240-3CFAC96D1D1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4704-F8AF-4F26-901A-992E6BBC79F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oncord Naval Weapons Station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486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oncord Station - Protest photo"/>
          <p:cNvPicPr/>
          <p:nvPr/>
        </p:nvPicPr>
        <p:blipFill>
          <a:blip r:embed="rId2"/>
          <a:stretch/>
        </p:blipFill>
        <p:spPr>
          <a:xfrm>
            <a:off x="4724280" y="1523880"/>
            <a:ext cx="3784680" cy="2505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533520" y="990720"/>
            <a:ext cx="87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eptember 1, 1987: Concord Nuclear Weapons S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5" descr="pic 1.jpg"/>
          <p:cNvPicPr/>
          <p:nvPr/>
        </p:nvPicPr>
        <p:blipFill>
          <a:blip r:embed="rId3"/>
          <a:stretch/>
        </p:blipFill>
        <p:spPr>
          <a:xfrm>
            <a:off x="1066680" y="4133880"/>
            <a:ext cx="293868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pic 2.jpg"/>
          <p:cNvPicPr/>
          <p:nvPr/>
        </p:nvPicPr>
        <p:blipFill>
          <a:blip r:embed="rId4"/>
          <a:stretch/>
        </p:blipFill>
        <p:spPr>
          <a:xfrm>
            <a:off x="4876920" y="4267080"/>
            <a:ext cx="2793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Greeks -- Theatre of Dionysus, ruin"/>
          <p:cNvPicPr/>
          <p:nvPr/>
        </p:nvPicPr>
        <p:blipFill>
          <a:blip r:embed="rId1"/>
          <a:stretch/>
        </p:blipFill>
        <p:spPr>
          <a:xfrm>
            <a:off x="1295280" y="43434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5179320" y="1981080"/>
            <a:ext cx="3531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rama developed fr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itual dances and worshi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Dionysu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, God of wi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nd emo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Hubris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”: Tragic flaw cau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ne with great power 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all through iron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“</a:t>
            </a:r>
            <a:r>
              <a:rPr b="1" i="1" lang="en-US" sz="2000" spc="-1" strike="noStrike" u="sng">
                <a:solidFill>
                  <a:srgbClr val="5b5249"/>
                </a:solidFill>
                <a:uFillTx/>
                <a:latin typeface="Times New Roman"/>
              </a:rPr>
              <a:t>Catharsis”: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Vicariou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dentification of people wit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haracters, leading to relea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f emotion and exploration of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onflicting issues, especially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Individual vs. the Communit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5" descr="Greeks -- Theatre of Dionysus in Athens"/>
          <p:cNvPicPr/>
          <p:nvPr/>
        </p:nvPicPr>
        <p:blipFill>
          <a:blip r:embed="rId2"/>
          <a:stretch/>
        </p:blipFill>
        <p:spPr>
          <a:xfrm>
            <a:off x="1371600" y="182880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reeks - Antigone, modern poster"/>
          <p:cNvPicPr/>
          <p:nvPr/>
        </p:nvPicPr>
        <p:blipFill>
          <a:blip r:embed="rId1"/>
          <a:stretch/>
        </p:blipFill>
        <p:spPr>
          <a:xfrm>
            <a:off x="228600" y="83808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Greeks - Antigone and Ismene"/>
          <p:cNvPicPr/>
          <p:nvPr/>
        </p:nvPicPr>
        <p:blipFill>
          <a:blip r:embed="rId2"/>
          <a:stretch/>
        </p:blipFill>
        <p:spPr>
          <a:xfrm>
            <a:off x="4343400" y="685800"/>
            <a:ext cx="1982880" cy="29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Greeks - Antigone and Haemon"/>
          <p:cNvPicPr/>
          <p:nvPr/>
        </p:nvPicPr>
        <p:blipFill>
          <a:blip r:embed="rId3"/>
          <a:stretch/>
        </p:blipFill>
        <p:spPr>
          <a:xfrm>
            <a:off x="4191120" y="4038480"/>
            <a:ext cx="3193920" cy="226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Greeks - Antigone and Creon"/>
          <p:cNvPicPr/>
          <p:nvPr/>
        </p:nvPicPr>
        <p:blipFill>
          <a:blip r:embed="rId4"/>
          <a:stretch/>
        </p:blipFill>
        <p:spPr>
          <a:xfrm>
            <a:off x="45720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Greeks - Oedipus blind"/>
          <p:cNvPicPr/>
          <p:nvPr/>
        </p:nvPicPr>
        <p:blipFill>
          <a:blip r:embed="rId5"/>
          <a:stretch/>
        </p:blipFill>
        <p:spPr>
          <a:xfrm>
            <a:off x="6651720" y="990720"/>
            <a:ext cx="2492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merican Tragedie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3" descr="Nixon, Richard -- on phone"/>
          <p:cNvPicPr/>
          <p:nvPr/>
        </p:nvPicPr>
        <p:blipFill>
          <a:blip r:embed="rId1"/>
          <a:stretch/>
        </p:blipFill>
        <p:spPr>
          <a:xfrm>
            <a:off x="1676520" y="2133720"/>
            <a:ext cx="193968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ewart, Martha - Going to prison"/>
          <p:cNvPicPr/>
          <p:nvPr/>
        </p:nvPicPr>
        <p:blipFill>
          <a:blip r:embed="rId2"/>
          <a:stretch/>
        </p:blipFill>
        <p:spPr>
          <a:xfrm>
            <a:off x="4724280" y="2286000"/>
            <a:ext cx="24577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medy: “Lysistrata” by Aristopha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icture 3" descr="Greeks -- Lysistrata, Rock opera poster"/>
          <p:cNvPicPr/>
          <p:nvPr/>
        </p:nvPicPr>
        <p:blipFill>
          <a:blip r:embed="rId1"/>
          <a:stretch/>
        </p:blipFill>
        <p:spPr>
          <a:xfrm>
            <a:off x="27432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reeks -- Lysistrata, photo from broadway play"/>
          <p:cNvPicPr/>
          <p:nvPr/>
        </p:nvPicPr>
        <p:blipFill>
          <a:blip r:embed="rId2"/>
          <a:stretch/>
        </p:blipFill>
        <p:spPr>
          <a:xfrm>
            <a:off x="304920" y="3429000"/>
            <a:ext cx="2571480" cy="294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reeks -- Peloponnesian war poster"/>
          <p:cNvPicPr/>
          <p:nvPr/>
        </p:nvPicPr>
        <p:blipFill>
          <a:blip r:embed="rId3"/>
          <a:stretch/>
        </p:blipFill>
        <p:spPr>
          <a:xfrm>
            <a:off x="5181480" y="2133720"/>
            <a:ext cx="312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8:33Z</dcterms:created>
  <dc:creator>faculty</dc:creator>
  <dc:description/>
  <dc:language>en-US</dc:language>
  <cp:lastModifiedBy>Robert Harrison</cp:lastModifiedBy>
  <cp:lastPrinted>2009-04-22T19:24:48Z</cp:lastPrinted>
  <dcterms:modified xsi:type="dcterms:W3CDTF">2010-09-16T17:11:06Z</dcterms:modified>
  <cp:revision>61</cp:revision>
  <dc:subject/>
  <dc:title>    Greek Art and Architecture</dc:title>
</cp:coreProperties>
</file>