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9.png" ContentType="image/png"/>
  <Override PartName="/ppt/media/image20.jpeg" ContentType="image/jpeg"/>
  <Override PartName="/ppt/media/image17.jpeg" ContentType="image/jpeg"/>
  <Override PartName="/ppt/media/image16.png" ContentType="image/png"/>
  <Override PartName="/ppt/media/image15.jpeg" ContentType="image/jpeg"/>
  <Override PartName="/ppt/media/image14.png" ContentType="image/png"/>
  <Override PartName="/ppt/media/image10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36.jpeg" ContentType="image/jpeg"/>
  <Override PartName="/ppt/media/image8.jpeg" ContentType="image/jpeg"/>
  <Override PartName="/ppt/media/image38.png" ContentType="image/png"/>
  <Override PartName="/ppt/media/image39.jpeg" ContentType="image/jpeg"/>
  <Override PartName="/ppt/media/image28.jpeg" ContentType="image/jpeg"/>
  <Override PartName="/ppt/media/image7.jpeg" ContentType="image/jpeg"/>
  <Override PartName="/ppt/media/image18.png" ContentType="image/png"/>
  <Override PartName="/ppt/media/image34.jpeg" ContentType="image/jpeg"/>
  <Override PartName="/ppt/media/image6.png" ContentType="image/png"/>
  <Override PartName="/ppt/media/image19.jpeg" ContentType="image/jpeg"/>
  <Override PartName="/ppt/media/image9.jpeg" ContentType="image/jpeg"/>
  <Override PartName="/ppt/media/image11.png" ContentType="image/png"/>
  <Override PartName="/ppt/media/image30.jpeg" ContentType="image/jpeg"/>
  <Override PartName="/ppt/media/image24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23.png" ContentType="image/png"/>
  <Override PartName="/ppt/media/image3.jpeg" ContentType="image/jpeg"/>
  <Override PartName="/ppt/media/image37.jpeg" ContentType="image/jpeg"/>
  <Override PartName="/ppt/media/image12.jpeg" ContentType="image/jpeg"/>
  <Override PartName="/ppt/media/image4.png" ContentType="image/png"/>
  <Override PartName="/ppt/media/image27.png" ContentType="image/png"/>
  <Override PartName="/ppt/media/image33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F6BF6-788F-4276-A56D-63EA32793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B3B61-A7BC-4EBC-B12C-D7ED95252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1A312-C925-49A3-A0AD-E83A74B33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6BAE0-A6EB-497D-955A-25632C284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C2E1A-08F5-49AF-B86B-AEC5D2D18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39338-BE39-40F8-9A2C-5A3C936DA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56843-1443-4AF4-87DD-79D391C21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3ABB7-F99D-4E22-B868-A05C24DE0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1C8E8-DF33-4D25-BBA3-3A16DCBFF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774E7-E5BC-42F5-A4B9-7BF1F52A4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A5C0B-10D6-49D4-A59B-F8A5FA046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800E5-D2E9-4EC5-8F41-A032AD99E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5640B-EA51-4122-A2B8-D130AEA551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image" Target="../media/image27.png"/><Relationship Id="rId7" Type="http://schemas.openxmlformats.org/officeDocument/2006/relationships/image" Target="../media/image28.jpeg"/><Relationship Id="rId8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image" Target="../media/image33.jpeg"/><Relationship Id="rId6" Type="http://schemas.openxmlformats.org/officeDocument/2006/relationships/image" Target="../media/image34.jpeg"/><Relationship Id="rId7" Type="http://schemas.openxmlformats.org/officeDocument/2006/relationships/image" Target="../media/image35.jpe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hyperlink" Target="http://www.quotationspage.com/quote/23583.html" TargetMode="External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png"/><Relationship Id="rId7" Type="http://schemas.openxmlformats.org/officeDocument/2006/relationships/image" Target="../media/image12.jpeg"/><Relationship Id="rId8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4383000" cy="323064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3352680" y="3733920"/>
            <a:ext cx="5604120" cy="27255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110200" y="762120"/>
            <a:ext cx="37713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"</a:t>
            </a:r>
            <a:r>
              <a:rPr b="1" lang="en-US" sz="1800" spc="-1" strike="noStrike">
                <a:solidFill>
                  <a:srgbClr val="333333"/>
                </a:solidFill>
                <a:latin typeface="Verdana-Bold"/>
              </a:rPr>
              <a:t>Great cavities</a:t>
            </a:r>
            <a:r>
              <a:rPr b="1" lang="en-US" sz="1800" spc="-1" strike="noStrike">
                <a:solidFill>
                  <a:srgbClr val="333333"/>
                </a:solidFill>
                <a:latin typeface="Verdana"/>
              </a:rPr>
              <a:t> gape in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Verdana"/>
              </a:rPr>
              <a:t>broken limbs, and inside th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333333"/>
                </a:solidFill>
                <a:latin typeface="Verdana"/>
              </a:rPr>
              <a:t>one can see stones of grea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Verdana"/>
              </a:rPr>
              <a:t>size, which were used to weig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Verdana"/>
              </a:rPr>
              <a:t>the Colossus down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Verdana"/>
              </a:rPr>
              <a:t>--Roman Pliny the El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57200" y="3962520"/>
            <a:ext cx="243828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2362320"/>
            <a:ext cx="2841480" cy="195264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6086520" y="2514600"/>
            <a:ext cx="3057480" cy="218124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304920" y="152280"/>
            <a:ext cx="5029200" cy="16765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4"/>
          <a:stretch/>
        </p:blipFill>
        <p:spPr>
          <a:xfrm>
            <a:off x="6172200" y="0"/>
            <a:ext cx="2635200" cy="20923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5"/>
          <a:stretch/>
        </p:blipFill>
        <p:spPr>
          <a:xfrm>
            <a:off x="3962520" y="5105520"/>
            <a:ext cx="4114800" cy="14572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6"/>
          <a:stretch/>
        </p:blipFill>
        <p:spPr>
          <a:xfrm>
            <a:off x="609480" y="4572000"/>
            <a:ext cx="2367000" cy="19969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7"/>
          <a:stretch/>
        </p:blipFill>
        <p:spPr>
          <a:xfrm>
            <a:off x="3124080" y="2133720"/>
            <a:ext cx="2622600" cy="240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52280" y="0"/>
            <a:ext cx="2828880" cy="21114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3352680" y="0"/>
            <a:ext cx="2349720" cy="28670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5943600" y="0"/>
            <a:ext cx="2819520" cy="211464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5965920" y="2438280"/>
            <a:ext cx="3178080" cy="21178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5"/>
          <a:stretch/>
        </p:blipFill>
        <p:spPr>
          <a:xfrm>
            <a:off x="228600" y="2971800"/>
            <a:ext cx="2935440" cy="22017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6"/>
          <a:stretch/>
        </p:blipFill>
        <p:spPr>
          <a:xfrm>
            <a:off x="6400800" y="4861080"/>
            <a:ext cx="2298600" cy="19969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7"/>
          <a:stretch/>
        </p:blipFill>
        <p:spPr>
          <a:xfrm>
            <a:off x="3276720" y="3124080"/>
            <a:ext cx="233676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790560"/>
            <a:ext cx="7772400" cy="9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8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Wonder: Library at Alexandr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380880" y="1828800"/>
            <a:ext cx="4114800" cy="26827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876920" y="1905120"/>
            <a:ext cx="4114800" cy="25794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287640" y="4537080"/>
            <a:ext cx="3682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onstruction of Main H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Libr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011560" y="4384800"/>
            <a:ext cx="4089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ratosthenes’ map of the world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 190 B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838080" y="112680"/>
            <a:ext cx="7620120" cy="674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arch for “Ataraxia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60000" y="1946160"/>
            <a:ext cx="8690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– Diogenes and the “Cynics”: Freedom from possessions and wor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 – Stoics:  Acceptance of “fate” and freedom from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 – Epicureans:  All things in moderation and freedom from p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600200" y="4038480"/>
            <a:ext cx="1811160" cy="243864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3809880" y="4495680"/>
            <a:ext cx="3581640" cy="1295640"/>
          </a:xfrm>
          <a:prstGeom prst="rect">
            <a:avLst/>
          </a:prstGeom>
          <a:solidFill>
            <a:srgbClr val="f3f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2"/>
              </a:rPr>
              <a:t>Most men are within a finger's breadth of being mad.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- D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507680" y="6518160"/>
            <a:ext cx="258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ogenes the Cyn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99840"/>
            <a:ext cx="77724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 Hellenistic World: 300-30 B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143000" y="2666880"/>
            <a:ext cx="7391520" cy="35308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80880" y="1600200"/>
            <a:ext cx="15271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Seven Wonders of the Ancient Worl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533520" y="609480"/>
            <a:ext cx="2057400" cy="15433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172200" y="1143000"/>
            <a:ext cx="2590920" cy="17413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380880" y="2438280"/>
            <a:ext cx="2286000" cy="1704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6629400" y="3809880"/>
            <a:ext cx="2362320" cy="19144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5"/>
          <a:stretch/>
        </p:blipFill>
        <p:spPr>
          <a:xfrm>
            <a:off x="3505320" y="3581280"/>
            <a:ext cx="2361960" cy="18082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6"/>
          <a:stretch/>
        </p:blipFill>
        <p:spPr>
          <a:xfrm>
            <a:off x="3124080" y="1295280"/>
            <a:ext cx="2476800" cy="16351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7"/>
          <a:stretch/>
        </p:blipFill>
        <p:spPr>
          <a:xfrm>
            <a:off x="685800" y="4495680"/>
            <a:ext cx="1994040" cy="19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9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" dur="80"/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" dur="80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" dur="80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6160" y="-36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Hanging Gardens of Babyl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77520" y="1954080"/>
            <a:ext cx="37836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uilt by King Nebuchadnezz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I of Babylon in about 600 B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or a queen from Media wh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issed the lush trees and flow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f her land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bout 400 feet spare and 7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eet high, with irrigation can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illed with water from t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uphrates river, pulled 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hains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04920" y="1066680"/>
            <a:ext cx="4564080" cy="26067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914400" y="3962520"/>
            <a:ext cx="268920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1760" y="304920"/>
            <a:ext cx="86374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tue of Zeus at Olymp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647880" y="1600200"/>
            <a:ext cx="52693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arved for the temple at Olympia, Gree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y the sculptor Phidias in about 450 B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0 feet tall, made of ivory, with a cloak of g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oved to Constantinople but destroyed by f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 about 462 C.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52280" y="1371600"/>
            <a:ext cx="3429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6160" y="228600"/>
            <a:ext cx="86374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Temple of Artemis at Ephesu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457200" y="1143000"/>
            <a:ext cx="4762440" cy="355284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500400" y="5195880"/>
            <a:ext cx="78876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signed by architect Chersiphron and completed in about 550 B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onoring the goddess Artemis (Diana), it was about 200 feet X 400 fe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t least 106 columns 40-60 feet high, in double rows, was featu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405400" y="1219320"/>
            <a:ext cx="3375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stroyed by fire in 356 B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built and burned by f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 262 C.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6858000" y="2362320"/>
            <a:ext cx="206064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Colossus of Rho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609480" y="1676520"/>
            <a:ext cx="2095560" cy="378144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3259080" y="1790640"/>
            <a:ext cx="5072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uilt in 282 BCE, but destroyed by an earthqua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56 years l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bout 120 feet high, on large base, at the entr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o the harbor of Rhodes, symbol of the island’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mmercial wealth and po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5105520" y="3657600"/>
            <a:ext cx="266364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Lighthouse of Phar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022360" y="1752480"/>
            <a:ext cx="33796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uilt in 280 BCE and las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or over 1,500 years, but w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stroyed by an earthquak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 the 1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century C.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946400" y="3429000"/>
            <a:ext cx="392832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84 feet high, with three par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ctangular base with worker’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oo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ctoganel center with ramp to t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ircular top with fire and bron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lates for illumin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380880" y="1905120"/>
            <a:ext cx="4038840" cy="36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usoleum of Halicarnass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33520" y="1828800"/>
            <a:ext cx="3733560" cy="373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4572360" y="1752480"/>
            <a:ext cx="39740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uilt about 350 BCE as a tomb f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ing Mausolus of Halicarnassus by h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Queen Artemis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573440" y="3352680"/>
            <a:ext cx="42069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40 feet high, with chariot on top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6 columns and statues around four si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32120" y="4762440"/>
            <a:ext cx="424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Hit by several earthquakes and destroy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xcept for its base by 1400 C.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1T16:09:48Z</dcterms:created>
  <dc:creator>user</dc:creator>
  <dc:description/>
  <dc:language>en-US</dc:language>
  <cp:lastModifiedBy>Callie Palmer</cp:lastModifiedBy>
  <cp:lastPrinted>2009-04-22T19:24:48Z</cp:lastPrinted>
  <dcterms:modified xsi:type="dcterms:W3CDTF">2008-11-19T04:30:02Z</dcterms:modified>
  <cp:revision>11</cp:revision>
  <dc:subject/>
  <dc:title>The Hellenistic World: 300-30 BCE</dc:title>
</cp:coreProperties>
</file>