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3FA-8948-432B-ACB7-55657A7A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AAE-1916-4A2F-A239-55D48A47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EBD2-811F-4399-8D5F-F99D8B04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C5E-0AF0-42B3-94E8-D6636DCE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12AA-2B1D-4B5C-9784-0C8E4B4B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B6E5-FB6C-4C3C-9FC4-DA8FC098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1AFB-3541-4C34-A5AB-23E62E00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8CAD-7A89-441F-AEDC-0D336287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287B-6367-46F9-A112-A4924D42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C5BF-9F92-4B5C-B408-DF851ECA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6DA4-CCE7-4C11-BABA-A4868A9A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5A1-2AB4-4669-BA84-A8D47FB2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17A7-B8C0-4B28-9970-18203960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9384-E6EE-4AC2-8713-EE8FB4BF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E7F7-5334-44AE-BCA3-E593CEEE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5B29-14F6-4CA6-B1ED-401DE942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AD30-324E-4CC9-8BA1-2BDD1F88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FCE-4E98-42A6-960C-8B904224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61B1-9072-4910-B044-D96F3FA7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DBF-DAF2-4875-8AE9-B3973D0B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135-E9C7-4DA5-8E20-54085C18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504-84E7-481A-9363-38826DEA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309-7903-4420-8A79-7984BF81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CF4-D0A1-4B70-AD6B-0D8FAA4D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C2BC-1E1F-46B4-A476-77D0A631F1C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CAB8-6DD9-4F7B-B7B4-DBC2AC4AC0B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jS_KTXp8DaAhUni1QKHZxWAV8QjRx6BAgAEAU&amp;url=https%3A%2F%2Fsaultonline.com%2F2016%2F03%2F15-unique-ontario-activities-to-enjoy-this-march-break%2F&amp;psig=AOvVaw17FwEA1DJvQLCacYCIlJNO&amp;ust=152402012131735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se Interpretation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708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just about reading a cute stor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Four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240"/>
            <a:ext cx="30477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lligence</a:t>
            </a: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your intelligence to choose a selection of good literature that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uits you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 will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terest your audience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good prose selection should make the audience want more and give them something to mentally diges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67080" y="4221000"/>
            <a:ext cx="2895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ding and selecting the right prose interp is as every bit as difficult as finding the right humor or drama scrip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4267080" y="1371600"/>
            <a:ext cx="426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er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oose a selection that will allow you to vocally create word pictures. It is the interpreter's job to create a memorable, positive  performa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8160" y="1275840"/>
            <a:ext cx="358128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olves establishing the correct tone and mood. Essentially, this refers back to the fact of, "Where are you coming from?"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ep in mind that a good prose does not have to be about death, dying, and depression. There are many excellent selections out there that deserve your attention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7960" y="3583080"/>
            <a:ext cx="24382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member that your overall goal is to make the author's work come alive for the listener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4648320" y="1276200"/>
            <a:ext cx="40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ination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eals with your creativity. What can you do with this piece without distorting the author's inten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xperiment and be br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06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238040"/>
            <a:ext cx="778356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void over exagger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. Know your commitment to the piece of literatur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. How will you use silence? Let the pause work for you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. Decide which vocal traits -- tempo, rhythm, range, and quality (practice using many types) will most accurately convey your meaning to the judge/audienc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01520" y="4571640"/>
            <a:ext cx="60195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. Muscle memory – often referred to as the "theory of remembered action." It aids in suggesting hurry or leisure, activity or passivity, tension or relax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1" descr="C:\Users\wendib\AppData\Local\Microsoft\Windows\Temporary Internet Files\Low\Content.IE5\82RPEAWG\j0432663[1].png"/>
          <p:cNvPicPr/>
          <p:nvPr/>
        </p:nvPicPr>
        <p:blipFill>
          <a:blip r:embed="rId1"/>
          <a:stretch/>
        </p:blipFill>
        <p:spPr>
          <a:xfrm>
            <a:off x="6858000" y="380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,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tinued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452600"/>
            <a:ext cx="6926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 Use your script to your advantage. You are not a robot. Gestures are still allowed and of great importance in establishing overall impac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. Maintain eye contact with your script. It is your tool. I would suggest a 60% eye contact with the audience and a 40% eye contact with your script. This is not a memorized even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040" y="47242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. Suggestion becomes paramount -- in prose interp, all is not told to the audience. There must be room for the reader's imagination to work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ere to Find Materi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446120"/>
            <a:ext cx="79027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arch Literature resources in the library for short stories or suggested nove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anguage Arts Professor to recommend good books or short stor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ibrarian for sugges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nk of a role model, hero, or favorite performer of yours, and read their autobiographi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5120" y="4008240"/>
            <a:ext cx="6226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et a coffee and hang out at a bookstore… read some best-selling books and essay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the clerks for their  recommend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’t forget about the COMEDY section!  It’s ok to make people laugh in a Prose room.  Browse through some popular  comedian’s book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02840" y="6854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Have a Blast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60800" y="175212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If you don’t love your Prose, neither will your audience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6" descr="Image result for have fu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3120" y="3124080"/>
            <a:ext cx="48672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9176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263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ose allows us to grasp the great world beyond our front doo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LITERATURE should be the focus, not the performe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365724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ral Interpreter of Prose brings LITERATURE TO LIFE in the minds (not eyes) of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serves as a liaison between the literature and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8880" y="1769760"/>
            <a:ext cx="7567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takes on the role of the storyteller in the absence of the Author, but has the responsibility to bring out the underlying meanings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behi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he words, as wel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19240" y="3903840"/>
            <a:ext cx="5738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makes decisions about how the literature is brought to life, but should still allow the audience to utilize their own imag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3292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se Guideli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48280" y="8380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resses thought through language recorded in sentences and paragraph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includes: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short stories, novel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n-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articles, essays, journals, biographies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04760"/>
            <a:ext cx="4022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ion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ust be publishe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d no plays or other dramatic material may be used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limi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 not more than five minute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ations must be from a printed sheet with only the words being presented. Reading from a book or magazine is not permitt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ice of Literatur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good choice for Prose should b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versal in the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able beyond the immediate mo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ilor-matched to the present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3200" y="4647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Your Role as the Interpre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9564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icipation in this assignment should also assist in the development of critical techniques in the evaluation of prose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al interpretation of prose is to convey subtleties of meaning of prose and feeling through vocal control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2" descr="F:\CHS stuff\H drive backup 6 3 08\speech clipart\4us7dnyu[1].jpg"/>
          <p:cNvPicPr/>
          <p:nvPr/>
        </p:nvPicPr>
        <p:blipFill>
          <a:blip r:embed="rId1"/>
          <a:srcRect l="22313" t="0" r="26833" b="0"/>
          <a:stretch/>
        </p:blipFill>
        <p:spPr>
          <a:xfrm>
            <a:off x="6095880" y="3429000"/>
            <a:ext cx="25052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2000" y="136044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urpose is to stimulate the presenter to find the meaning of printed prose and to communicate the meaning orally to his/her list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CHS stuff\H drive backup 6 3 08\speech clipart\img_blackbook.jpg"/>
          <p:cNvPicPr/>
          <p:nvPr/>
        </p:nvPicPr>
        <p:blipFill>
          <a:blip r:embed="rId1"/>
          <a:stretch/>
        </p:blipFill>
        <p:spPr>
          <a:xfrm>
            <a:off x="57913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Interp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ue beauty of orally reading literature is that each audience member is allowed the creativity and freedom to relate, identify and react to it on their ow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ganize your ‘book’ so it can be read with ease, choose a small binder or develop a means of reading your piece smoothly in a similar orient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not allow physical action to overshadow the spoken wor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 the voice, face, eyes, and gestures to work in unison with the literatu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oid technical tricks for the sole purpose of achieving audience reac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1" descr="F:\CHS stuff\H drive backup 6 3 08\speech clipart\42279b931d39f-85-2[1].jpg"/>
          <p:cNvPicPr/>
          <p:nvPr/>
        </p:nvPicPr>
        <p:blipFill>
          <a:blip r:embed="rId1"/>
          <a:srcRect l="20774" t="0" r="10978" b="0"/>
          <a:stretch/>
        </p:blipFill>
        <p:spPr>
          <a:xfrm>
            <a:off x="6248520" y="3352680"/>
            <a:ext cx="2361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52480" y="1628640"/>
            <a:ext cx="60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alize that as the Oral Interpreter of the Literature, you have a proxemic intimacy with the audience that cannot be matched by a performer on stage.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 Interpreter receives immediate feedback and should not cross the audience's comfort level between suggesting personae and becoming personae in literatur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Picture 1" descr="F:\CHS stuff\H drive backup 6 3 08\speech clipart\j0295151[1].gif"/>
          <p:cNvPicPr/>
          <p:nvPr/>
        </p:nvPicPr>
        <p:blipFill>
          <a:blip r:embed="rId1"/>
          <a:stretch/>
        </p:blipFill>
        <p:spPr>
          <a:xfrm>
            <a:off x="6567480" y="1143000"/>
            <a:ext cx="2000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1:00:11Z</dcterms:created>
  <dc:creator>wendib</dc:creator>
  <dc:description/>
  <dc:language>en-US</dc:language>
  <cp:lastModifiedBy>Tinamarie Ivey</cp:lastModifiedBy>
  <dcterms:modified xsi:type="dcterms:W3CDTF">2018-04-17T02:57:04Z</dcterms:modified>
  <cp:revision>30</cp:revision>
  <dc:subject/>
  <dc:title>Prose Interpretation</dc:title>
</cp:coreProperties>
</file>