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C78-F2C6-4ECC-B230-8CE8F264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B4F-0971-4024-ABB9-374F18B3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FDA-C63D-40B4-ACF7-5002B8E3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B3F-CE5E-4AF7-9F4F-8586463E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DE4D-7E12-4D19-A1BB-94CE3AE9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5B2A-CCE2-497D-93B7-A2FA4AE4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A75C-2AEC-4153-8BF6-A1F6787B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AE39-3997-41C7-BD95-DE22C5D8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E5F2-7CAA-4454-B753-3862C185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195A-B0F6-47F0-A2CB-1AFCB520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779A-D6C4-4291-9DAA-0C4AAB01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E5C-B78A-470D-80DB-6CC6307F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7F4D-87E5-4FFA-A667-6D19E16A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C681-2585-4A5A-9E5B-CCDAD271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6DB3-6CE5-4C8D-8D89-6B04BD78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1C47-90A9-4252-A19D-AB453114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4CCD-F972-420C-A127-4A5CC03D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297-F1A6-4BB1-8BF3-2255A337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C1C-E9A4-4CA5-BA2F-2D62DCA8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AC5-98A0-47E8-B60C-F48D8DC9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F8D-087D-4F66-8CD6-A05D666B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714-0296-4181-9801-56BF76E8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EBC-C54C-4A09-8E3B-0E12411F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37F-0038-46F9-BE22-EFDAAC9E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05C2-14D6-425E-AA90-DBAAF82AF19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6358-FB40-4260-A058-98D2390BB36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ved=2ahUKEwjS_KTXp8DaAhUni1QKHZxWAV8QjRx6BAgAEAU&amp;url=https%3A%2F%2Fsaultonline.com%2F2016%2F03%2F15-unique-ontario-activities-to-enjoy-this-march-break%2F&amp;psig=AOvVaw17FwEA1DJvQLCacYCIlJNO&amp;ust=1524020121317359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se Interpreta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79080" y="2819160"/>
            <a:ext cx="70851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’s not just about reading a cute stor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Four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240"/>
            <a:ext cx="30477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lligence</a:t>
            </a:r>
            <a:r>
              <a:rPr b="0" lang="en-US" sz="2200" spc="-1" strike="noStrike">
                <a:solidFill>
                  <a:srgbClr val="c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Use your intelligence to choose a selection of good literature that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suits you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nd will </a:t>
            </a:r>
            <a:r>
              <a:rPr b="1" lang="en-US" sz="2200" spc="-1" strike="noStrike">
                <a:solidFill>
                  <a:srgbClr val="000000"/>
                </a:solidFill>
                <a:latin typeface="Century Gothic"/>
              </a:rPr>
              <a:t>interest your audience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 good prose selection should make the audience want more and give them something to mentally digest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67080" y="4221000"/>
            <a:ext cx="2895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nding and selecting the right prose interp is as every bit as difficult as finding the right humor or drama script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4267080" y="1371600"/>
            <a:ext cx="4267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er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hoose a selection that will allow you to vocally create word pictures. It is the interpreter's job to create a memorable, positive  performanc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”s of Prose Interp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38160" y="1275840"/>
            <a:ext cx="358128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ntensity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nvolves establishing the correct tone and mood. Essentially, this refers back to the fact of, "Where are you coming from?"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ep in mind that a good prose does not have to be about death, dying, and depression. There are many excellent selections out there that deserve your attention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7960" y="3583080"/>
            <a:ext cx="243828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Remember that your overall goal is to make the author's work come alive for the listener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4648320" y="1276200"/>
            <a:ext cx="4086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entury Gothic"/>
              </a:rPr>
              <a:t>Imagination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eals with your creativity. What can you do with this piece without distorting the author's inten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xperiment and be bra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506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360" y="1238040"/>
            <a:ext cx="778356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Century Gothi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void over exagger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. Know your commitment to the piece of literatur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. How will you use silence? Let the pause work for you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. Decide which vocal traits -- tempo, rhythm, range, and quality (practice using many types) will most accurately convey your meaning to the judge/audience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01520" y="4571640"/>
            <a:ext cx="6019560" cy="15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E. Muscle memory – often referred to as the "theory of remembered action." It aids in suggesting hurry or leisure, activity or passivity, tension or relaxatio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1" descr="C:\Users\wendib\AppData\Local\Microsoft\Windows\Temporary Internet Files\Low\Content.IE5\82RPEAWG\j0432663[1].png"/>
          <p:cNvPicPr/>
          <p:nvPr/>
        </p:nvPicPr>
        <p:blipFill>
          <a:blip r:embed="rId1"/>
          <a:stretch/>
        </p:blipFill>
        <p:spPr>
          <a:xfrm>
            <a:off x="685800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Final Prose Tips, 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tinued…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452600"/>
            <a:ext cx="6926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. Use your script to your advantage. You are not a robot. Gestures are still allowed and of great importance in establishing overall impac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. Maintain eye contact with your script. It is your tool. I would suggest a 60% eye contact with the audience and a 40% eye contact with your script. This is not a memorized event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040" y="472428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H. Suggestion becomes paramount -- in prose interp, all is not told to the audience. There must be room for the reader's imagination to work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5331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Where to Find Material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60400" y="1446120"/>
            <a:ext cx="79027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arch Literature resources in the library for short stories or suggested novel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anguage Arts Professor to recommend good books or short storie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your Librarian for sugges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nk of a role model, hero, or favorite performer of yours, and read their autobiographies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5120" y="4008240"/>
            <a:ext cx="622620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et a coffee and hang out at a bookstore… read some best-selling books and essay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sk the clerks for their  recommendation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on’t forget about the COMEDY section!  It’s ok to make people laugh in a Prose room.  Browse through some popular  comedian’s books!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02840" y="6854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Have a Blast!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160800" y="1752120"/>
            <a:ext cx="5256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entury Gothic"/>
              </a:rPr>
              <a:t>If you don’t love your Prose, neither will your audience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6" descr="Image result for have fu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3120" y="3124080"/>
            <a:ext cx="48672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491760"/>
            <a:ext cx="5029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1263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Prose allows us to grasp the great world beyond our front doo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  <a:p>
            <a:pPr marL="298440" indent="-298440"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 Gothic"/>
              </a:rPr>
              <a:t>The LITERATURE should be the focus, not the performer.</a:t>
            </a:r>
            <a:endParaRPr b="0" lang="en-US" sz="2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3657240"/>
            <a:ext cx="647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n Oral Interpreter of Prose brings LITERATURE TO LIFE in the minds (not eyes) of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serves as a liaison between the literature and the audienc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8880" y="1769760"/>
            <a:ext cx="7567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takes on the role of the storyteller in the absence of the Author, but has the responsibility to bring out the underlying meanings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behin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the words, as well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1119240" y="3903840"/>
            <a:ext cx="57387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Interpreter makes decisions about how the literature is brought to life, but should still allow the audience to utilize their own imagin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3292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rose Guidelin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48280" y="838080"/>
            <a:ext cx="3200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resses thought through language recorded in sentences and paragraphs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entury Gothic"/>
              </a:rPr>
              <a:t>Prose includes: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short stories, novels)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n-fiction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(articles, essays, journals, biographies)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904760"/>
            <a:ext cx="4022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ions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ust be published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and no plays or other dramatic material may be used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ime limit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 not more than five minute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resentations must be from a printed sheet with only the words being presented. Reading from a book or magazine is not permitted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hoice of Literatur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3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 good choice for Prose should b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iversal in them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morable beyond the immediate mo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ailor-matched to the present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33200" y="4647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Your Role as the Interpreter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3095640"/>
            <a:ext cx="5029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Participation in this assignment should also assist in the development of critical techniques in the evaluation of prose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al interpretation of prose is to convey subtleties of meaning of prose and feeling through vocal control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7" name="Picture 2" descr="F:\CHS stuff\H drive backup 6 3 08\speech clipart\4us7dnyu[1].jpg"/>
          <p:cNvPicPr/>
          <p:nvPr/>
        </p:nvPicPr>
        <p:blipFill>
          <a:blip r:embed="rId1"/>
          <a:srcRect l="22313" t="0" r="26833" b="0"/>
          <a:stretch/>
        </p:blipFill>
        <p:spPr>
          <a:xfrm>
            <a:off x="6095880" y="3429000"/>
            <a:ext cx="2505240" cy="2895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1062000" y="1360440"/>
            <a:ext cx="74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purpose is to stimulate the presenter to find the meaning of printed prose and to communicate the meaning orally to his/her liste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F:\CHS stuff\H drive backup 6 3 08\speech clipart\img_blackbook.jpg"/>
          <p:cNvPicPr/>
          <p:nvPr/>
        </p:nvPicPr>
        <p:blipFill>
          <a:blip r:embed="rId1"/>
          <a:stretch/>
        </p:blipFill>
        <p:spPr>
          <a:xfrm>
            <a:off x="579132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The Interp Book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6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true beauty of orally reading literature is that each audience member is allowed the creativity and freedom to relate, identify and react to it on their ow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ganize your ‘book’ so it can be read with ease, choose a small binder or develop a means of reading your piece smoothly in a similar orientation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52388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o not allow physical action to overshadow the spoken word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ow the voice, face, eyes, and gestures to work in unison with the literatur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oid technical tricks for the sole purpose of achieving audience reaction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1" descr="F:\CHS stuff\H drive backup 6 3 08\speech clipart\42279b931d39f-85-2[1].jpg"/>
          <p:cNvPicPr/>
          <p:nvPr/>
        </p:nvPicPr>
        <p:blipFill>
          <a:blip r:embed="rId1"/>
          <a:srcRect l="20774" t="0" r="10978" b="0"/>
          <a:stretch/>
        </p:blipFill>
        <p:spPr>
          <a:xfrm>
            <a:off x="6248520" y="3352680"/>
            <a:ext cx="236196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Performance Techniqu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52480" y="1628640"/>
            <a:ext cx="60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alize that as the Oral Interpreter of the Literature, you have a proxemic intimacy with the audience that cannot be matched by a performer on stage.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 Interpreter receives immediate feedback and should not cross the audience's comfort level between suggesting personae and becoming personae in literature.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7" name="Picture 1" descr="F:\CHS stuff\H drive backup 6 3 08\speech clipart\j0295151[1].gif"/>
          <p:cNvPicPr/>
          <p:nvPr/>
        </p:nvPicPr>
        <p:blipFill>
          <a:blip r:embed="rId1"/>
          <a:stretch/>
        </p:blipFill>
        <p:spPr>
          <a:xfrm>
            <a:off x="6567480" y="1143000"/>
            <a:ext cx="2000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1:00:11Z</dcterms:created>
  <dc:creator>wendib</dc:creator>
  <dc:description/>
  <dc:language>en-US</dc:language>
  <cp:lastModifiedBy>Tinamarie Ivey</cp:lastModifiedBy>
  <dcterms:modified xsi:type="dcterms:W3CDTF">2018-04-17T02:57:04Z</dcterms:modified>
  <cp:revision>30</cp:revision>
  <dc:subject/>
  <dc:title>Prose Interpretation</dc:title>
</cp:coreProperties>
</file>