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C732-C748-496F-9D7C-60FD28FF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B53-2718-47DE-8F13-C0337B71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54E0-2C72-4D00-A3B6-C29AE346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3CDB-3ECC-4801-9E3D-DEC0D126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76B0-F72A-46A1-B0AA-EF92CF66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5142-7899-4756-B6AE-A705AFD2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C257-5A13-4251-90E2-966EB97B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35A1-12F2-4933-9AFC-C2BE377A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8B80-CD32-4770-91F1-79AFFA5D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58EF-3396-4722-971C-64F1EBC4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0EBA-734D-47BA-BE12-6419692D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A57-EC1D-44EB-8A8A-44351269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7E7D-EAAF-4191-82A4-0CDE0660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E39E-B585-4EA3-8C4F-A7251CDF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041F-ECAB-4C70-9F11-C96DCDEA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2122-4C18-44D2-8717-6A3A9D43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AF91-FD1C-459A-83A1-85ACBD6D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77FC-AC9A-4873-9FDE-5BE05AA8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121-D302-4FAA-8F80-D80B4E3F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47D2-1844-461A-A01D-B389557D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7E9D-E48C-44F8-BD25-2B9458CF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C543-A749-486B-B08C-8AD30ACD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5D9-A915-4A3D-931B-A94820CD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0A0A-0BFC-4FE3-AA01-EC38D7A5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6420-2CE1-4666-A6E1-C75C51CDC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1102-852C-452B-B980-7864C14A9E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ae"/>
          <p:cNvPicPr/>
          <p:nvPr/>
        </p:nvPicPr>
        <p:blipFill>
          <a:blip r:embed="rId1"/>
          <a:stretch/>
        </p:blipFill>
        <p:spPr>
          <a:xfrm>
            <a:off x="304920" y="152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&amp;n"/>
          <p:cNvPicPr/>
          <p:nvPr/>
        </p:nvPicPr>
        <p:blipFill>
          <a:blip r:embed="rId2"/>
          <a:stretch/>
        </p:blipFill>
        <p:spPr>
          <a:xfrm>
            <a:off x="3200400" y="251460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best buy"/>
          <p:cNvPicPr/>
          <p:nvPr/>
        </p:nvPicPr>
        <p:blipFill>
          <a:blip r:embed="rId3"/>
          <a:stretch/>
        </p:blipFill>
        <p:spPr>
          <a:xfrm>
            <a:off x="304920" y="48006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foot lkr"/>
          <p:cNvPicPr/>
          <p:nvPr/>
        </p:nvPicPr>
        <p:blipFill>
          <a:blip r:embed="rId4"/>
          <a:stretch/>
        </p:blipFill>
        <p:spPr>
          <a:xfrm>
            <a:off x="6324480" y="4876920"/>
            <a:ext cx="2105280" cy="1533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c"/>
          <p:cNvPicPr/>
          <p:nvPr/>
        </p:nvPicPr>
        <p:blipFill>
          <a:blip r:embed="rId5"/>
          <a:stretch/>
        </p:blipFill>
        <p:spPr>
          <a:xfrm>
            <a:off x="228600" y="236232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acys"/>
          <p:cNvPicPr/>
          <p:nvPr/>
        </p:nvPicPr>
        <p:blipFill>
          <a:blip r:embed="rId6"/>
          <a:stretch/>
        </p:blipFill>
        <p:spPr>
          <a:xfrm>
            <a:off x="3124080" y="22860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sears"/>
          <p:cNvPicPr/>
          <p:nvPr/>
        </p:nvPicPr>
        <p:blipFill>
          <a:blip r:embed="rId7"/>
          <a:stretch/>
        </p:blipFill>
        <p:spPr>
          <a:xfrm>
            <a:off x="6172200" y="274320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sephora"/>
          <p:cNvPicPr/>
          <p:nvPr/>
        </p:nvPicPr>
        <p:blipFill>
          <a:blip r:embed="rId8"/>
          <a:stretch/>
        </p:blipFill>
        <p:spPr>
          <a:xfrm>
            <a:off x="6172200" y="380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wm"/>
          <p:cNvPicPr/>
          <p:nvPr/>
        </p:nvPicPr>
        <p:blipFill>
          <a:blip r:embed="rId9"/>
          <a:stretch/>
        </p:blipFill>
        <p:spPr>
          <a:xfrm>
            <a:off x="3276720" y="4800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Comic Sans MS"/>
              </a:rPr>
              <a:t>DEPARTMENT STORE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large establishments, an anchor at a shopping m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ost often chain sto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erchandise is arranged in separate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ells a variety of merchandise under one roo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Great selection, quality va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any sales, lots of advertising, busy 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are assigned to work in specific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ach department has a mana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ash registers/checkout stations in each depar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Offer a variety of customer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self-service, sales associates sometimes less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levator” music, bright lights, lots of activ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mploy many people, opportunities to advance or transf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Hire more sales associates than any other type of sto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What we can find in a 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Department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pparel &amp; accessories for men, women and childr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Cosm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geri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Wedding att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Housewares &amp; home de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arge and small applian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e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hoes for the fam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rocer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pecializes in one category and sells related i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Wide variety of specialty items, not found elsew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better quality, more expensi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maller stores, sometimes a chain, usually locally ow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give personal assistance, are more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one cash register and checkout s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ustomer services off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tore displays, music, employees, overall atmosphere matches that of the products it specializes 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Relaxed atmosp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What we can find in a Specialty Store</a:t>
            </a:r>
            <a:br>
              <a:rPr sz="3200"/>
            </a:b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(and related items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ho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er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ealth 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rid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ffe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ram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ping G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mput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arden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Kitchen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abr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ake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nd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ab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usic equip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ome dé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uto pa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rsonal c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raft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Work Condition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Department Store     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ssigned to a specific depart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Duties will be limi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only for dept. assigned 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ood chance to advance or transf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tore is well known, experience looks good on resu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May not be able to provide customer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in all areas of st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perform many du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come knowledgeable of specific produ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ess chance to adv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maller store, relaxed atmosphe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ewer employe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give personalized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ell products you are interested 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99"/>
                </a:solidFill>
                <a:latin typeface="Comic Sans MS"/>
              </a:rPr>
              <a:t>Department vs Specialty Stores </a:t>
            </a:r>
            <a:br>
              <a:rPr sz="3200"/>
            </a:br>
            <a:r>
              <a:rPr b="1" i="1" lang="en-US" sz="2000" spc="-1" strike="noStrike">
                <a:solidFill>
                  <a:srgbClr val="ccff99"/>
                </a:solidFill>
                <a:latin typeface="Comic Sans MS"/>
              </a:rPr>
              <a:t>~images for question #1~</a:t>
            </a: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4" name="Picture 7" descr="aero"/>
          <p:cNvPicPr/>
          <p:nvPr/>
        </p:nvPicPr>
        <p:blipFill>
          <a:blip r:embed="rId1"/>
          <a:stretch/>
        </p:blipFill>
        <p:spPr>
          <a:xfrm>
            <a:off x="380880" y="1523880"/>
            <a:ext cx="132408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abelas"/>
          <p:cNvPicPr/>
          <p:nvPr/>
        </p:nvPicPr>
        <p:blipFill>
          <a:blip r:embed="rId2"/>
          <a:stretch/>
        </p:blipFill>
        <p:spPr>
          <a:xfrm>
            <a:off x="1447920" y="501012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sally"/>
          <p:cNvPicPr/>
          <p:nvPr/>
        </p:nvPicPr>
        <p:blipFill>
          <a:blip r:embed="rId3"/>
          <a:stretch/>
        </p:blipFill>
        <p:spPr>
          <a:xfrm>
            <a:off x="358128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kohls"/>
          <p:cNvPicPr/>
          <p:nvPr/>
        </p:nvPicPr>
        <p:blipFill>
          <a:blip r:embed="rId4"/>
          <a:stretch/>
        </p:blipFill>
        <p:spPr>
          <a:xfrm>
            <a:off x="5276880" y="3962520"/>
            <a:ext cx="386712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lowes"/>
          <p:cNvPicPr/>
          <p:nvPr/>
        </p:nvPicPr>
        <p:blipFill>
          <a:blip r:embed="rId5"/>
          <a:stretch/>
        </p:blipFill>
        <p:spPr>
          <a:xfrm>
            <a:off x="62485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kmart"/>
          <p:cNvPicPr/>
          <p:nvPr/>
        </p:nvPicPr>
        <p:blipFill>
          <a:blip r:embed="rId6"/>
          <a:stretch/>
        </p:blipFill>
        <p:spPr>
          <a:xfrm>
            <a:off x="685800" y="2971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3:29:11Z</dcterms:created>
  <dc:creator>Authorized User</dc:creator>
  <dc:description/>
  <dc:language>en-US</dc:language>
  <cp:lastModifiedBy>Mindy Bean</cp:lastModifiedBy>
  <dcterms:modified xsi:type="dcterms:W3CDTF">2018-06-29T20:23:40Z</dcterms:modified>
  <cp:revision>6</cp:revision>
  <dc:subject/>
  <dc:title>DEPARTMENT STORE</dc:title>
</cp:coreProperties>
</file>