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374D-96AA-4759-86F4-6CE54ADB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67E-0012-4B38-B05C-7DF07A6F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AE97-7109-40AB-8CD2-284DB493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3896-A559-4CC2-915F-866A303F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FFD1-A100-4FE9-B000-153883B1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A0C3-6758-48DE-A914-460A2E5B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5CFA-2AD7-4FCB-867E-F71F4240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8707-A1D3-4522-9FA0-E855C774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6A06-15CF-46D2-AB0C-75DC2C69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985F-8BA1-4D7B-907C-DD71CE95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C272-9101-4DB0-8578-A1E493BE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656C-79D9-49AB-944C-DE949AEE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B7CC-D4DE-4E82-97E2-58955F5F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AE49-B392-4725-9ADB-CA5EC835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FE35-D5E6-464E-AB39-C960B36A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EA23-A915-4A9B-B85B-C4A33767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F488-3A89-4D1D-904B-C002FFF4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855F-285B-400A-BC67-D0AE2F3F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8E4-0BE4-4BD8-9D55-3E9968C7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15AA-1A8A-4CEE-96FD-0CE46F4A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6CAA-23A4-466F-91DF-F3376EB7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9523-C448-4C26-8060-2168BF0F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A48D-C2AC-4DF3-951E-CAC2D455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7483-0E37-471F-A9FF-B035BCEF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95F9-DCF3-4AEF-A954-830F4EE14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1EE7-EDA3-4723-9837-960B0E966D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ae"/>
          <p:cNvPicPr/>
          <p:nvPr/>
        </p:nvPicPr>
        <p:blipFill>
          <a:blip r:embed="rId1"/>
          <a:stretch/>
        </p:blipFill>
        <p:spPr>
          <a:xfrm>
            <a:off x="304920" y="152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&amp;n"/>
          <p:cNvPicPr/>
          <p:nvPr/>
        </p:nvPicPr>
        <p:blipFill>
          <a:blip r:embed="rId2"/>
          <a:stretch/>
        </p:blipFill>
        <p:spPr>
          <a:xfrm>
            <a:off x="3200400" y="251460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best buy"/>
          <p:cNvPicPr/>
          <p:nvPr/>
        </p:nvPicPr>
        <p:blipFill>
          <a:blip r:embed="rId3"/>
          <a:stretch/>
        </p:blipFill>
        <p:spPr>
          <a:xfrm>
            <a:off x="304920" y="48006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foot lkr"/>
          <p:cNvPicPr/>
          <p:nvPr/>
        </p:nvPicPr>
        <p:blipFill>
          <a:blip r:embed="rId4"/>
          <a:stretch/>
        </p:blipFill>
        <p:spPr>
          <a:xfrm>
            <a:off x="6324480" y="4876920"/>
            <a:ext cx="2105280" cy="1533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c"/>
          <p:cNvPicPr/>
          <p:nvPr/>
        </p:nvPicPr>
        <p:blipFill>
          <a:blip r:embed="rId5"/>
          <a:stretch/>
        </p:blipFill>
        <p:spPr>
          <a:xfrm>
            <a:off x="228600" y="236232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acys"/>
          <p:cNvPicPr/>
          <p:nvPr/>
        </p:nvPicPr>
        <p:blipFill>
          <a:blip r:embed="rId6"/>
          <a:stretch/>
        </p:blipFill>
        <p:spPr>
          <a:xfrm>
            <a:off x="3124080" y="228600"/>
            <a:ext cx="249552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sears"/>
          <p:cNvPicPr/>
          <p:nvPr/>
        </p:nvPicPr>
        <p:blipFill>
          <a:blip r:embed="rId7"/>
          <a:stretch/>
        </p:blipFill>
        <p:spPr>
          <a:xfrm>
            <a:off x="6172200" y="274320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sephora"/>
          <p:cNvPicPr/>
          <p:nvPr/>
        </p:nvPicPr>
        <p:blipFill>
          <a:blip r:embed="rId8"/>
          <a:stretch/>
        </p:blipFill>
        <p:spPr>
          <a:xfrm>
            <a:off x="6172200" y="380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wm"/>
          <p:cNvPicPr/>
          <p:nvPr/>
        </p:nvPicPr>
        <p:blipFill>
          <a:blip r:embed="rId9"/>
          <a:stretch/>
        </p:blipFill>
        <p:spPr>
          <a:xfrm>
            <a:off x="3276720" y="48006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Comic Sans MS"/>
              </a:rPr>
              <a:t>DEPARTMENT STORE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large establishments, an anchor at a shopping m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ost often chain sto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erchandise is arranged in separate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ells a variety of merchandise under one roo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Great selection, quality va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any sales, lots of advertising, busy enviro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are assigned to work in specific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ach department has a mana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ash registers/checkout stations in each depart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Offer a variety of customer 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self-service, sales associates sometimes less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levator” music, bright lights, lots of activ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mploy many people, opportunities to advance or transf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Hire more sales associates than any other type of sto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What we can find in a 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Department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pparel &amp; accessories for men, women and childr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Cosme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geri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Wedding atti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Housewares &amp; home de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arge and small applian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e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hoes for the fam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rocer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o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pecializes in one category and sells related i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Wide variety of specialty items, not found elsew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better quality, more expensi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maller stores, sometimes a chain, usually locally ow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give personal assistance, are more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one cash register and checkout s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ustomer services off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tore displays, music, employees, overall atmosphere matches that of the products it specializes 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Relaxed atmosp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What we can find in a Specialty Store</a:t>
            </a:r>
            <a:br>
              <a:rPr sz="3200"/>
            </a:b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(and related items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ho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er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ealth 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rid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ffe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ram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ping Ge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mput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arden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Kitchen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abr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akeu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nd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ab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usic equip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ome dé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uto par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rsonal c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raft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Work Condition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Department Store     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ssigned to a specific depart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Duties will be limi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only for dept. assigned 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ood chance to advance or transf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tore is well known, experience looks good on resu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May not be able to provide customer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in all areas of sto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perform many du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come knowledgeable of specific produ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ess chance to adv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maller store, relaxed atmosphe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ewer employe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give personalized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ell products you are interested 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99"/>
                </a:solidFill>
                <a:latin typeface="Comic Sans MS"/>
              </a:rPr>
              <a:t>Department vs Specialty Stores </a:t>
            </a:r>
            <a:br>
              <a:rPr sz="3200"/>
            </a:br>
            <a:r>
              <a:rPr b="1" i="1" lang="en-US" sz="2000" spc="-1" strike="noStrike">
                <a:solidFill>
                  <a:srgbClr val="ccff99"/>
                </a:solidFill>
                <a:latin typeface="Comic Sans MS"/>
              </a:rPr>
              <a:t>~images for question #1~</a:t>
            </a:r>
            <a:endParaRPr b="0" lang="en-US" sz="20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4" name="Picture 7" descr="aero"/>
          <p:cNvPicPr/>
          <p:nvPr/>
        </p:nvPicPr>
        <p:blipFill>
          <a:blip r:embed="rId1"/>
          <a:stretch/>
        </p:blipFill>
        <p:spPr>
          <a:xfrm>
            <a:off x="380880" y="1523880"/>
            <a:ext cx="132408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abelas"/>
          <p:cNvPicPr/>
          <p:nvPr/>
        </p:nvPicPr>
        <p:blipFill>
          <a:blip r:embed="rId2"/>
          <a:stretch/>
        </p:blipFill>
        <p:spPr>
          <a:xfrm>
            <a:off x="1447920" y="501012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sally"/>
          <p:cNvPicPr/>
          <p:nvPr/>
        </p:nvPicPr>
        <p:blipFill>
          <a:blip r:embed="rId3"/>
          <a:stretch/>
        </p:blipFill>
        <p:spPr>
          <a:xfrm>
            <a:off x="358128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kohls"/>
          <p:cNvPicPr/>
          <p:nvPr/>
        </p:nvPicPr>
        <p:blipFill>
          <a:blip r:embed="rId4"/>
          <a:stretch/>
        </p:blipFill>
        <p:spPr>
          <a:xfrm>
            <a:off x="5276880" y="3962520"/>
            <a:ext cx="386712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lowes"/>
          <p:cNvPicPr/>
          <p:nvPr/>
        </p:nvPicPr>
        <p:blipFill>
          <a:blip r:embed="rId5"/>
          <a:stretch/>
        </p:blipFill>
        <p:spPr>
          <a:xfrm>
            <a:off x="6248520" y="16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kmart"/>
          <p:cNvPicPr/>
          <p:nvPr/>
        </p:nvPicPr>
        <p:blipFill>
          <a:blip r:embed="rId6"/>
          <a:stretch/>
        </p:blipFill>
        <p:spPr>
          <a:xfrm>
            <a:off x="685800" y="2971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3:29:11Z</dcterms:created>
  <dc:creator>Authorized User</dc:creator>
  <dc:description/>
  <dc:language>en-US</dc:language>
  <cp:lastModifiedBy>Mindy Bean</cp:lastModifiedBy>
  <dcterms:modified xsi:type="dcterms:W3CDTF">2018-06-29T20:23:40Z</dcterms:modified>
  <cp:revision>6</cp:revision>
  <dc:subject/>
  <dc:title>DEPARTMENT STORE</dc:title>
</cp:coreProperties>
</file>