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749F6-3CA8-4706-B96D-F1C389020A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just-style.com/companies/nike_id1" TargetMode="External"/><Relationship Id="rId2" Type="http://schemas.openxmlformats.org/officeDocument/2006/relationships/hyperlink" Target="http://www.just-style.com/companies/prada_id223" TargetMode="External"/><Relationship Id="rId3" Type="http://schemas.openxmlformats.org/officeDocument/2006/relationships/hyperlink" Target="http://www.just-style.com/companies/reebok_id68" TargetMode="External"/><Relationship Id="rId4" Type="http://schemas.openxmlformats.org/officeDocument/2006/relationships/slide" Target="../slides/slide16.xml"/><Relationship Id="rId5"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2C39E-8123-4CF7-A591-55B86B3F47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nd more e-tail sites are striving to provide the same look and feel of a visit to the store.  Things like personalization allows sites to recognize you from a previous visit.  They may mention your name, “Welcome back Denise, last time you visited, you shopped for….” with personalization capabilities, visitors can feel a connection to the site much like that of a greeting from a sales associate at the store.</a:t>
            </a:r>
            <a:r>
              <a:rPr b="0" lang="en-US" sz="2600" spc="-1" strike="noStrike">
                <a:solidFill>
                  <a:srgbClr val="000000"/>
                </a:solidFill>
                <a:latin typeface="Calibri"/>
              </a:rPr>
              <a:t> This familiarity puts customers at ease so they will shop online again.</a:t>
            </a:r>
            <a:endParaRPr b="0" lang="en-US" sz="2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E2721-6BDC-4C2D-B39E-C79FEED368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select sites, there are several ways you can do this.  You could have them present their findings to the class (2-3 students) or turn it in as homework or a class assig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s like Target have worked hard to make their site appealing in many of the same ways visiting the store does to the cust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F380A-546A-44CF-A1C8-F927662306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9D2D0-C683-44D8-8548-44A3CA8D9D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catalog retailer was Montgomery Ward in 1872.  The purpose of the catalog was to reach rural customers that didn’t have access to the products or services that those living in metropolitan areas did.  The second catalog retailer was Sears and Roebuck, established in 1888.  The Sears catalog was a dream come true for those living in areas without access to many desirable products and services.  Sears not only sold the things that we commonly think of but also automobiles and home kits.  It’s first retail store opened in 1925 in Chicago.  Many retailers that initially were catalog retailers have branched out to include stores and websites.</a:t>
            </a: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17874-6D30-4D6D-B07D-9E93491432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stock.com is a very famous and successful website.  Their products are just what their name implies, overstocks from other companies that ordered too much, didn’t sell what they expected, etc.</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E51FE-94A4-4F38-8CF4-CACE863D8E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famous catalog retailer.  Does anyone know what high end or luxury retailer owns this catalog business?  It’s Neiman Marcus.  They sell a variety of products for the home.  Everything from furniture to bedding and décor.</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6A6EA-0F9F-4978-9943-6FB4702E7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students:  </a:t>
            </a:r>
            <a:r>
              <a:rPr b="1" lang="en-US" sz="1200" spc="-1" strike="noStrike">
                <a:solidFill>
                  <a:srgbClr val="0000ff"/>
                </a:solidFill>
                <a:latin typeface="Times New Roman"/>
              </a:rPr>
              <a:t>What is the difference between a knockoff, counterfeit, replica or inspired by it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nswer: </a:t>
            </a:r>
            <a:r>
              <a:rPr b="0" lang="en-US" sz="1200" spc="-1" strike="noStrike">
                <a:solidFill>
                  <a:srgbClr val="000000"/>
                </a:solidFill>
                <a:latin typeface="Calibri"/>
              </a:rPr>
              <a:t>Knockoff-is an unlicensed copy or imitation of an original that is popular at a much lower cost.  Stores like Sweden’s H&amp;M, and England’s Topshop have been criticized for their blatant copying of designed clo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feit-An imitation trying to disguise itself as the real thing.  Made of much cheaper materials, it is as near as an exact copy of the original as possible.  This can be right down to a certificate of authentication.  Handbags, jewelry and sunglasses are the biggest offen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ng made to be similar or identical to another 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of counterfeit products seized by US Customs were fashion related items, with the highest number of products being athletic go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s recently seized included:77 containers of </a:t>
            </a:r>
            <a:r>
              <a:rPr b="0" lang="en-US" sz="1200" spc="-1" strike="noStrike" u="sng">
                <a:solidFill>
                  <a:srgbClr val="0000ff"/>
                </a:solidFill>
                <a:uFillTx/>
                <a:latin typeface="Calibri"/>
                <a:hlinkClick r:id="rId1"/>
              </a:rPr>
              <a:t>Nike</a:t>
            </a:r>
            <a:r>
              <a:rPr b="0" lang="en-US" sz="1200" spc="-1" strike="noStrike">
                <a:solidFill>
                  <a:srgbClr val="000000"/>
                </a:solidFill>
                <a:latin typeface="Calibri"/>
              </a:rPr>
              <a:t> Air Jordan shoes; counterfeit designer products that resembled </a:t>
            </a:r>
            <a:r>
              <a:rPr b="0" lang="en-US" sz="1200" spc="-1" strike="noStrike" u="sng">
                <a:solidFill>
                  <a:srgbClr val="0000ff"/>
                </a:solidFill>
                <a:uFillTx/>
                <a:latin typeface="Calibri"/>
                <a:hlinkClick r:id="rId2"/>
              </a:rPr>
              <a:t>Prada</a:t>
            </a:r>
            <a:r>
              <a:rPr b="0" lang="en-US" sz="1200" spc="-1" strike="noStrike">
                <a:solidFill>
                  <a:srgbClr val="000000"/>
                </a:solidFill>
                <a:latin typeface="Calibri"/>
              </a:rPr>
              <a:t> and </a:t>
            </a:r>
            <a:r>
              <a:rPr b="0" lang="en-US" sz="1200" spc="-1" strike="noStrike" u="sng">
                <a:solidFill>
                  <a:srgbClr val="0000ff"/>
                </a:solidFill>
                <a:uFillTx/>
                <a:latin typeface="Calibri"/>
                <a:hlinkClick r:id="rId3"/>
              </a:rPr>
              <a:t>Reebok</a:t>
            </a:r>
            <a:r>
              <a:rPr b="0" lang="en-US" sz="1200" spc="-1" strike="noStrike">
                <a:solidFill>
                  <a:srgbClr val="000000"/>
                </a:solidFill>
                <a:latin typeface="Calibri"/>
              </a:rPr>
              <a:t> merchandise; a container of Abercrombie &amp; Fitch clothing; and 42,900 articles of sporting goods and apparel. The main source of counterfeit goods production in terms of overall quantities seized, with approximately 80% of all counterfeit articles come from China. (New York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DC631-09EF-44F6-80E9-5DE8B4D75A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istics from www.dailyfinancials.com</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25D51-D0AA-44AB-8D95-37503C368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udents find two knockoff websites.  They can present them to the class or just record the site and the items carried.  If time permits, you could have them find the REAL product and do a comparison between the look of the items.  (copy and paste them into a document)</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A8287-9DEC-461D-95A6-9061C82B82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648C0-E673-458B-8A4A-43642B9A4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heck for understanding, have students complete the activity on the slide.</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212A3-153D-431A-A297-85AF75095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A7885-1FCF-4208-B355-4A5EE4950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D1828-335B-4EBC-9B81-8D0A005914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h a product takes from where it is made to the final consumer.</a:t>
            </a:r>
            <a:endParaRPr b="0" lang="en-US" sz="12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ufacturer-the business that makes or produces the goods for sale.</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rect Channel-Farmer, Avon products</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direct Channel-Most clothing items, flowers, food, etc.</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called a Wholesaler, Middleman, Broker or Agent depending on the type of products and whether they take ownership or possession of the products.</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60BE9-A3B3-4294-ABE1-FFA0928BB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llustration of distribution channels.</a:t>
            </a: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21293-3F67-4E85-A375-B10FBA3996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ling generates income for the communities they are located in, employees community members, and stimulates the local and national economy.</a:t>
            </a: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2C71E-9F69-4702-93D0-6431D635C3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F01D2-B84D-4777-B0A0-F96B3836E2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ing goodwill brings shoppers into the stores, to the websites and catalogs of retai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lers, as do all businesses, have a responsibility to give back to the communities they are located in.  Supporting local and national charities, schools, etc. have a feel good effect on current and potential customers.</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94337-10BC-4EA2-8D00-DE796BA108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sts look at retail sales as an indicator of the state of our economy.</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E2DEF-C2AD-4E2B-8BC3-AD9775325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cost of a pair of jeans at The Gap in 1969-$7.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Navy was named after a bar in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p Inc. is the largest specialty retailer in the United States.</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06FD-1239-44B8-BAA5-9049C9DE9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apping and trading-also known as bartering.  People traded others for things they did not have.  It could be cloth, food, skills (blacksmith, medicine m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frontier expanded and communities began to be established, the general store came into being.  It was more than a source of supplies, it was a gathering place for townspeople to meet and find out information from trave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owns continued to grow, those with special skills started to open up their own businesses.  Examples include a dressmaker, butcher, blacksmith, and barbers.  More and more stores opened that could provide the town with goods and services they could not provide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towns were popping up throughout the country, there were still many remote areas that did not have many options for goods and services.  The development of catalog retailing by Montgomery Wards and later, Sears and Roebuck, brought access to products and services previously unavailable.</a:t>
            </a: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149A4-5ECE-436B-BE9B-8F00435CA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Navy was one of the first retailers to employ headsets as a means of communications for its employees.  Their forward thinking nature has made them an industry leader amongst their competi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 who they feel the demographics are for Old Navy.</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D4B3B-1737-4ABE-8D3A-54ED5F944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CD912-87EE-4B38-8E50-0DDAD4079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ying Merchandise</a:t>
            </a:r>
            <a:endParaRPr b="0" lang="en-US" sz="12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to buy, how much, when</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happens from bad decision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rmining Selling Price</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ir</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fit</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etermined formula</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oring Goods For Purchas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ertising and Promotion</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 remind, persuad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playing Merchandis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ling Goods &amp; Services</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important task</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cing Products</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llow up</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tisfied customer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ing Customer Servic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sk Management</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les, catastrophes, accidents, theft</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ring, Managing Employee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0111F-914C-4121-921D-A31508787E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students to complete this activity.  You may need to have internet access to complete it.  It could also be used as a homework assignment.  Students could report their findings or just turn it in for credit.</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0CE6-8850-493C-9408-288673D83B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 of people from urban to suburban settings brought on the advent of the shopping center. There, stores of many types were conveniently and centrally located within communities.  They may be referred to as strip shopping centers because that is what they were, a swath of stores.  As the size of the shopping centers increased, the desire for easy access, all season long, “under one roof”, became the trend.  Shopping malls were bo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new frontier in retailing has to do with the use of technology. Ecommerce is the process of purchasing available goods and services over the Internet using secure connections and electronic payment services. Although the dot-com collapse in 2000 led to unfortunate results and many of ecommerce companies disappeared, the "brick and mortar" retailers recognized the advantages of electronic commerce and began to add such capabilities to their web sites. By the end of 2001, the largest form of ecommerce, Business-to-Business (B2B) model, had around $700 billion in transactions.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2F398-895A-4B81-86CF-9BA383B06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goods are things you can see, touch, smell, taste-tangible items  Give them some examples. Services provide some kind of special skills-the drycleaner, your hair stylist, a shoe repairmen, the dentist, a plumber-intangible items.</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5ACAC-1290-447E-B2CC-CBB07FA3C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 to name U.S. based companies that have stores in other countries?  Have they ever been to one of the stores? If so, where? What was it like? Is it the same or different than 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foreign stores that have outlets in the U.S.?  Some of the most popular stores for teens are foreign owned-H&amp;M and Forever 21 for example.</a:t>
            </a: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FB5A4-3803-48D5-A2CA-BE9F3DD7C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fun with this.  Have students around each other look at the tags on the back of their tops.  Have them check their phones, their backpacks etc.  Then, ask for a show of hands starting out with “who has something made in the US”?  Ask them if they know where the product was purchased.  It is really amazing.</a:t>
            </a: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E3289-151D-4C77-9526-E6825091B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 based retailers could be a single store or a chain of stores. Their merchandise selection, quality, and pricing strategies can vary greatly.  Store based retailers are often referred to as “bricks and mortar”.  Today’s retailer finds a </a:t>
            </a:r>
            <a:r>
              <a:rPr b="1" lang="en-US" sz="1200" spc="-1" strike="noStrike">
                <a:solidFill>
                  <a:srgbClr val="000000"/>
                </a:solidFill>
                <a:latin typeface="Calibri"/>
              </a:rPr>
              <a:t>multi-channel approach </a:t>
            </a:r>
            <a:r>
              <a:rPr b="0" lang="en-US" sz="1200" spc="-1" strike="noStrike">
                <a:solidFill>
                  <a:srgbClr val="000000"/>
                </a:solidFill>
                <a:latin typeface="Calibri"/>
              </a:rPr>
              <a:t>the most successful in reaching as many customers as possible.  This might include a traditional storefront, an internet site, and a catalog.  The options available through this approach allows customers many venues for shopping.</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9F654-1E06-4075-AF34-90CEEDA3E4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be internet only companies or have a traditional store.  Internet retailers are often referred to as “etailers”, sometimes also called “e-commerce sites”.  They can be associated with a store based retailer or may have only a Web presence. There are many successful sites that utilize either method of operation.  Ask the students to name a few sites/stores that are success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et retailers also do business using different customer models that are not always considered.  It can be a typical “b2c” site-business to consumer, the most prevalent, it could be a “c2c” site-consumer to consumer, like eBay, or something that students often don’t think about, a “b2b” site-business selling to other busin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et as a shopping option is still in its infancy, growing and changing rapidly.</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3156E-7136-4274-AE4E-28983C119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D93C4-44C9-4E91-98BE-A2F2FD550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EA754-AD7A-4FC7-98C4-6D9F1A5FD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D158FE-F250-46DE-A008-9E52E02E0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4DA5C-F97D-4D6C-8106-CD7ADC929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61CC1B-39D4-461B-9E9E-30CE7C58CE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31818-0BB8-4C99-B661-5661352CB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077D7-CAC6-4D0F-9505-5751BDC20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73651-4CC5-4081-B624-EB11F7BEE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BBD06-E03D-4067-9F74-4F96A4AC6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05AA9-D418-4F7C-9500-D1EDDB70D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C69E5-0738-48C1-A689-FAB6D25A5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3B3A5-20A2-490C-AD10-6996245B4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2270E-9E19-482C-A816-3006F01B8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62374-7DD6-43E4-84D3-D000E4A48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41D8C-5C22-4F50-8A74-7B0A2BB19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D3A352-4A87-4354-AB4C-112969D36A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4C5F92-4363-4A6F-A401-F5B0E47C92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B7D85A-5B3C-4758-811D-10149C771B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EA500F-FDE6-48AD-BE93-9C83A56249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0EE969-3B1E-43CA-A9B6-8F2CC70F2D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564A18-2037-48B3-8D49-07029FEB3D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ED9FBB-E93F-4CC6-87C6-CF24EE027E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FE35A-2C22-44E3-8B2F-8EAFEF84F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7CF447-EAA0-41F3-88BE-8B7DA34C7A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98DBE8-EDD9-4045-8177-416075BC1B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003B04-1E53-4E66-A068-591570D19E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ED698C-DC0F-4826-AC28-09125B8447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4A9AEA-40D8-4DBC-BB8F-A305443609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A5E7DA-7A6A-4FCF-906E-19A96A2794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61D8A4-94EE-4C66-8E21-5EA65C1CE0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CC9956-67B4-4AB7-BA62-97EE0C8E1F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E34B9B-799C-4046-9977-145746B9F2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635E49-3636-4469-A282-E0148C699B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300CA-15C5-4716-8E38-56C6E596F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9C1A83-3F75-4879-90C3-BC1EBD10AD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ED70D8-A6D9-4EB5-B035-5FDDA12E8B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A4049E-AE53-4530-95B5-55A599B84B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0CF7C1-8577-42D5-B85F-DBA05990E4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DC536E-D03B-429E-ABD2-04D3C40306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08EF5D-0F7F-48FF-AA1A-32146427EC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72D7FA-1DBF-4916-AF50-EEE959F887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8A5DFA-0CF9-4D8A-9E7B-576EB804F3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746C4C-CD11-41C1-ACA3-28A1BDC05C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0EBDA7-6CFD-458A-9DC5-515F6A5706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86AF9-6162-47EA-AA2B-B020055D4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664D51-346C-420C-870D-D089B36AE2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CA35C7-0664-4EB6-BE38-91F2240E11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B06162-54CC-4893-911C-3D65529BD9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7E80F8-7173-49C4-87DE-D9018DEF4C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6AB186-9B96-4A41-9BFA-518D0E9ECB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0BD3D3-22EA-43A4-A563-1627F29A83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A7A2A2-0607-49B8-AA81-A397A1B773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24C45B-41E6-4AFA-BE60-8C79E83E54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F43BFF-3FF0-475F-B80D-9163706443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0FFC58-E305-4F44-9B15-E9E1DEB0A7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41AB9-E156-4751-AF62-81E98EA49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3866B6-CDED-4077-908E-295F43C250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4F18AE-0E4A-49D9-9237-1F3C0082C9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CE1335-C63B-4C96-A8DF-47D75FA84F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EE1703-C717-4CDA-A5F5-BC955BBDB6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3737C0-16B6-48FD-B1DD-D24D1286D3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E579BF-8A4D-4131-BE53-1E1CD519B0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0EC674-8BCF-4F65-AFF0-70751B0C01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26FEDC-BD58-4F94-954B-0DDD3DF2AA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4D015B-E1BB-41DD-AAAB-CA906D0CC9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EF5B30-2D92-4D32-8D5D-47C9EF0D5E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9414B-8A4A-4723-81B4-5E2130FF1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1AEEB6-C9C0-4D8E-8360-6048BA6FCC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C2BA2F-1A8D-4D14-930F-EE864C7287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4D101E-A023-4FB2-87AF-C662FE7C5D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4CFE89-284D-4C0B-B5FB-7ED4189A52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F577EB-FEC0-4B70-B637-98F4775C6A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579E7C-12ED-4851-82B3-FB9E33E91E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7431C2-ED74-4C46-BD75-804AA1D59F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9C86DD-B142-4B6A-B084-5355422D05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A24654-B02A-435F-A84E-12AA060763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AEBB70-37B5-4FE0-8DC2-5E5220B40A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7D3A6-9E36-47AF-B93C-23190455A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165617-3FAF-408A-A289-A01773A30C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F95748-D235-4635-86B5-514C2A1EE5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F29913-844B-44FD-81E8-5552F4E85D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302B40-2AD1-4607-A605-63BE688EBF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7835FB-50EC-4C12-90D9-D71342A8D0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18EB4-8D60-4E56-AE01-EC48FFA29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80D7D-251F-4D90-A489-FA240A2077B4}"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5EC79-EDB1-420E-963E-66C39BE1F33A}"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38074-776F-4890-B738-ADE2A80AF0B8}"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25"/>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9105E-09B9-445D-A142-FD5DAF2B86A5}"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E818B-0C4E-4069-B95F-A0091E5CC644}"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3A58D-9A65-4136-80E0-3AC087E76F9D}"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64BE7-4E3D-4E99-93EC-BCDA26F16B27}"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sephora.com/"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r3lCsN3YzJs&amp;feature=related"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xploring Retail Market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0520" y="2438280"/>
            <a:ext cx="8458200" cy="4114800"/>
          </a:xfrm>
          <a:prstGeom prst="rect">
            <a:avLst/>
          </a:prstGeom>
          <a:noFill/>
          <a:ln w="0">
            <a:noFill/>
          </a:ln>
        </p:spPr>
        <p:txBody>
          <a:bodyPr anchor="t">
            <a:normAutofit fontScale="95000"/>
          </a:bodyPr>
          <a:p>
            <a:pPr marL="259200" indent="-25920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ome retail companies use the Web to do more than just send customers to their store locations.  </a:t>
            </a:r>
            <a:endParaRPr b="0" lang="en-US" sz="2800" spc="-1" strike="noStrike">
              <a:solidFill>
                <a:srgbClr val="073e87"/>
              </a:solidFill>
              <a:latin typeface="Candara"/>
            </a:endParaRPr>
          </a:p>
          <a:p>
            <a:pPr marL="259200" indent="-25920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ephora is a beauty-store chain that carries over 250 lines of products.</a:t>
            </a:r>
            <a:endParaRPr b="0" lang="en-US" sz="2800" spc="-1" strike="noStrike">
              <a:solidFill>
                <a:srgbClr val="073e87"/>
              </a:solidFill>
              <a:latin typeface="Candara"/>
            </a:endParaRPr>
          </a:p>
          <a:p>
            <a:pPr lvl="1" marL="547200" indent="-25956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 </a:t>
            </a:r>
            <a:r>
              <a:rPr b="0" lang="en-US" sz="2600" spc="-1" strike="noStrike">
                <a:solidFill>
                  <a:srgbClr val="073e87"/>
                </a:solidFill>
                <a:latin typeface="Candara"/>
              </a:rPr>
              <a:t>Its site reflects the image and accessibility of the retail stores. </a:t>
            </a:r>
            <a:endParaRPr b="0" lang="en-US" sz="2600" spc="-1" strike="noStrike">
              <a:solidFill>
                <a:srgbClr val="073e87"/>
              </a:solidFill>
              <a:latin typeface="Candara"/>
            </a:endParaRPr>
          </a:p>
          <a:p>
            <a:pPr lvl="1" marL="547200" indent="-25956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Customers can find the same products and personalized customer service found in their store.  </a:t>
            </a:r>
            <a:endParaRPr b="0" lang="en-US" sz="2600" spc="-1" strike="noStrike">
              <a:solidFill>
                <a:srgbClr val="073e87"/>
              </a:solidFill>
              <a:latin typeface="Candar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364" name="PlaceHolder 1"/>
          <p:cNvSpPr>
            <a:spLocks noGrp="1"/>
          </p:cNvSpPr>
          <p:nvPr>
            <p:ph type="title"/>
          </p:nvPr>
        </p:nvSpPr>
        <p:spPr>
          <a:xfrm>
            <a:off x="53352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amiliarity Breeds Success-Sephora</a:t>
            </a:r>
            <a:endParaRPr b="0" lang="en-US" sz="4400" spc="-1" strike="noStrike">
              <a:solidFill>
                <a:srgbClr val="ffffff"/>
              </a:solidFill>
              <a:latin typeface="Candar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nline Activity</a:t>
            </a:r>
            <a:endParaRPr b="0" lang="en-US" sz="4400" spc="-1" strike="noStrike">
              <a:solidFill>
                <a:srgbClr val="ffffff"/>
              </a:solidFill>
              <a:latin typeface="Candara"/>
            </a:endParaRPr>
          </a:p>
        </p:txBody>
      </p:sp>
      <p:sp>
        <p:nvSpPr>
          <p:cNvPr id="366" name="Rectangle 3"/>
          <p:cNvSpPr/>
          <p:nvPr/>
        </p:nvSpPr>
        <p:spPr>
          <a:xfrm>
            <a:off x="838080" y="2413080"/>
            <a:ext cx="7315200" cy="3506040"/>
          </a:xfrm>
          <a:prstGeom prst="rect">
            <a:avLst/>
          </a:prstGeom>
          <a:noFill/>
          <a:ln w="0">
            <a:noFill/>
          </a:ln>
        </p:spPr>
        <p:style>
          <a:lnRef idx="0"/>
          <a:fillRef idx="0"/>
          <a:effectRef idx="0"/>
          <a:fontRef idx="minor"/>
        </p:style>
        <p:txBody>
          <a:bodyPr lIns="90000" rIns="90000" tIns="46800" bIns="46800" anchor="t">
            <a:spAutoFit/>
          </a:bodyPr>
          <a:p>
            <a:pPr marL="609480" indent="-609480">
              <a:buClr>
                <a:srgbClr val="073e8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Arial"/>
              </a:rPr>
              <a:t>View the Sephora Web site.  What makes the site successful? </a:t>
            </a:r>
            <a:r>
              <a:rPr b="0" lang="en-US" sz="3200" spc="-1" strike="noStrike" u="sng">
                <a:solidFill>
                  <a:srgbClr val="0080ff"/>
                </a:solidFill>
                <a:uFillTx/>
                <a:latin typeface="Arial"/>
                <a:hlinkClick r:id="rId1"/>
              </a:rPr>
              <a:t>sephora</a:t>
            </a:r>
            <a:endParaRPr b="0" lang="en-US" sz="3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Arial"/>
              </a:rPr>
              <a:t>2.   Select a site with a retail presence that you’ve shopped at before.  Does the site convey a familiarity similar to the store?  If so, describe.  If not, what could they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pic>
        <p:nvPicPr>
          <p:cNvPr id="369" name="Picture 2" descr=""/>
          <p:cNvPicPr/>
          <p:nvPr/>
        </p:nvPicPr>
        <p:blipFill>
          <a:blip r:embed="rId1"/>
          <a:stretch/>
        </p:blipFill>
        <p:spPr>
          <a:xfrm>
            <a:off x="7920" y="0"/>
            <a:ext cx="92152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urchase products through the mail or other delivery servic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urchase goods, store in a warehou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ypically don’t have a retail store</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hotographs with descriptions and pri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ist of prospective customer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talog Retailer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04920" y="2438280"/>
            <a:ext cx="8686800" cy="4267440"/>
          </a:xfrm>
          <a:prstGeom prst="rect">
            <a:avLst/>
          </a:prstGeom>
          <a:noFill/>
          <a:ln w="0">
            <a:noFill/>
          </a:ln>
        </p:spPr>
        <p:txBody>
          <a:bodyPr anchor="t">
            <a:normAutofit/>
          </a:bodyPr>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ales of counterfeit items totaled well over $200-600 billion in sales lost</a:t>
            </a:r>
            <a:endParaRPr b="0" lang="en-US" sz="2800" spc="-1" strike="noStrike">
              <a:solidFill>
                <a:srgbClr val="073e87"/>
              </a:solidFill>
              <a:latin typeface="Candara"/>
            </a:endParaRPr>
          </a:p>
          <a:p>
            <a:pPr lvl="1" marL="576360" indent="-27324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ale of goods without permission of the trademark or copyright of the owner</a:t>
            </a:r>
            <a:endParaRPr b="0" lang="en-US" sz="24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Dramatically increased with the easily copied items like CDs, software, and DVDs.</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Top end knockoffs are even more lucrative</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Manufacturers are fighting back with magnetic tags and hologram stickers as well as prosecuting offenders.</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ff"/>
                </a:solidFill>
                <a:uFillTx/>
                <a:latin typeface="Candara"/>
                <a:hlinkClick r:id="rId1"/>
              </a:rPr>
              <a:t>The high cost of fakes</a:t>
            </a:r>
            <a:endParaRPr b="0" lang="en-US" sz="2800" spc="-1" strike="noStrike">
              <a:solidFill>
                <a:srgbClr val="073e87"/>
              </a:solidFill>
              <a:latin typeface="Candara"/>
            </a:endParaRPr>
          </a:p>
        </p:txBody>
      </p:sp>
      <p:sp>
        <p:nvSpPr>
          <p:cNvPr id="37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ounterfeit Product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top ten counterfeited goods</a:t>
            </a:r>
            <a:endParaRPr b="0" lang="en-US" sz="4400" spc="-1" strike="noStrike">
              <a:solidFill>
                <a:srgbClr val="ffffff"/>
              </a:solidFill>
              <a:latin typeface="Candara"/>
            </a:endParaRPr>
          </a:p>
        </p:txBody>
      </p:sp>
      <p:sp>
        <p:nvSpPr>
          <p:cNvPr id="377" name=""/>
          <p:cNvSpPr txBox="1"/>
          <p:nvPr/>
        </p:nvSpPr>
        <p:spPr>
          <a:xfrm>
            <a:off x="304560" y="2057040"/>
            <a:ext cx="4343400" cy="480060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Footwear</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99.8 million</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38% of sales</a:t>
            </a:r>
            <a:endParaRPr b="0" lang="en-US" sz="2800" spc="-1" strike="noStrike">
              <a:solidFill>
                <a:srgbClr val="073e87"/>
              </a:solidFill>
              <a:latin typeface="Candara"/>
            </a:endParaRPr>
          </a:p>
          <a:p>
            <a:pPr marL="272880" indent="-272880">
              <a:spcBef>
                <a:spcPts val="700"/>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nsumer Electronics</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31.8 million</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12%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	</a:t>
            </a:r>
            <a:endParaRPr b="0" lang="en-US" sz="2800" spc="-1" strike="noStrike">
              <a:solidFill>
                <a:srgbClr val="073e87"/>
              </a:solidFill>
              <a:latin typeface="Candara"/>
            </a:endParaRPr>
          </a:p>
        </p:txBody>
      </p:sp>
      <p:sp>
        <p:nvSpPr>
          <p:cNvPr id="378" name=""/>
          <p:cNvSpPr txBox="1"/>
          <p:nvPr/>
        </p:nvSpPr>
        <p:spPr>
          <a:xfrm>
            <a:off x="4419360" y="2438280"/>
            <a:ext cx="4343400" cy="426744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Handbags/Wallets/</a:t>
            </a: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      </a:t>
            </a:r>
            <a:r>
              <a:rPr b="0" lang="en-US" sz="2800" spc="-1" strike="noStrike">
                <a:solidFill>
                  <a:srgbClr val="073e87"/>
                </a:solidFill>
                <a:latin typeface="Candara"/>
              </a:rPr>
              <a:t>Backpacks &amp; Apparel</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21.5 million</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8%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Watches/Part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15.5 million</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6%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op Ten Counterfeited goods</a:t>
            </a:r>
            <a:endParaRPr b="0" lang="en-US" sz="4400" spc="-1" strike="noStrike">
              <a:solidFill>
                <a:srgbClr val="ffffff"/>
              </a:solidFill>
              <a:latin typeface="Candara"/>
            </a:endParaRPr>
          </a:p>
        </p:txBody>
      </p:sp>
      <p:sp>
        <p:nvSpPr>
          <p:cNvPr id="380" name=""/>
          <p:cNvSpPr txBox="1"/>
          <p:nvPr/>
        </p:nvSpPr>
        <p:spPr>
          <a:xfrm>
            <a:off x="676440" y="1981080"/>
            <a:ext cx="3822480" cy="4572000"/>
          </a:xfrm>
          <a:prstGeom prst="rect">
            <a:avLst/>
          </a:prstGeom>
          <a:noFill/>
          <a:ln w="0">
            <a:noFill/>
          </a:ln>
        </p:spPr>
        <p:txBody>
          <a:bodyPr anchor="t">
            <a:normAutofit fontScale="92000"/>
          </a:bodyPr>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mputers/Hardware</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2.5 million</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5% of sales</a:t>
            </a:r>
            <a:endParaRPr b="0" lang="en-US" sz="24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Media/Pharmaceuticals</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1.1 million </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4% of sales</a:t>
            </a:r>
            <a:endParaRPr b="0" lang="en-US" sz="24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Jewelry</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0.5 million</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4% of sales</a:t>
            </a:r>
            <a:endParaRPr b="0" lang="en-US" sz="2400" spc="-1" strike="noStrike">
              <a:solidFill>
                <a:srgbClr val="073e87"/>
              </a:solidFill>
              <a:latin typeface="Candara"/>
            </a:endParaRPr>
          </a:p>
          <a:p>
            <a:pPr marL="250920" indent="-250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1" name=""/>
          <p:cNvSpPr txBox="1"/>
          <p:nvPr/>
        </p:nvSpPr>
        <p:spPr>
          <a:xfrm>
            <a:off x="4645080" y="2679480"/>
            <a:ext cx="3822480" cy="3446280"/>
          </a:xfrm>
          <a:prstGeom prst="rect">
            <a:avLst/>
          </a:prstGeom>
          <a:noFill/>
          <a:ln w="0">
            <a:noFill/>
          </a:ln>
        </p:spPr>
        <p:txBody>
          <a:bodyPr anchor="t">
            <a:normAutofit/>
          </a:bodyPr>
          <a:p>
            <a:pPr marL="571680" indent="-51444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Toys/Electronic Games</a:t>
            </a:r>
            <a:endParaRPr b="0" lang="en-US" sz="3200" spc="-1" strike="noStrike">
              <a:solidFill>
                <a:srgbClr val="073e87"/>
              </a:solidFill>
              <a:latin typeface="Candara"/>
            </a:endParaRPr>
          </a:p>
          <a:p>
            <a:pPr lvl="1" marL="97164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5.5 million</a:t>
            </a:r>
            <a:endParaRPr b="0" lang="en-US" sz="2800" spc="-1" strike="noStrike">
              <a:solidFill>
                <a:srgbClr val="073e87"/>
              </a:solidFill>
              <a:latin typeface="Candara"/>
            </a:endParaRPr>
          </a:p>
          <a:p>
            <a:pPr lvl="1" marL="97164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2%</a:t>
            </a:r>
            <a:endParaRPr b="0" lang="en-US" sz="2800" spc="-1" strike="noStrike">
              <a:solidFill>
                <a:srgbClr val="073e87"/>
              </a:solidFill>
              <a:latin typeface="Candara"/>
            </a:endParaRPr>
          </a:p>
          <a:p>
            <a:pPr marL="571680" indent="-5144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nufacturers are fighting back with magnetic tags and hologram stickers.  Watch out for Web sites, too.  Operators of Fakegifts.com were recently shut down by a federal grand jury.</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SIGNMENT- FIND TWO KNOCKOFF WEBSITES…WHAT DO THEY CARRY?</a:t>
            </a:r>
            <a:endParaRPr b="0" lang="en-US" sz="2400" spc="-1" strike="noStrike">
              <a:solidFill>
                <a:srgbClr val="073e87"/>
              </a:solidFill>
              <a:latin typeface="Candara"/>
            </a:endParaRPr>
          </a:p>
        </p:txBody>
      </p:sp>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ilemna of Counterfeits/Activity i</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6840" y="2133720"/>
            <a:ext cx="3809880" cy="45259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re are many types of retailing and many places retailers do business.</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Everywhere</a:t>
            </a:r>
            <a:endParaRPr b="0" lang="en-US" sz="4400" spc="-1" strike="noStrike">
              <a:solidFill>
                <a:srgbClr val="ffffff"/>
              </a:solidFill>
              <a:latin typeface="Candara"/>
            </a:endParaRPr>
          </a:p>
        </p:txBody>
      </p:sp>
      <p:pic>
        <p:nvPicPr>
          <p:cNvPr id="345" name="Picture 4" descr="j0186348"/>
          <p:cNvPicPr/>
          <p:nvPr/>
        </p:nvPicPr>
        <p:blipFill>
          <a:blip r:embed="rId1"/>
          <a:stretch/>
        </p:blipFill>
        <p:spPr>
          <a:xfrm>
            <a:off x="4910040" y="2133720"/>
            <a:ext cx="2551320" cy="3581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a product of interest at each site. </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r>
              <a:rPr b="0" lang="en-US" sz="2200" spc="-1" strike="noStrike">
                <a:solidFill>
                  <a:srgbClr val="073e87"/>
                </a:solidFill>
                <a:latin typeface="Candara"/>
              </a:rPr>
              <a:t>Describe the company--</a:t>
            </a:r>
            <a:endParaRPr b="0" lang="en-US" sz="2200" spc="-1" strike="noStrike">
              <a:solidFill>
                <a:srgbClr val="073e87"/>
              </a:solidFill>
              <a:latin typeface="Candara"/>
            </a:endParaRPr>
          </a:p>
          <a:p>
            <a:pPr lvl="2" marL="855720" indent="-22860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Merchandise, product lines, etc</a:t>
            </a:r>
            <a:endParaRPr b="0" lang="en-US" sz="20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entify the site</a:t>
            </a:r>
            <a:endParaRPr b="0" lang="en-US" sz="22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three catalog retailer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three retail stores that also have catalog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cate a retailer’s website that sells counterfeit products</a:t>
            </a:r>
            <a:endParaRPr b="0" lang="en-US" sz="2400" spc="-1" strike="noStrike">
              <a:solidFill>
                <a:srgbClr val="073e87"/>
              </a:solidFill>
              <a:latin typeface="Candara"/>
            </a:endParaRPr>
          </a:p>
        </p:txBody>
      </p:sp>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rap it up</a:t>
            </a:r>
            <a:endParaRPr b="0" lang="en-US" sz="4400" spc="-1" strike="noStrike">
              <a:solidFill>
                <a:srgbClr val="ffffff"/>
              </a:solidFill>
              <a:latin typeface="Candar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High Tech</a:t>
            </a:r>
            <a:endParaRPr b="0" lang="en-US" sz="4400" spc="-1" strike="noStrike">
              <a:solidFill>
                <a:srgbClr val="ffffff"/>
              </a:solidFill>
              <a:latin typeface="Candara"/>
            </a:endParaRPr>
          </a:p>
        </p:txBody>
      </p:sp>
      <p:sp>
        <p:nvSpPr>
          <p:cNvPr id="387" name=""/>
          <p:cNvSpPr txBox="1"/>
          <p:nvPr/>
        </p:nvSpPr>
        <p:spPr>
          <a:xfrm>
            <a:off x="676440" y="2057400"/>
            <a:ext cx="3822480" cy="45720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Internet allows retailers to:</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ncrease their customer b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ase purchasing</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Video</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in employee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V/Satellite for training/company info</a:t>
            </a:r>
            <a:endParaRPr b="0" lang="en-US" sz="2200" spc="-1" strike="noStrike">
              <a:solidFill>
                <a:srgbClr val="073e87"/>
              </a:solidFill>
              <a:latin typeface="Candara"/>
            </a:endParaRPr>
          </a:p>
        </p:txBody>
      </p:sp>
      <p:sp>
        <p:nvSpPr>
          <p:cNvPr id="388" name=""/>
          <p:cNvSpPr txBox="1"/>
          <p:nvPr/>
        </p:nvSpPr>
        <p:spPr>
          <a:xfrm>
            <a:off x="4645080" y="2209320"/>
            <a:ext cx="3822480" cy="391644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Computer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ck inventory &amp; ord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perate cash regist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ordering from sales data</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ather customer data</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cann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Up-to-date info</a:t>
            </a:r>
            <a:endParaRPr b="0" lang="en-US" sz="2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ny characteristics are shared by all retailer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ost important-The desire to make their products available when &amp; where the customer wants them.</a:t>
            </a:r>
            <a:endParaRPr b="0" lang="en-US" sz="2200" spc="-1" strike="noStrike">
              <a:solidFill>
                <a:srgbClr val="073e87"/>
              </a:solidFill>
              <a:latin typeface="Candara"/>
            </a:endParaRPr>
          </a:p>
        </p:txBody>
      </p:sp>
      <p:sp>
        <p:nvSpPr>
          <p:cNvPr id="39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Nature of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hannels of Distribution</a:t>
            </a:r>
            <a:endParaRPr b="0" lang="en-US" sz="4400" spc="-1" strike="noStrike">
              <a:solidFill>
                <a:srgbClr val="ffffff"/>
              </a:solidFill>
              <a:latin typeface="Candara"/>
            </a:endParaRPr>
          </a:p>
        </p:txBody>
      </p:sp>
      <p:sp>
        <p:nvSpPr>
          <p:cNvPr id="392" name=""/>
          <p:cNvSpPr txBox="1"/>
          <p:nvPr/>
        </p:nvSpPr>
        <p:spPr>
          <a:xfrm>
            <a:off x="676440" y="2679480"/>
            <a:ext cx="3822480" cy="34462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ow the product gets from the manufacturer to the retailer.</a:t>
            </a:r>
            <a:endParaRPr b="0" lang="en-US" sz="2400" spc="-1" strike="noStrike">
              <a:solidFill>
                <a:srgbClr val="073e87"/>
              </a:solidFill>
              <a:latin typeface="Candar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rect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Directly from the manufacturer to the consumer</a:t>
            </a:r>
            <a:endParaRPr b="0" lang="en-US" sz="2000" spc="-1" strike="noStrike">
              <a:solidFill>
                <a:srgbClr val="073e87"/>
              </a:solidFill>
              <a:latin typeface="Candara"/>
            </a:endParaRPr>
          </a:p>
          <a:p>
            <a:pPr lvl="2" marL="855720" indent="-228600">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Avon</a:t>
            </a:r>
            <a:endParaRPr b="0" lang="en-US" sz="1800" spc="-1" strike="noStrike">
              <a:solidFill>
                <a:srgbClr val="073e87"/>
              </a:solidFill>
              <a:latin typeface="Candara"/>
            </a:endParaRPr>
          </a:p>
          <a:p>
            <a:pPr>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393" name=""/>
          <p:cNvSpPr txBox="1"/>
          <p:nvPr/>
        </p:nvSpPr>
        <p:spPr>
          <a:xfrm>
            <a:off x="4645080" y="2679840"/>
            <a:ext cx="3822480" cy="3720960"/>
          </a:xfrm>
          <a:prstGeom prst="rect">
            <a:avLst/>
          </a:prstGeom>
          <a:noFill/>
          <a:ln w="0">
            <a:noFill/>
          </a:ln>
        </p:spPr>
        <p:txBody>
          <a:bodyPr anchor="t">
            <a:normAutofit/>
          </a:bodyPr>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ndirect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Product makes an additional stop</a:t>
            </a:r>
            <a:endParaRPr b="0" lang="en-US" sz="2000" spc="-1" strike="noStrike">
              <a:solidFill>
                <a:srgbClr val="073e87"/>
              </a:solidFill>
              <a:latin typeface="Candara"/>
            </a:endParaRPr>
          </a:p>
          <a:p>
            <a:pPr lvl="1" marL="576360" indent="-273240">
              <a:lnSpc>
                <a:spcPct val="8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roducer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Manufacturer owns the retail store</a:t>
            </a:r>
            <a:endParaRPr b="0" lang="en-US" sz="2000" spc="-1" strike="noStrike">
              <a:solidFill>
                <a:srgbClr val="073e87"/>
              </a:solidFill>
              <a:latin typeface="Candara"/>
            </a:endParaRPr>
          </a:p>
          <a:p>
            <a:pPr lvl="2" marL="855720" indent="-228600">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Levi </a:t>
            </a:r>
            <a:endParaRPr b="0" lang="en-US" sz="18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stco &amp; Sams Club</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ct as wholesaler and retailer</a:t>
            </a:r>
            <a:endParaRPr b="0" lang="en-US" sz="20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Business &amp; individuals</a:t>
            </a:r>
            <a:endParaRPr b="0" lang="en-US" sz="20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4"/>
          <p:cNvSpPr/>
          <p:nvPr/>
        </p:nvSpPr>
        <p:spPr>
          <a:xfrm>
            <a:off x="1828800" y="533520"/>
            <a:ext cx="5791320" cy="914400"/>
          </a:xfrm>
          <a:prstGeom prst="rect">
            <a:avLst/>
          </a:pr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Text Box 6"/>
          <p:cNvSpPr/>
          <p:nvPr/>
        </p:nvSpPr>
        <p:spPr>
          <a:xfrm>
            <a:off x="2362320" y="6858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Producers</a:t>
            </a:r>
            <a:endParaRPr b="0" lang="en-US" sz="1800" spc="-1" strike="noStrike">
              <a:solidFill>
                <a:srgbClr val="000000"/>
              </a:solidFill>
              <a:latin typeface="Arial"/>
            </a:endParaRPr>
          </a:p>
        </p:txBody>
      </p:sp>
      <p:sp>
        <p:nvSpPr>
          <p:cNvPr id="396" name="AutoShape 7"/>
          <p:cNvSpPr/>
          <p:nvPr/>
        </p:nvSpPr>
        <p:spPr>
          <a:xfrm>
            <a:off x="1828800" y="1447920"/>
            <a:ext cx="228600" cy="3962160"/>
          </a:xfrm>
          <a:prstGeom prst="downArrow">
            <a:avLst>
              <a:gd name="adj1" fmla="val 50000"/>
              <a:gd name="adj2" fmla="val 433307"/>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Rectangle 8"/>
          <p:cNvSpPr/>
          <p:nvPr/>
        </p:nvSpPr>
        <p:spPr>
          <a:xfrm>
            <a:off x="1752480" y="5486400"/>
            <a:ext cx="6096240" cy="762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Text Box 9"/>
          <p:cNvSpPr/>
          <p:nvPr/>
        </p:nvSpPr>
        <p:spPr>
          <a:xfrm>
            <a:off x="2133720" y="5562720"/>
            <a:ext cx="495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a:t>
            </a:r>
            <a:endParaRPr b="0" lang="en-US" sz="1800" spc="-1" strike="noStrike">
              <a:solidFill>
                <a:srgbClr val="000000"/>
              </a:solidFill>
              <a:latin typeface="Arial"/>
            </a:endParaRPr>
          </a:p>
        </p:txBody>
      </p:sp>
      <p:grpSp>
        <p:nvGrpSpPr>
          <p:cNvPr id="399" name="Group 28"/>
          <p:cNvGrpSpPr/>
          <p:nvPr/>
        </p:nvGrpSpPr>
        <p:grpSpPr>
          <a:xfrm>
            <a:off x="228600" y="3200400"/>
            <a:ext cx="1676520" cy="368280"/>
            <a:chOff x="228600" y="3200400"/>
            <a:chExt cx="1676520" cy="368280"/>
          </a:xfrm>
        </p:grpSpPr>
        <p:sp>
          <p:nvSpPr>
            <p:cNvPr id="400" name="Line 10"/>
            <p:cNvSpPr/>
            <p:nvPr/>
          </p:nvSpPr>
          <p:spPr>
            <a:xfrm>
              <a:off x="1066680" y="34290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1"/>
            <p:cNvSpPr/>
            <p:nvPr/>
          </p:nvSpPr>
          <p:spPr>
            <a:xfrm>
              <a:off x="22860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a:t>
              </a:r>
              <a:endParaRPr b="0" lang="en-US" sz="1800" spc="-1" strike="noStrike">
                <a:solidFill>
                  <a:srgbClr val="000000"/>
                </a:solidFill>
                <a:latin typeface="Arial"/>
              </a:endParaRPr>
            </a:p>
          </p:txBody>
        </p:sp>
      </p:grpSp>
      <p:sp>
        <p:nvSpPr>
          <p:cNvPr id="402" name="AutoShape 12"/>
          <p:cNvSpPr/>
          <p:nvPr/>
        </p:nvSpPr>
        <p:spPr>
          <a:xfrm>
            <a:off x="3352680" y="1447920"/>
            <a:ext cx="228600" cy="3962160"/>
          </a:xfrm>
          <a:prstGeom prst="downArrow">
            <a:avLst>
              <a:gd name="adj1" fmla="val 50000"/>
              <a:gd name="adj2" fmla="val 433307"/>
            </a:avLst>
          </a:prstGeom>
          <a:solidFill>
            <a:srgbClr val="5eae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AutoShape 13"/>
          <p:cNvSpPr/>
          <p:nvPr/>
        </p:nvSpPr>
        <p:spPr>
          <a:xfrm>
            <a:off x="5867280" y="1447920"/>
            <a:ext cx="228600" cy="3962160"/>
          </a:xfrm>
          <a:prstGeom prst="downArrow">
            <a:avLst>
              <a:gd name="adj1" fmla="val 50000"/>
              <a:gd name="adj2" fmla="val 433307"/>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AutoShape 14"/>
          <p:cNvSpPr/>
          <p:nvPr/>
        </p:nvSpPr>
        <p:spPr>
          <a:xfrm>
            <a:off x="4724280" y="1447920"/>
            <a:ext cx="228600" cy="3962160"/>
          </a:xfrm>
          <a:prstGeom prst="downArrow">
            <a:avLst>
              <a:gd name="adj1" fmla="val 50000"/>
              <a:gd name="adj2" fmla="val 43330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Rectangle 15"/>
          <p:cNvSpPr/>
          <p:nvPr/>
        </p:nvSpPr>
        <p:spPr>
          <a:xfrm>
            <a:off x="2971800" y="3429000"/>
            <a:ext cx="4114800" cy="6858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6"/>
          <p:cNvSpPr/>
          <p:nvPr/>
        </p:nvSpPr>
        <p:spPr>
          <a:xfrm>
            <a:off x="3200400" y="350532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ers</a:t>
            </a:r>
            <a:endParaRPr b="0" lang="en-US" sz="1800" spc="-1" strike="noStrike">
              <a:solidFill>
                <a:srgbClr val="000000"/>
              </a:solidFill>
              <a:latin typeface="Arial"/>
            </a:endParaRPr>
          </a:p>
        </p:txBody>
      </p:sp>
      <p:sp>
        <p:nvSpPr>
          <p:cNvPr id="407" name="AutoShape 18"/>
          <p:cNvSpPr/>
          <p:nvPr/>
        </p:nvSpPr>
        <p:spPr>
          <a:xfrm>
            <a:off x="7238880" y="1447920"/>
            <a:ext cx="228600" cy="3962160"/>
          </a:xfrm>
          <a:prstGeom prst="downArrow">
            <a:avLst>
              <a:gd name="adj1" fmla="val 50000"/>
              <a:gd name="adj2" fmla="val 433307"/>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Text Box 19"/>
          <p:cNvSpPr/>
          <p:nvPr/>
        </p:nvSpPr>
        <p:spPr>
          <a:xfrm>
            <a:off x="1828800" y="167652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09" name="Text Box 20"/>
          <p:cNvSpPr/>
          <p:nvPr/>
        </p:nvSpPr>
        <p:spPr>
          <a:xfrm>
            <a:off x="1752480" y="44197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10" name="Text Box 21"/>
          <p:cNvSpPr/>
          <p:nvPr/>
        </p:nvSpPr>
        <p:spPr>
          <a:xfrm>
            <a:off x="3276720" y="44197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411" name="Text Box 22"/>
          <p:cNvSpPr/>
          <p:nvPr/>
        </p:nvSpPr>
        <p:spPr>
          <a:xfrm>
            <a:off x="46483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412" name="Text Box 23"/>
          <p:cNvSpPr/>
          <p:nvPr/>
        </p:nvSpPr>
        <p:spPr>
          <a:xfrm>
            <a:off x="57913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413" name="Text Box 24"/>
          <p:cNvSpPr/>
          <p:nvPr/>
        </p:nvSpPr>
        <p:spPr>
          <a:xfrm>
            <a:off x="71629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414" name="Rectangle 17"/>
          <p:cNvSpPr/>
          <p:nvPr/>
        </p:nvSpPr>
        <p:spPr>
          <a:xfrm>
            <a:off x="5257800" y="1600200"/>
            <a:ext cx="2819520" cy="762120"/>
          </a:xfrm>
          <a:prstGeom prst="rect">
            <a:avLst/>
          </a:prstGeom>
          <a:solidFill>
            <a:srgbClr val="5eae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Text Box 25"/>
          <p:cNvSpPr/>
          <p:nvPr/>
        </p:nvSpPr>
        <p:spPr>
          <a:xfrm>
            <a:off x="5791320" y="18288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s</a:t>
            </a:r>
            <a:endParaRPr b="0" lang="en-US" sz="1800" spc="-1" strike="noStrike">
              <a:solidFill>
                <a:srgbClr val="000000"/>
              </a:solidFill>
              <a:latin typeface="Arial"/>
            </a:endParaRPr>
          </a:p>
        </p:txBody>
      </p:sp>
      <p:sp>
        <p:nvSpPr>
          <p:cNvPr id="416" name="Rectangle 26"/>
          <p:cNvSpPr/>
          <p:nvPr/>
        </p:nvSpPr>
        <p:spPr>
          <a:xfrm>
            <a:off x="3962520" y="2514600"/>
            <a:ext cx="2590560" cy="685800"/>
          </a:xfrm>
          <a:prstGeom prst="rect">
            <a:avLst/>
          </a:prstGeom>
          <a:solidFill>
            <a:srgbClr val="c6e7f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27"/>
          <p:cNvSpPr/>
          <p:nvPr/>
        </p:nvSpPr>
        <p:spPr>
          <a:xfrm>
            <a:off x="4495680" y="266688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lesalers</a:t>
            </a:r>
            <a:endParaRPr b="0" lang="en-US" sz="1800" spc="-1" strike="noStrike">
              <a:solidFill>
                <a:srgbClr val="000000"/>
              </a:solidFill>
              <a:latin typeface="Arial"/>
            </a:endParaRPr>
          </a:p>
        </p:txBody>
      </p:sp>
      <p:sp>
        <p:nvSpPr>
          <p:cNvPr id="418" name="Line 32"/>
          <p:cNvSpPr/>
          <p:nvPr/>
        </p:nvSpPr>
        <p:spPr>
          <a:xfrm flipH="1">
            <a:off x="7391520" y="3048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3"/>
          <p:cNvSpPr/>
          <p:nvPr/>
        </p:nvSpPr>
        <p:spPr>
          <a:xfrm flipH="1">
            <a:off x="6552720" y="3048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Text Box 35"/>
          <p:cNvSpPr/>
          <p:nvPr/>
        </p:nvSpPr>
        <p:spPr>
          <a:xfrm>
            <a:off x="8153280" y="2819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is the 2</a:t>
            </a:r>
            <a:r>
              <a:rPr b="0" lang="en-US" sz="2400" spc="-1" strike="noStrike" baseline="30000">
                <a:solidFill>
                  <a:srgbClr val="073e87"/>
                </a:solidFill>
                <a:latin typeface="Candara"/>
              </a:rPr>
              <a:t>nd</a:t>
            </a:r>
            <a:r>
              <a:rPr b="0" lang="en-US" sz="2400" spc="-1" strike="noStrike">
                <a:solidFill>
                  <a:srgbClr val="073e87"/>
                </a:solidFill>
                <a:latin typeface="Candara"/>
              </a:rPr>
              <a:t> largest industry nationally in number of stores, or outlets, and in number of employe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enefits customers, community, and the local and national economies.</a:t>
            </a:r>
            <a:endParaRPr b="0" lang="en-US" sz="2400" spc="-1" strike="noStrike">
              <a:solidFill>
                <a:srgbClr val="073e87"/>
              </a:solidFill>
              <a:latin typeface="Candara"/>
            </a:endParaRPr>
          </a:p>
        </p:txBody>
      </p:sp>
      <p:sp>
        <p:nvSpPr>
          <p:cNvPr id="42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of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Customers</a:t>
            </a:r>
            <a:endParaRPr b="0" lang="en-US" sz="4400" spc="-1" strike="noStrike">
              <a:solidFill>
                <a:srgbClr val="ffffff"/>
              </a:solidFill>
              <a:latin typeface="Candara"/>
            </a:endParaRPr>
          </a:p>
        </p:txBody>
      </p:sp>
      <p:graphicFrame>
        <p:nvGraphicFramePr>
          <p:cNvPr id="424" name=""/>
          <p:cNvGraphicFramePr/>
          <p:nvPr/>
        </p:nvGraphicFramePr>
        <p:xfrm>
          <a:off x="380880" y="990720"/>
          <a:ext cx="8229600" cy="5384520"/>
        </p:xfrm>
        <a:graphic>
          <a:graphicData uri="http://schemas.openxmlformats.org/drawingml/2006/table">
            <a:tbl>
              <a:tblPr/>
              <a:tblGrid>
                <a:gridCol w="3429000"/>
                <a:gridCol w="2286000"/>
                <a:gridCol w="2514600"/>
              </a:tblGrid>
              <a:tr h="748440">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tores</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atalog</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Interne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5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Browsing, Touching &amp; Feeling product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onvenie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onvenienc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Entertainmen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ocial Interac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ortability; acces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afe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84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ersonal Servi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afe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Broad sel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ash Paym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Visua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resent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Detailed Inf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ersonaliz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Immediate gratifica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roblem Solving Inf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871560" y="2674440"/>
            <a:ext cx="7408800" cy="345132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ource of employment</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upport local community activitie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Pizza night</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National retailers support national philanthropic effort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reast cancer, special Olympic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2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the Communit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cal retailers purchase products from national compani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eeds and Want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urchases are determined by the condition of the economy</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ales and the Economy</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tail sales help to forecast the health of the economy</a:t>
            </a:r>
            <a:endParaRPr b="0" lang="en-US" sz="2200" spc="-1" strike="noStrike">
              <a:solidFill>
                <a:srgbClr val="073e87"/>
              </a:solidFill>
              <a:latin typeface="Candara"/>
            </a:endParaRPr>
          </a:p>
        </p:txBody>
      </p:sp>
      <p:sp>
        <p:nvSpPr>
          <p:cNvPr id="42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the Econom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 Navy first set sail in 1994 as part of the Gap, Inc. fleet of companies.  Gap was founded in 1969 by Donald and Doris Fisher in San Francisco with a single store.  It is now one of the top retailers in the world with about 4700 stores in 90 countries.  The first 3 stores opened in NorCal offering hip but affordable clothing.  It expanded and earned $1 billion in its first three years.  Old Navy entered international waters in 1991, launching 12 stores in Canada.</a:t>
            </a:r>
            <a:endParaRPr b="0" lang="en-US" sz="2400" spc="-1" strike="noStrike">
              <a:solidFill>
                <a:srgbClr val="073e87"/>
              </a:solidFill>
              <a:latin typeface="Candara"/>
            </a:endParaRPr>
          </a:p>
        </p:txBody>
      </p:sp>
      <p:sp>
        <p:nvSpPr>
          <p:cNvPr id="43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Stud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 basic needs were met…</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Food, water, shelter, clothing</a:t>
            </a:r>
            <a:endParaRPr b="0" lang="en-US" sz="22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eople wanted more than they could provide for themselves</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Began swapping or trading</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eneral stores appeared</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pecialty stores became common</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talog retailing opened the doors</a:t>
            </a:r>
            <a:endParaRPr b="0" lang="en-US" sz="2200" spc="-1" strike="noStrike">
              <a:solidFill>
                <a:srgbClr val="073e87"/>
              </a:solidFill>
              <a:latin typeface="Candara"/>
            </a:endParaRPr>
          </a:p>
        </p:txBody>
      </p:sp>
      <p:sp>
        <p:nvSpPr>
          <p:cNvPr id="34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Beginning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 Navy’s employee headsets, campy ads and “the denim game” ranked in the top  20 in brand recall surpassing some Super Bowl ads.  </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ir commercials have a mix of pop culture personalitie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y targeting cost-conscious customers, with unique marketing and promotions, Old Navy has continued to sail the high seas.</a:t>
            </a:r>
            <a:endParaRPr b="0" lang="en-US" sz="2400" spc="-1" strike="noStrike">
              <a:solidFill>
                <a:srgbClr val="073e87"/>
              </a:solidFill>
              <a:latin typeface="Candar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ndara"/>
              </a:rPr>
              <a:t>Who do you think is a typical Old Navy customer?</a:t>
            </a:r>
            <a:endParaRPr b="0" lang="en-US" sz="2400" spc="-1" strike="noStrike">
              <a:solidFill>
                <a:srgbClr val="073e87"/>
              </a:solidFill>
              <a:latin typeface="Candara"/>
            </a:endParaRPr>
          </a:p>
        </p:txBody>
      </p:sp>
      <p:sp>
        <p:nvSpPr>
          <p:cNvPr id="43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INNOVATIVE MARKETING</a:t>
            </a:r>
            <a:br>
              <a:rPr sz="4000"/>
            </a:b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Get in groups of no more than four students.</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mpare and Contrast the companies under the Gap umbrella.</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nsider the 4 Ps (product, place, price and promotion)</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Prepare a document explaining your findings.</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e prepared to present it.</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3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ld Navy and the Fleet Activit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Retailers Do</a:t>
            </a:r>
            <a:endParaRPr b="0" lang="en-US" sz="4400" spc="-1" strike="noStrike">
              <a:solidFill>
                <a:srgbClr val="ffffff"/>
              </a:solidFill>
              <a:latin typeface="Candara"/>
            </a:endParaRPr>
          </a:p>
        </p:txBody>
      </p:sp>
      <p:sp>
        <p:nvSpPr>
          <p:cNvPr id="436" name=""/>
          <p:cNvSpPr txBox="1"/>
          <p:nvPr/>
        </p:nvSpPr>
        <p:spPr>
          <a:xfrm>
            <a:off x="380520" y="2286000"/>
            <a:ext cx="4038840" cy="4068720"/>
          </a:xfrm>
          <a:prstGeom prst="rect">
            <a:avLst/>
          </a:prstGeom>
          <a:noFill/>
          <a:ln w="0">
            <a:noFill/>
          </a:ln>
        </p:spPr>
        <p:txBody>
          <a:bodyPr anchor="t">
            <a:normAutofit fontScale="98000"/>
          </a:bodyPr>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Buying Merchandis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Determining Selling Pric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Storing Goods for Purchas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Advertising &amp; Promoting</a:t>
            </a:r>
            <a:endParaRPr b="0" lang="en-US" sz="3000" spc="-1" strike="noStrike">
              <a:solidFill>
                <a:srgbClr val="073e87"/>
              </a:solidFill>
              <a:latin typeface="Candara"/>
            </a:endParaRPr>
          </a:p>
          <a:p>
            <a:pPr marL="267120" indent="-2671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Displaying Merchandise</a:t>
            </a:r>
            <a:endParaRPr b="0" lang="en-US" sz="2800" spc="-1" strike="noStrike">
              <a:solidFill>
                <a:srgbClr val="073e87"/>
              </a:solidFill>
              <a:latin typeface="Candara"/>
            </a:endParaRPr>
          </a:p>
          <a:p>
            <a:pPr marL="267120" indent="-2671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37" name=""/>
          <p:cNvSpPr txBox="1"/>
          <p:nvPr/>
        </p:nvSpPr>
        <p:spPr>
          <a:xfrm>
            <a:off x="4648320" y="2285640"/>
            <a:ext cx="4038480" cy="4267080"/>
          </a:xfrm>
          <a:prstGeom prst="rect">
            <a:avLst/>
          </a:prstGeom>
          <a:noFill/>
          <a:ln w="0">
            <a:noFill/>
          </a:ln>
        </p:spPr>
        <p:txBody>
          <a:bodyPr anchor="t">
            <a:normAutofit/>
          </a:bodyPr>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Selling Goods &amp; Services</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Servicing Products</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Providing Customer Service</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Risk Management</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Hiring/Managing Employees</a:t>
            </a:r>
            <a:endParaRPr b="0" lang="en-US" sz="3200" spc="-1" strike="noStrike">
              <a:solidFill>
                <a:srgbClr val="073e87"/>
              </a:solidFill>
              <a:latin typeface="Candara"/>
            </a:endParaRPr>
          </a:p>
          <a:p>
            <a:pPr lvl="1" marL="576360" indent="-27324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871560" y="2209680"/>
            <a:ext cx="7408800" cy="4267440"/>
          </a:xfrm>
          <a:prstGeom prst="rect">
            <a:avLst/>
          </a:prstGeom>
          <a:noFill/>
          <a:ln w="0">
            <a:noFill/>
          </a:ln>
        </p:spPr>
        <p:txBody>
          <a:bodyPr anchor="t">
            <a:normAutofit fontScale="95000"/>
          </a:bodyPr>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kind of merchandise do they sell?</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y do you like it?  Explain</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How long has the store been in business?</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similar stores compete with it?</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advantages do the competition have over your favorite store?</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advantages does your store have over its competitors?</a:t>
            </a:r>
            <a:endParaRPr b="0" lang="en-US" sz="3000" spc="-1" strike="noStrike">
              <a:solidFill>
                <a:srgbClr val="073e87"/>
              </a:solidFill>
              <a:latin typeface="Candara"/>
            </a:endParaRPr>
          </a:p>
        </p:txBody>
      </p:sp>
      <p:sp>
        <p:nvSpPr>
          <p:cNvPr id="43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is your favorite retail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ping Centers bec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ping Mall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Internet</a:t>
            </a:r>
            <a:endParaRPr b="0" lang="en-US" sz="2400" spc="-1" strike="noStrike">
              <a:solidFill>
                <a:srgbClr val="073e87"/>
              </a:solidFill>
              <a:latin typeface="Candara"/>
            </a:endParaRPr>
          </a:p>
        </p:txBody>
      </p:sp>
      <p:sp>
        <p:nvSpPr>
          <p:cNvPr id="34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Beginnings</a:t>
            </a:r>
            <a:endParaRPr b="0" lang="en-US" sz="4400" spc="-1" strike="noStrike">
              <a:solidFill>
                <a:srgbClr val="ffffff"/>
              </a:solidFill>
              <a:latin typeface="Candara"/>
            </a:endParaRPr>
          </a:p>
        </p:txBody>
      </p:sp>
      <p:pic>
        <p:nvPicPr>
          <p:cNvPr id="350" name="Picture 5" descr="MCj04316380000[1]"/>
          <p:cNvPicPr/>
          <p:nvPr/>
        </p:nvPicPr>
        <p:blipFill>
          <a:blip r:embed="rId1"/>
          <a:stretch/>
        </p:blipFill>
        <p:spPr>
          <a:xfrm>
            <a:off x="4724280" y="2819520"/>
            <a:ext cx="289584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lling of products and servic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oducts-goods and services that have a monetary value.</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wo major typ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ose that sell products or good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ose that provide a service</a:t>
            </a:r>
            <a:endParaRPr b="0" lang="en-US" sz="22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is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609480" y="2590920"/>
            <a:ext cx="8229600" cy="3581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ome type of retailing exists everywher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dvances in communications and the Internet have made it a more global activ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U.S. companies have expanded to other nation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reign countries have outlets in the U.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Goods are produces on a global level.</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Global</a:t>
            </a:r>
            <a:endParaRPr b="0" lang="en-US" sz="4400" spc="-1" strike="noStrike">
              <a:solidFill>
                <a:srgbClr val="ffffff"/>
              </a:solidFill>
              <a:latin typeface="Candara"/>
            </a:endParaRPr>
          </a:p>
        </p:txBody>
      </p:sp>
      <p:pic>
        <p:nvPicPr>
          <p:cNvPr id="355" name="Picture 4" descr="j0335112"/>
          <p:cNvPicPr/>
          <p:nvPr/>
        </p:nvPicPr>
        <p:blipFill>
          <a:blip r:embed="rId1"/>
          <a:stretch/>
        </p:blipFill>
        <p:spPr>
          <a:xfrm>
            <a:off x="7391520" y="228600"/>
            <a:ext cx="895320" cy="89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xamine your clothing and possessions you have with you today.</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entify the item, brand name, store purchased, and where they were made.</a:t>
            </a:r>
            <a:endParaRPr b="0" lang="en-US" sz="2200" spc="-1" strike="noStrike">
              <a:solidFill>
                <a:srgbClr val="073e87"/>
              </a:solidFill>
              <a:latin typeface="Candara"/>
            </a:endParaRPr>
          </a:p>
        </p:txBody>
      </p:sp>
      <p:sp>
        <p:nvSpPr>
          <p:cNvPr id="35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ere’d it come from?</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871560" y="2674440"/>
            <a:ext cx="7408800" cy="3451320"/>
          </a:xfrm>
          <a:prstGeom prst="rect">
            <a:avLst/>
          </a:prstGeom>
          <a:noFill/>
          <a:ln w="0">
            <a:noFill/>
          </a:ln>
        </p:spPr>
        <p:txBody>
          <a:bodyPr anchor="t">
            <a:normAutofit/>
          </a:bodyPr>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perate and conduct business from a fixed locatio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Display merchandise for customers to inspect and purch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y to make it appealing so you will make a purch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ost prevalent form of retailing</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ach has distinguishing characteristics</a:t>
            </a:r>
            <a:endParaRPr b="0" lang="en-US" sz="22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raditional store based retailer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ll their goods and services though the Interne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and mortar versus brick and morta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 from any location in the world 24/7, 365.</a:t>
            </a:r>
            <a:endParaRPr b="0" lang="en-US" sz="2400" spc="-1" strike="noStrike">
              <a:solidFill>
                <a:srgbClr val="073e87"/>
              </a:solidFill>
              <a:latin typeface="Candara"/>
            </a:endParaRPr>
          </a:p>
        </p:txBody>
      </p:sp>
      <p:sp>
        <p:nvSpPr>
          <p:cNvPr id="36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nternet Retailers</a:t>
            </a:r>
            <a:endParaRPr b="0" lang="en-US" sz="4400" spc="-1" strike="noStrike">
              <a:solidFill>
                <a:srgbClr val="ffffff"/>
              </a:solidFill>
              <a:latin typeface="Candara"/>
            </a:endParaRPr>
          </a:p>
        </p:txBody>
      </p:sp>
      <p:pic>
        <p:nvPicPr>
          <p:cNvPr id="362" name="Picture 4" descr="j0205582"/>
          <p:cNvPicPr/>
          <p:nvPr/>
        </p:nvPicPr>
        <p:blipFill>
          <a:blip r:embed="rId1"/>
          <a:stretch/>
        </p:blipFill>
        <p:spPr>
          <a:xfrm>
            <a:off x="6172200" y="4572000"/>
            <a:ext cx="1776240" cy="163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4T18:36:41Z</dcterms:created>
  <dc:creator>ITD</dc:creator>
  <dc:description/>
  <dc:language>en-US</dc:language>
  <cp:lastModifiedBy>Mindy Bean</cp:lastModifiedBy>
  <cp:lastPrinted>2012-05-02T20:33:21Z</cp:lastPrinted>
  <dcterms:modified xsi:type="dcterms:W3CDTF">2018-06-29T19:28:22Z</dcterms:modified>
  <cp:revision>71</cp:revision>
  <dc:subject/>
  <dc:title>Exploring Retail Marketing</dc:title>
</cp:coreProperties>
</file>