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F298-D14F-4808-8FE8-11000D592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61E1-E4F2-47C5-B277-C82596143F1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other than standard identification must be added to the im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creen/film radiography, additional information is marked by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and date stic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se penc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anent ma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7E2B-940C-4A98-8BBC-C0239D50229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itching is used for anatomy or areas of interest too large to fit on one cassett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ultiple images can be “stitched” togethe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metimes, special cassette holders are used and positioned vertically, corresponding to foot to hip or entire spine radiograph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72E5-3A43-4B13-95DB-E87B676B146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CR CL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2F76-48E1-4A19-AD64-0AB7B911B88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 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5432-BE35-431E-BEBD-2F31610C43A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IN L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E764-8AFA-4EE3-B251-6D90804EE9E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 DROP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E132-9407-4EF7-9398-40DB559C205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70C3-F09B-47EE-9113-F75CF918F0DD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0E02-8573-4385-82DB-1731B98FF3C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THIS CHAPTER TALK ABOUT THE SPEED OF THE DETECT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IS DETERMINED BY HOW EFFICIENTLY THE DETECTOR/DR CASSETTE CONVERTS X-RAY PHOTONS INTO ELECTRONIC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STER THE SPEED, THE LESS PHOTONS ARE NEEDED TO CONVERT, BUT THE LESS RESOLUTION YOU WILL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E15F-3B44-4275-AD8E-7CCEE9A68D7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NOT 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D557-374A-4B52-954C-12C940B8AED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SMOOTHING, MORE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is a reduction of noise and contr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pass filtering is useful for viewing small structures such as fine bone tissue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062F-6132-4114-86EA-F0BDBE1858A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BRING OUT THE OUT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PRODUCES A SHORTER SCALE OF CONTRAST AND MAKES EDGES APPEAR SHAR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EDGE ENHANCEMENT, FEWER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KNOWN AS HIGH PASS FILTER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RESULT IN LOSS OF DETAIL OR INFORMATION – SHOULD ONLY BE USED WHILE VIEWING ( POST PAC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E335-A927-4CA7-8D9A-08DA6665F81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fficient collimation results in unattenuated radiation striking the imaging pla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ing histogram is changed so that it is outside the normal exposure indicator range for the part selec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smallest imaging plate possible and proper collimation, especially on small or thin patients, eliminates this erro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3F0-0381-4263-A5EB-D1D0615C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10D-A378-4507-870C-3DDE4F68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674-EDCB-4119-9727-4FDBD86E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73B2-589B-4DF5-A8EC-F60F7479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76B2-1808-44C7-BACA-B57CA3B9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79D0-E87B-4E73-B9C6-72764013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31DA-1A86-4A5A-B4E1-03DEBDEC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9E70-0D38-49B1-88F7-6D13B926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F751-64CD-4DD3-8684-89B2F055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B39B-4640-4E25-841E-E0909F2A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DB24-54EF-4F6D-B236-86B8B3D7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440-E52D-4DF7-97C1-7507C767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6825-4C08-45DF-A0CB-398AE40C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3CE2-0225-4FF3-AD1E-48B044DC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4171-3AAD-4443-ABFC-FD67D705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B5D3-E1EE-4507-BBC3-5152FB08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26D6-85F2-4D3C-B352-0D231177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B78-89F1-470F-8BAF-8AABF749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9D4-8A45-4305-94CB-7B57E003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6757-32EB-453C-A07C-F4DD39D6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EF1D-54B7-42CF-B0FB-774989D0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41E-1599-47FA-8FE1-6EFF69DB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E00-D7CC-445D-9553-C5B4CFF4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8FC6-F6BB-4992-8642-BB813AFE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3465-EE15-4880-A7EE-C73EB2764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69F6-F381-4B90-9A6B-0BAB37E3584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CESS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</a:t>
            </a:r>
            <a:br>
              <a:rPr sz="32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812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PTER 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mage Reversal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Content Placeholder 3" descr="hsg-tubal-spasm.jpg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449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sg1.jpg"/>
          <p:cNvPicPr/>
          <p:nvPr/>
        </p:nvPicPr>
        <p:blipFill>
          <a:blip r:embed="rId2"/>
          <a:srcRect l="0" t="0" r="0" b="13545"/>
          <a:stretch/>
        </p:blipFill>
        <p:spPr>
          <a:xfrm>
            <a:off x="4800600" y="1981080"/>
            <a:ext cx="4006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1768-1122-40B4-BD65-BD363344B4DD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Annot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overlay the image as bitmap imag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may not transfer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cture archival and communication syst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PAC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of annotation for identification of the patient’s left or right side should never be used as a substitute for technologist’s anatomy mark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4" descr="007010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5F8E-62CA-4B2C-9A18-EEDEC970EFD5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Stitc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processed in computer programs that nearly seamlessly join the anatom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uter displays one single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cess eliminates the need for large (36-inch) cassettes previously used in film/screen radiograph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007009A"/>
          <p:cNvPicPr/>
          <p:nvPr/>
        </p:nvPicPr>
        <p:blipFill>
          <a:blip r:embed="rId1"/>
          <a:stretch/>
        </p:blipFill>
        <p:spPr>
          <a:xfrm>
            <a:off x="380880" y="41911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7009B"/>
          <p:cNvPicPr/>
          <p:nvPr/>
        </p:nvPicPr>
        <p:blipFill>
          <a:blip r:embed="rId2"/>
          <a:stretch/>
        </p:blipFill>
        <p:spPr>
          <a:xfrm>
            <a:off x="3657600" y="4191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07009C"/>
          <p:cNvPicPr/>
          <p:nvPr/>
        </p:nvPicPr>
        <p:blipFill>
          <a:blip r:embed="rId3"/>
          <a:stretch/>
        </p:blipFill>
        <p:spPr>
          <a:xfrm>
            <a:off x="7086600" y="41911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Quinn Carroll\My Documents\DigRadTEXT\LCDphotos\Fig30-12AA.jpg"/>
          <p:cNvPicPr/>
          <p:nvPr/>
        </p:nvPicPr>
        <p:blipFill>
          <a:blip r:embed="rId1"/>
          <a:stretch/>
        </p:blipFill>
        <p:spPr>
          <a:xfrm>
            <a:off x="838080" y="533520"/>
            <a:ext cx="2462400" cy="57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Quinn Carroll\My Documents\DigRadTEXT\LCDphotos\Fig30-12BB.jpg"/>
          <p:cNvPicPr/>
          <p:nvPr/>
        </p:nvPicPr>
        <p:blipFill>
          <a:blip r:embed="rId2"/>
          <a:stretch/>
        </p:blipFill>
        <p:spPr>
          <a:xfrm>
            <a:off x="3505320" y="533520"/>
            <a:ext cx="2433600" cy="5762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324480" y="533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48520" y="609480"/>
            <a:ext cx="2590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 Scoliosis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age Stitching feature shows seam lines between 3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ternative Algorith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way to adjust the contrast and brightness characteristics of an image is to re-process it under a different pre-set anatomical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ight: A lateral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lumbar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e-processed as 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horacic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hows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mproved visibility of those vertebrae within the lung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C:\Documents and Settings\Quinn Carroll\My Documents\DigRadTEXT\SLIDES\30-04a.pct"/>
          <p:cNvPicPr/>
          <p:nvPr/>
        </p:nvPicPr>
        <p:blipFill>
          <a:blip r:embed="rId1"/>
          <a:stretch/>
        </p:blipFill>
        <p:spPr>
          <a:xfrm>
            <a:off x="5181480" y="1447920"/>
            <a:ext cx="32241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xposure Indicator Error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thing which can lead to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histogram analysis error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ause the exposure indicator to be corrup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aneous exposure information, including sca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osure field recognition err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nexpected material in fi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imation margins not detec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eme underexposure or overexpo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ay in 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22DB-E608-4BD9-BD18-2D9693E1A78F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Artifact_CR_poor_screen_cleanin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6819-B7B0-4C50-87DB-8BC8C7445585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5" descr="Artifact_bar_code_artefac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6547-DABB-4C04-925C-8B112F5294E1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Error_equipment_artifact_cr_reader_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0785-F861-4A55-B4AF-56878FBE1651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icture 5" descr="Error_chest_wrong_lu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RT Obj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ociate impact of image processing parameters to the image appearance.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 a procedure or process to minimize histogram analysis and rescaling errors.   (SEE PAGE 58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923E-106D-428B-8B53-0B92E72F352E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5" descr="Error_abdomen_cr_drop_o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te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jec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utton on most systems results i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erman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oss of the image, making “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peat”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ard to perform. When prompted to enter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ason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r a reject, it is important to enter an honest answer rather than “other.” Departments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nd ways to mak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ject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le, for several professional and ethical reas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Y ATTENTION TO PAGE 5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mputed radiography image is taken at 66 kVp and 11 mAs with a 12:1 Grid at 60 inches.  The computer tries to fix the image, but the exposure index values indicate underexposure.  A new image needs to be taken, but the patient has been moved and now you as the technologist can only get a 40" SID.  What should the new technique b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PEED.bmp"/>
          <p:cNvPicPr/>
          <p:nvPr/>
        </p:nvPicPr>
        <p:blipFill>
          <a:blip r:embed="rId1"/>
          <a:stretch/>
        </p:blipFill>
        <p:spPr>
          <a:xfrm>
            <a:off x="838080" y="3581280"/>
            <a:ext cx="7543800" cy="28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1846-DCD9-4996-9625-8696F95965F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R, most cassettes have the same speed; however, there are special extremity or chest cassettes that produce greater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typically 200 relative spe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65A4-5344-470F-86EE-466995A0E8E5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gnific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ther technique is “zoom.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oom allows magnification of the entir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mage can be enlarged enough that only parts of it are visible on the scre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ose parts can be seen through mouse navig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007011A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7011B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80CF-603F-4856-8D3C-B84F2B7BD85E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5" name="Picture 2" descr="https://encrypted-tbn1.gstatic.com/images?q=tbn:ANd9GcRwqap9pn4IH9nPg75c98PMt-DxFyBEyp1lsJ-eqWiSmIkt8rncpw"/>
          <p:cNvPicPr/>
          <p:nvPr/>
        </p:nvPicPr>
        <p:blipFill>
          <a:blip r:embed="rId1"/>
          <a:stretch/>
        </p:blipFill>
        <p:spPr>
          <a:xfrm>
            <a:off x="990720" y="2286000"/>
            <a:ext cx="7696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6D19-F13C-4948-9124-FF53ADCD56A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dge Enhancemen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MATRIX RESOLUTIO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 of Edge Enhancement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3" descr="C:\Documents and Settings\Quinn Carroll\My Documents\DigRadTEXT\SLIDES\29-30A.pct"/>
          <p:cNvPicPr/>
          <p:nvPr/>
        </p:nvPicPr>
        <p:blipFill>
          <a:blip r:embed="rId1"/>
          <a:stretch/>
        </p:blipFill>
        <p:spPr>
          <a:xfrm>
            <a:off x="1066680" y="685800"/>
            <a:ext cx="3314880" cy="41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Quinn Carroll\My Documents\DigRadTEXT\SLIDES\29-30B.pct"/>
          <p:cNvPicPr/>
          <p:nvPr/>
        </p:nvPicPr>
        <p:blipFill>
          <a:blip r:embed="rId2"/>
          <a:stretch/>
        </p:blipFill>
        <p:spPr>
          <a:xfrm>
            <a:off x="5029200" y="762120"/>
            <a:ext cx="3213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lack Mask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007008A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402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7008B"/>
          <p:cNvPicPr/>
          <p:nvPr/>
        </p:nvPicPr>
        <p:blipFill>
          <a:blip r:embed="rId2"/>
          <a:srcRect l="6518" t="0" r="0" b="7318"/>
          <a:stretch/>
        </p:blipFill>
        <p:spPr>
          <a:xfrm>
            <a:off x="5410080" y="1981080"/>
            <a:ext cx="2971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81C8-C7E6-4C50-8A3B-27154BC8EC4C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Collimation vs. Shutter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results in increased contrast because of the reduction of scatter as fog and reduces the amount of grid cleanup necessary for increased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ough post exposure image manipulation known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uttering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black background can be added around the original collimation edges, virtually eliminating the distracting white or clear are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7" descr="FOOT.bmp"/>
          <p:cNvPicPr/>
          <p:nvPr/>
        </p:nvPicPr>
        <p:blipFill>
          <a:blip r:embed="rId1"/>
          <a:stretch/>
        </p:blipFill>
        <p:spPr>
          <a:xfrm>
            <a:off x="1981080" y="3657600"/>
            <a:ext cx="254016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OOT 2.bmp"/>
          <p:cNvPicPr/>
          <p:nvPr/>
        </p:nvPicPr>
        <p:blipFill>
          <a:blip r:embed="rId2"/>
          <a:stretch/>
        </p:blipFill>
        <p:spPr>
          <a:xfrm>
            <a:off x="4876920" y="3657600"/>
            <a:ext cx="2438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54:50Z</dcterms:created>
  <dc:creator>Quinn B Carroll</dc:creator>
  <dc:description/>
  <dc:language>en-US</dc:language>
  <cp:lastModifiedBy>PCSUPPORT</cp:lastModifiedBy>
  <dcterms:modified xsi:type="dcterms:W3CDTF">2014-02-03T16:15:23Z</dcterms:modified>
  <cp:revision>18</cp:revision>
  <dc:subject/>
  <dc:title>PowerPoint Slides for</dc:title>
</cp:coreProperties>
</file>