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6714-427F-475A-9F96-25E9E17A3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15AD-39C1-4350-8052-1D9989BEA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BF31-AE3B-4497-8E09-17D6DE58D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417D-B70F-4C98-8231-103C81D48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7523-8F96-45C9-9913-1D0BE4B93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52B9-C96A-4AE7-9920-4939C92DD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7568-F266-494B-A384-51636516E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6A82-65CE-4756-9BB2-A7D28FEE5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6E93-0A5B-4A6E-B3B2-524E71FA4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2C3C-2C96-4A6C-B977-C78283BC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F4D0-3F6F-4742-BD06-44A7D6A6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AA0D-4E4C-47DC-BB42-D2CF2FEA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bb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tumblr.com/tagged/reservations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rt Stack"/>
                <a:ea typeface="Short Stack"/>
              </a:rPr>
              <a:t>History of Native American Families in the U.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88888"/>
              </a:solidFill>
              <a:latin typeface="Calibri"/>
              <a:ea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rt Stack"/>
                <a:ea typeface="Short Stack"/>
              </a:rPr>
              <a:t>Children and Paren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Families were generally small in size due to high rates infant mort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Children’s soc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Physical punishment used rar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Inappropriate behaviors ridiculed or igno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Praise and public reward encouraged appropriate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In matrilineal societies, maternal uncles often had more authority over kids than fathers d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Children worked alongside parents and other adults to learn necessary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Consequences of European Contac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240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Sharp decline in population due to disease and viol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By 1670s only 10% of original population in New England had surviv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Some survivors sold into slavery or sent to other parts of wor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At least 50 tribes completely wiped 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Relocation to reserv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During 1800s, Native Americans dispossessed of 95% of their terri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Reservation land often of poor q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Forced migrations especially disruptive because systems of subsistence were tailored for particular ecological niche (hunting, farming, tra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37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Consequences of European Contac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0520" y="299988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Forced assimi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Children required to attend boarding sch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School emphasized learning trade or learning to work as domestic servant rather than academ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Speaking native language forbid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Hair cut sh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Schools located far from children’s homes and families; visits impossible or r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Shape 158" descr=""/>
          <p:cNvPicPr/>
          <p:nvPr/>
        </p:nvPicPr>
        <p:blipFill>
          <a:blip r:embed="rId1"/>
          <a:stretch/>
        </p:blipFill>
        <p:spPr>
          <a:xfrm>
            <a:off x="1566720" y="1503360"/>
            <a:ext cx="6218280" cy="149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Shape 163" descr=""/>
          <p:cNvPicPr/>
          <p:nvPr/>
        </p:nvPicPr>
        <p:blipFill>
          <a:blip r:embed="rId1"/>
          <a:stretch/>
        </p:blipFill>
        <p:spPr>
          <a:xfrm>
            <a:off x="0" y="0"/>
            <a:ext cx="6667560" cy="4846680"/>
          </a:xfrm>
          <a:prstGeom prst="rect">
            <a:avLst/>
          </a:prstGeom>
          <a:ln w="0">
            <a:noFill/>
          </a:ln>
        </p:spPr>
      </p:pic>
      <p:pic>
        <p:nvPicPr>
          <p:cNvPr id="77" name="Shape 164" descr=""/>
          <p:cNvPicPr/>
          <p:nvPr/>
        </p:nvPicPr>
        <p:blipFill>
          <a:blip r:embed="rId2"/>
          <a:stretch/>
        </p:blipFill>
        <p:spPr>
          <a:xfrm>
            <a:off x="3868560" y="3938760"/>
            <a:ext cx="5275440" cy="2919240"/>
          </a:xfrm>
          <a:prstGeom prst="rect">
            <a:avLst/>
          </a:prstGeom>
          <a:ln w="0">
            <a:noFill/>
          </a:ln>
        </p:spPr>
      </p:pic>
      <p:sp>
        <p:nvSpPr>
          <p:cNvPr id="78" name="Shape 165"/>
          <p:cNvSpPr/>
          <p:nvPr/>
        </p:nvSpPr>
        <p:spPr>
          <a:xfrm>
            <a:off x="0" y="5184720"/>
            <a:ext cx="3727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hort Stack"/>
                <a:ea typeface="Short Stack"/>
              </a:rPr>
              <a:t>Two photos of the Indian Training School in Forest Grove,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rt Stack"/>
                <a:ea typeface="Short Stack"/>
              </a:rPr>
              <a:t>Implications for Family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Parents and extended family had less authority over their children during period when U.S. government controlled education (1802 – 197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Relocation, division of land, and assimilation altered family living arrang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For some groups, shift to single-family homes undermined traditional kinship system and family ro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Transition from self-sufficiency to low-wage labor compromised men’s ability to prov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Negatively impacted men’s status and self-concept, particularly in patrilineal socie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Increased single-mother famil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Native Americans in Pre-Colonial Tim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2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2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Short Stack"/>
                <a:ea typeface="Short Stack"/>
              </a:rPr>
              <a:t>When English settlers arrived there wer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Over 240 cultural grou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Even more linguistic grou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2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Short Stack"/>
                <a:ea typeface="Short Stack"/>
              </a:rPr>
              <a:t>Populations were concentrated in 7 geographic areas, each with its own set of environmental deman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2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Short Stack"/>
                <a:ea typeface="Short Stack"/>
              </a:rPr>
              <a:t>Groups adapted economic systems, styles of housing, and family arrangements to fit these deman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2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Short Stack"/>
                <a:ea typeface="Short Stack"/>
              </a:rPr>
              <a:t>Family relationships impacted all dimensions of social lif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Succession to political offi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Religious posi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Inheritance and property ownershi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Possible marriage partn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pic>
        <p:nvPicPr>
          <p:cNvPr id="47" name="Shape 9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16520"/>
          </a:xfrm>
          <a:prstGeom prst="rect">
            <a:avLst/>
          </a:prstGeom>
          <a:ln w="0">
            <a:noFill/>
          </a:ln>
        </p:spPr>
      </p:pic>
      <p:sp>
        <p:nvSpPr>
          <p:cNvPr id="48" name="Shape 95"/>
          <p:cNvSpPr/>
          <p:nvPr/>
        </p:nvSpPr>
        <p:spPr>
          <a:xfrm>
            <a:off x="457200" y="6259680"/>
            <a:ext cx="31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Excludes Hawaiian Is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90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Watch the disappearance of tribal lands upon the arrival of European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475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99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rt Stack"/>
                <a:ea typeface="Short Stack"/>
              </a:rPr>
              <a:t>Go to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Short Stack"/>
                <a:ea typeface="Short Stack"/>
                <a:hlinkClick r:id="rId1"/>
              </a:rPr>
              <a:t>http://www.tumblr.com/tagged/reservations</a:t>
            </a:r>
            <a:r>
              <a:rPr b="0" lang="en-US" sz="3200" spc="-1" strike="noStrike">
                <a:solidFill>
                  <a:srgbClr val="000000"/>
                </a:solidFill>
                <a:latin typeface="Short Stack"/>
                <a:ea typeface="Short St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99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rt Stack"/>
                <a:ea typeface="Short Stack"/>
              </a:rPr>
              <a:t>Then click on post by “Harvesthear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pic>
        <p:nvPicPr>
          <p:cNvPr id="53" name="Shape 10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Regions and Family Living Arrangements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0840" y="1320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06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Short Stack"/>
                <a:ea typeface="Short Stack"/>
              </a:rPr>
              <a:t>Eastern Woodland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hort Stack"/>
                <a:ea typeface="Short Stack"/>
              </a:rPr>
              <a:t>Algonquians lived in wigwams housing 1-2 famil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hort Stack"/>
                <a:ea typeface="Short Stack"/>
              </a:rPr>
              <a:t>Iroquois lived in longhouses containing 10 famil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06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Short Stack"/>
                <a:ea typeface="Short Stack"/>
              </a:rPr>
              <a:t>Southeaster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hort Stack"/>
                <a:ea typeface="Short Stack"/>
              </a:rPr>
              <a:t>More concentrated,                                          agricultural popu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hort Stack"/>
                <a:ea typeface="Short Stack"/>
              </a:rPr>
              <a:t>Extended family = center                                                  of social ac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hort Stack"/>
                <a:ea typeface="Short Stack"/>
              </a:rPr>
              <a:t>Husbands moved in with                                              wives’ famil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Shape 115" descr=""/>
          <p:cNvPicPr/>
          <p:nvPr/>
        </p:nvPicPr>
        <p:blipFill>
          <a:blip r:embed="rId1"/>
          <a:stretch/>
        </p:blipFill>
        <p:spPr>
          <a:xfrm>
            <a:off x="5832360" y="3330720"/>
            <a:ext cx="3311640" cy="3095640"/>
          </a:xfrm>
          <a:prstGeom prst="rect">
            <a:avLst/>
          </a:prstGeom>
          <a:ln w="0">
            <a:noFill/>
          </a:ln>
        </p:spPr>
      </p:pic>
      <p:sp>
        <p:nvSpPr>
          <p:cNvPr id="57" name="Shape 116"/>
          <p:cNvSpPr/>
          <p:nvPr/>
        </p:nvSpPr>
        <p:spPr>
          <a:xfrm>
            <a:off x="6068880" y="6426360"/>
            <a:ext cx="27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hort Stack"/>
                <a:ea typeface="Short Stack"/>
              </a:rPr>
              <a:t>Iroquois long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Regions and Family Living Arrangements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99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rt Stack"/>
                <a:ea typeface="Short Stack"/>
              </a:rPr>
              <a:t>Southwes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Tribes like Hopi and Zuni lived in matrilineal c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Multi-story dwellings housed several gen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99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rt Stack"/>
                <a:ea typeface="Short Stack"/>
              </a:rPr>
              <a:t>Great Basin and Califor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Most densely populated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Small single-family dwellings                                         or adjoining units in                                         multifamily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In many cases, wives lived                                         with husbands’ fami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Shape 123" descr=""/>
          <p:cNvPicPr/>
          <p:nvPr/>
        </p:nvPicPr>
        <p:blipFill>
          <a:blip r:embed="rId1"/>
          <a:stretch/>
        </p:blipFill>
        <p:spPr>
          <a:xfrm>
            <a:off x="6461280" y="4043520"/>
            <a:ext cx="2682720" cy="2814480"/>
          </a:xfrm>
          <a:prstGeom prst="rect">
            <a:avLst/>
          </a:prstGeom>
          <a:ln w="0">
            <a:noFill/>
          </a:ln>
        </p:spPr>
      </p:pic>
      <p:sp>
        <p:nvSpPr>
          <p:cNvPr id="61" name="Shape 124"/>
          <p:cNvSpPr/>
          <p:nvPr/>
        </p:nvSpPr>
        <p:spPr>
          <a:xfrm>
            <a:off x="3754440" y="6311880"/>
            <a:ext cx="2505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hort Stack"/>
                <a:ea typeface="Short Stack"/>
              </a:rPr>
              <a:t>Pueblo dwell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78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hort Stack"/>
                <a:ea typeface="Short Stack"/>
              </a:rPr>
              <a:t>Regions and Family Living Arrangeme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Shape 130" descr=""/>
          <p:cNvPicPr/>
          <p:nvPr/>
        </p:nvPicPr>
        <p:blipFill>
          <a:blip r:embed="rId1"/>
          <a:stretch/>
        </p:blipFill>
        <p:spPr>
          <a:xfrm>
            <a:off x="457200" y="1138320"/>
            <a:ext cx="3753000" cy="25016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138320"/>
            <a:ext cx="9144000" cy="57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Short Stack"/>
                <a:ea typeface="Short Stack"/>
              </a:rPr>
              <a:t>Pacific Co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Plank house dwellings 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with spouses &amp;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Sometimes also husband’s sister’s 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Short Stack"/>
                <a:ea typeface="Short Stack"/>
              </a:rPr>
              <a:t>Arctic Co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Single or two-family dwellings with spouses and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Organized into large villages that supported selves by fishing and hunting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hape 132"/>
          <p:cNvSpPr/>
          <p:nvPr/>
        </p:nvSpPr>
        <p:spPr>
          <a:xfrm flipH="1">
            <a:off x="763560" y="3639960"/>
            <a:ext cx="23875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hort Stack"/>
                <a:ea typeface="Short Stack"/>
              </a:rPr>
              <a:t>Plank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rt Stack"/>
                <a:ea typeface="Short Stack"/>
              </a:rPr>
              <a:t>Marriage Pract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68560" y="919080"/>
            <a:ext cx="510408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Women married early – between 12 and 15 years ol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Men usually 15-20 years ol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In some tribes, marriages were arranged, in others, youth selected own partne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Most marriages monogamous; some tribes allowed husbands to take more than one wif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Some tribes’ custom for widow to marry deceased husband’s broth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Other tribes’ custom for widower to marry deceased wife’s sist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In many groups, marriages were easily dissolved; initiated by either spou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Shape 139" descr=""/>
          <p:cNvPicPr/>
          <p:nvPr/>
        </p:nvPicPr>
        <p:blipFill>
          <a:blip r:embed="rId1"/>
          <a:stretch/>
        </p:blipFill>
        <p:spPr>
          <a:xfrm>
            <a:off x="457200" y="1411200"/>
            <a:ext cx="3411360" cy="4503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ydney M. Woolf</dc:creator>
  <dc:description/>
  <dc:language>en-US</dc:language>
  <cp:lastModifiedBy>Sydney M. Woolf</cp:lastModifiedBy>
  <dcterms:modified xsi:type="dcterms:W3CDTF">2014-02-24T20:29:19Z</dcterms:modified>
  <cp:revision>1</cp:revision>
  <dc:subject/>
  <dc:title>History of Native American Families in the U.S.</dc:title>
</cp:coreProperties>
</file>