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199E-6206-4E73-8DF7-48C43BA59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21F5F-3C18-4C66-81E2-E515602B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A9CC5-3C52-41FF-AFA4-ACAA7BA64F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90C09-3A87-488C-937E-30E5BDB190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DD79-4C02-424F-AE3E-480CEB7F7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CA9F-56CD-4022-9D53-3E170A4F1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2A72-EA65-4949-A5D5-45E216483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8E77-A7BC-4569-9B94-E111AC360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17E9C-2FDE-4D69-9060-D00620CA7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41178-7C01-4746-9678-731E47C2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0696-EF26-4A11-94BB-E1F9AEAE6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69AB-DF9C-405C-A668-0B195DD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bbb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umblr.com/tagged/reservations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History of Native American Families in the U.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88888"/>
              </a:solidFill>
              <a:latin typeface="Calibri"/>
              <a:ea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and Parent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ies were generally small in size due to high rates infant mort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’s socia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hysical punishment used rar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appropriate behaviors ridiculed or igno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raise and public reward encouraged appropriate behavi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trilineal societies, maternal uncles often had more authority over kids than fathers d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2960" indent="-372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worked alongside parents and other adults to learn necessary skil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1807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3240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harp decline in population due to disease and viole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By 1670s only 10% of original population in New England had surviv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survivors sold into slavery or sent to other parts of worl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At least 50 tribes completely wiped ou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 to reserva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During 1800s, Native Americans dispossessed of 95% of their territ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servation land often of poor qua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migrations especially disruptive because systems of subsistence were tailored for particular ecological niche (hunting, farming, trad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378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Consequences of European Contac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0520" y="29998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ced assimila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Children required to attend boarding school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 emphasized learning trade or learning to work as domestic servant rather than academ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peaking native language forbidd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Hair cut shor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Schools located far from children’s homes and families; visits impossible or rar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ape 158" descr=""/>
          <p:cNvPicPr/>
          <p:nvPr/>
        </p:nvPicPr>
        <p:blipFill>
          <a:blip r:embed="rId1"/>
          <a:stretch/>
        </p:blipFill>
        <p:spPr>
          <a:xfrm>
            <a:off x="1566720" y="1503360"/>
            <a:ext cx="6218280" cy="1496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Shape 163" descr=""/>
          <p:cNvPicPr/>
          <p:nvPr/>
        </p:nvPicPr>
        <p:blipFill>
          <a:blip r:embed="rId1"/>
          <a:stretch/>
        </p:blipFill>
        <p:spPr>
          <a:xfrm>
            <a:off x="0" y="0"/>
            <a:ext cx="6667560" cy="4846680"/>
          </a:xfrm>
          <a:prstGeom prst="rect">
            <a:avLst/>
          </a:prstGeom>
          <a:ln w="0">
            <a:noFill/>
          </a:ln>
        </p:spPr>
      </p:pic>
      <p:pic>
        <p:nvPicPr>
          <p:cNvPr id="77" name="Shape 164" descr=""/>
          <p:cNvPicPr/>
          <p:nvPr/>
        </p:nvPicPr>
        <p:blipFill>
          <a:blip r:embed="rId2"/>
          <a:stretch/>
        </p:blipFill>
        <p:spPr>
          <a:xfrm>
            <a:off x="3868560" y="3938760"/>
            <a:ext cx="5275440" cy="2919240"/>
          </a:xfrm>
          <a:prstGeom prst="rect">
            <a:avLst/>
          </a:prstGeom>
          <a:ln w="0">
            <a:noFill/>
          </a:ln>
        </p:spPr>
      </p:pic>
      <p:sp>
        <p:nvSpPr>
          <p:cNvPr id="78" name="Shape 165"/>
          <p:cNvSpPr/>
          <p:nvPr/>
        </p:nvSpPr>
        <p:spPr>
          <a:xfrm>
            <a:off x="0" y="5184720"/>
            <a:ext cx="37274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Two photos of the Indian Training School in Forest Grove, 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Implications for Family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428480"/>
            <a:ext cx="8229600" cy="542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Parents and extended family had less authority over their children during period when U.S. government controlled education (1802 – 1975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Relocation, division of land, and assimilation altered family living arran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For some groups, shift to single-family homes undermined traditional kinship system and family ro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Transition from self-sufficiency to low-wage labor compromised men’s ability to provid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Negatively impacted men’s status and self-concept, particularly in patrilineal socie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31752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67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Short Stack"/>
                <a:ea typeface="Short Stack"/>
              </a:rPr>
              <a:t>Increased single-mother famil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Native Americans in Pre-Colonial Tim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2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When English settlers arrived there were: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Over 240 cultural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Even more linguistic group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Populations were concentrated in 7 geographic areas, each with its own set of environmental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Groups adapted economic systems, styles of housing, and family arrangements to fit these demand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2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Short Stack"/>
                <a:ea typeface="Short Stack"/>
              </a:rPr>
              <a:t>Family relationships impacted all dimensions of social lif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Succession to political offic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Religious position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Inheritance and property ownership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2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Short Stack"/>
                <a:ea typeface="Short Stack"/>
              </a:rPr>
              <a:t>Possible marriage partner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47" name="Shape 94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5816520"/>
          </a:xfrm>
          <a:prstGeom prst="rect">
            <a:avLst/>
          </a:prstGeom>
          <a:ln w="0">
            <a:noFill/>
          </a:ln>
        </p:spPr>
      </p:pic>
      <p:sp>
        <p:nvSpPr>
          <p:cNvPr id="48" name="Shape 95"/>
          <p:cNvSpPr/>
          <p:nvPr/>
        </p:nvSpPr>
        <p:spPr>
          <a:xfrm>
            <a:off x="457200" y="6259680"/>
            <a:ext cx="311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Calibri"/>
              </a:rPr>
              <a:t>Excludes Hawaiian Isl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690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Watch the disappearance of tribal lands upon the arrival of European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475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o to </a:t>
            </a:r>
            <a:r>
              <a:rPr b="0" lang="en-US" sz="3200" spc="-1" strike="noStrike" u="sng">
                <a:solidFill>
                  <a:srgbClr val="0000ff"/>
                </a:solidFill>
                <a:uFillTx/>
                <a:latin typeface="Short Stack"/>
                <a:ea typeface="Short Stack"/>
                <a:hlinkClick r:id="rId1"/>
              </a:rPr>
              <a:t>http://www.tumblr.com/tagged/reservations</a:t>
            </a: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Then click on post by “Harvesthear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tIns="91440" bIns="9144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  <a:ea typeface="Calibri"/>
            </a:endParaRPr>
          </a:p>
        </p:txBody>
      </p:sp>
      <p:pic>
        <p:nvPicPr>
          <p:cNvPr id="53" name="Shape 10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50840" y="13208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Eastern Woodlands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Algonquians lived in wigwams housing 1-2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ived in longhouses containing 10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06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eastern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More concentrated,                                          agricultural popula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Extended family = center                                                  of social 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100000"/>
              </a:lnSpc>
              <a:spcBef>
                <a:spcPts val="561"/>
              </a:spcBef>
              <a:buClr>
                <a:srgbClr val="000000"/>
              </a:buClr>
              <a:buSzPct val="109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Short Stack"/>
                <a:ea typeface="Short Stack"/>
              </a:rPr>
              <a:t>Husbands moved in with                                              wives’ famili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Shape 115" descr=""/>
          <p:cNvPicPr/>
          <p:nvPr/>
        </p:nvPicPr>
        <p:blipFill>
          <a:blip r:embed="rId1"/>
          <a:stretch/>
        </p:blipFill>
        <p:spPr>
          <a:xfrm>
            <a:off x="5832360" y="3330720"/>
            <a:ext cx="3311640" cy="3095640"/>
          </a:xfrm>
          <a:prstGeom prst="rect">
            <a:avLst/>
          </a:prstGeom>
          <a:ln w="0">
            <a:noFill/>
          </a:ln>
        </p:spPr>
      </p:pic>
      <p:sp>
        <p:nvSpPr>
          <p:cNvPr id="57" name="Shape 116"/>
          <p:cNvSpPr/>
          <p:nvPr/>
        </p:nvSpPr>
        <p:spPr>
          <a:xfrm>
            <a:off x="6068880" y="6426360"/>
            <a:ext cx="27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Iroquois long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37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Southwester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Tribes like Hopi and Zuni lived in matrilineal cla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ulti-story dwellings housed several gen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99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hort Stack"/>
                <a:ea typeface="Short Stack"/>
              </a:rPr>
              <a:t>Great Basin and Californ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densely populated ar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mall single-family dwellings                                         or adjoining units in                                         multifamily 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6"/>
              </a:spcBef>
              <a:buClr>
                <a:srgbClr val="000000"/>
              </a:buClr>
              <a:buSzPct val="101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cases, wives lived                                         with husbands’ famil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Shape 123" descr=""/>
          <p:cNvPicPr/>
          <p:nvPr/>
        </p:nvPicPr>
        <p:blipFill>
          <a:blip r:embed="rId1"/>
          <a:stretch/>
        </p:blipFill>
        <p:spPr>
          <a:xfrm>
            <a:off x="6461280" y="4043520"/>
            <a:ext cx="2682720" cy="2814480"/>
          </a:xfrm>
          <a:prstGeom prst="rect">
            <a:avLst/>
          </a:prstGeom>
          <a:ln w="0">
            <a:noFill/>
          </a:ln>
        </p:spPr>
      </p:pic>
      <p:sp>
        <p:nvSpPr>
          <p:cNvPr id="61" name="Shape 124"/>
          <p:cNvSpPr/>
          <p:nvPr/>
        </p:nvSpPr>
        <p:spPr>
          <a:xfrm>
            <a:off x="3754440" y="6311880"/>
            <a:ext cx="250524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ueblo dwell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78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hort Stack"/>
                <a:ea typeface="Short Stack"/>
              </a:rPr>
              <a:t>Regions and Family Living Arrangements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ape 130" descr=""/>
          <p:cNvPicPr/>
          <p:nvPr/>
        </p:nvPicPr>
        <p:blipFill>
          <a:blip r:embed="rId1"/>
          <a:stretch/>
        </p:blipFill>
        <p:spPr>
          <a:xfrm>
            <a:off x="457200" y="1138320"/>
            <a:ext cx="3753000" cy="25016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1138320"/>
            <a:ext cx="9144000" cy="571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Pacif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 dwellings 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with spouses &amp;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times also husband’s sister’s 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38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Short Stack"/>
                <a:ea typeface="Short Stack"/>
              </a:rPr>
              <a:t>Arctic Coa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Single or two-family dwellings with spouses and childr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Organized into large villages that supported selves by fishing and hunting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hort Stack"/>
                <a:ea typeface="Short Stack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hape 132"/>
          <p:cNvSpPr/>
          <p:nvPr/>
        </p:nvSpPr>
        <p:spPr>
          <a:xfrm flipH="1">
            <a:off x="763560" y="3639960"/>
            <a:ext cx="238752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hort Stack"/>
                <a:ea typeface="Short Stack"/>
              </a:rPr>
              <a:t>Plank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Short Stack"/>
                <a:ea typeface="Short Stack"/>
              </a:rPr>
              <a:t>Marriage Practic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68560" y="919080"/>
            <a:ext cx="5104080" cy="501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Women married early – between 12 and 15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en usually 15-20 years old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some tribes, marriages were arranged, in others, youth selected own partner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Most marriages monogamous; some tribes allowed husbands to take more than one wif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Some tribes’ custom for widow to marry deceased husband’s broth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Other tribes’ custom for widower to marry deceased wife’s sister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38"/>
              </a:spcBef>
              <a:buClr>
                <a:srgbClr val="000000"/>
              </a:buClr>
              <a:buSzPct val="167000"/>
              <a:buFont typeface="Short St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Short Stack"/>
                <a:ea typeface="Short Stack"/>
              </a:rPr>
              <a:t>In many groups, marriages were easily dissolved; initiated by either spous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Shape 139" descr=""/>
          <p:cNvPicPr/>
          <p:nvPr/>
        </p:nvPicPr>
        <p:blipFill>
          <a:blip r:embed="rId1"/>
          <a:stretch/>
        </p:blipFill>
        <p:spPr>
          <a:xfrm>
            <a:off x="457200" y="1411200"/>
            <a:ext cx="3411360" cy="45039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Sydney M. Woolf</dc:creator>
  <dc:description/>
  <dc:language>en-US</dc:language>
  <cp:lastModifiedBy>Sydney M. Woolf</cp:lastModifiedBy>
  <dcterms:modified xsi:type="dcterms:W3CDTF">2014-02-24T20:29:19Z</dcterms:modified>
  <cp:revision>1</cp:revision>
  <dc:subject/>
  <dc:title>History of Native American Families in the U.S.</dc:title>
</cp:coreProperties>
</file>