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6AD-F5CC-4E6D-A22A-2B9F86BD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AFE-5542-42E3-A228-246C5D2E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29C-50F9-4662-93FB-758CA60E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D65-9834-4D35-93BE-30262221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93E9-CB82-4FB8-9EF1-F440552B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170C-932D-4DB5-96C2-4A402DAE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4B84-D35E-4DAC-9C2B-953F4D1A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0C86-5A5F-4028-93F7-75EBB244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EDBB-0DFB-418D-8463-D2A1C6BF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E2FE-E146-41F9-8A82-34C34830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8B07-B751-4DFA-A6E8-3139470E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E7E-F565-4BAB-8391-AED220B8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65D2-F6F1-4630-96DE-10DB2BB8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DB9E-C862-4794-B53F-93174887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54B6-3018-44CD-8D4D-097AD934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DFD5-F555-46D0-8143-9A8859B1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F0FF-42DB-4C80-9C9E-6358BB51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1CD-5A9C-43B1-B08D-9031E85D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CB7-F848-4F55-86C2-987C2858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243-2C4D-4162-AAE0-43510F3D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91DA-E531-412A-85FE-CD8A218D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96E-9C9A-47A4-8F21-7123FF0C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F1E-EC98-4A82-8B27-11238530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31D-8B9D-466B-B682-12004BF6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1CB5-9A9B-4AF4-B6A1-D0FD2976CF0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F3DA-0C9F-4292-B95F-B81DDC6F2CF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ved=2ahUKEwjS_KTXp8DaAhUni1QKHZxWAV8QjRx6BAgAEAU&amp;url=https%3A%2F%2Fsaultonline.com%2F2016%2F03%2F15-unique-ontario-activities-to-enjoy-this-march-break%2F&amp;psig=AOvVaw17FwEA1DJvQLCacYCIlJNO&amp;ust=152402012131735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se Interpretation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708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’s not just about reading a cute stor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Four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371240"/>
            <a:ext cx="30477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lligence</a:t>
            </a:r>
            <a:r>
              <a:rPr b="0" lang="en-US" sz="2200" spc="-1" strike="noStrike">
                <a:solidFill>
                  <a:srgbClr val="c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Use your intelligence to choose a selection of good literature that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suits you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nd will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terest your audience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good prose selection should make the audience want more and give them something to mentally diges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67080" y="4221000"/>
            <a:ext cx="2895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ding and selecting the right prose interp is as every bit as difficult as finding the right humor or drama scrip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4267080" y="1371600"/>
            <a:ext cx="4267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er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oose a selection that will allow you to vocally create word pictures. It is the interpreter's job to create a memorable, positive  performa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8160" y="1275840"/>
            <a:ext cx="358128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olves establishing the correct tone and mood. Essentially, this refers back to the fact of, "Where are you coming from?"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ep in mind that a good prose does not have to be about death, dying, and depression. There are many excellent selections out there that deserve your attention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7960" y="3583080"/>
            <a:ext cx="24382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member that your overall goal is to make the author's work come alive for the listener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4648320" y="1276200"/>
            <a:ext cx="408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ination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eals with your creativity. What can you do with this piece without distorting the author's inten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xperiment and be br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506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360" y="1238040"/>
            <a:ext cx="778356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void over exagger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. Know your commitment to the piece of literatur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. How will you use silence? Let the pause work for you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. Decide which vocal traits -- tempo, rhythm, range, and quality (practice using many types) will most accurately convey your meaning to the judge/audienc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01520" y="4571640"/>
            <a:ext cx="601956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. Muscle memory – often referred to as the "theory of remembered action." It aids in suggesting hurry or leisure, activity or passivity, tension or relax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1" descr="C:\Users\wendib\AppData\Local\Microsoft\Windows\Temporary Internet Files\Low\Content.IE5\82RPEAWG\j0432663[1].png"/>
          <p:cNvPicPr/>
          <p:nvPr/>
        </p:nvPicPr>
        <p:blipFill>
          <a:blip r:embed="rId1"/>
          <a:stretch/>
        </p:blipFill>
        <p:spPr>
          <a:xfrm>
            <a:off x="6858000" y="380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,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tinued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452600"/>
            <a:ext cx="6926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 Use your script to your advantage. You are not a robot. Gestures are still allowed and of great importance in establishing overall impac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. Maintain eye contact with your script. It is your tool. I would suggest a 60% eye contact with the audience and a 40% eye contact with your script. This is not a memorized even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040" y="47242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. Suggestion becomes paramount -- in prose interp, all is not told to the audience. There must be room for the reader's imagination to work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533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ere to Find Materi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00" y="1446120"/>
            <a:ext cx="79027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arch Literature resources in the library for short stories or suggested novel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anguage Arts Professor to recommend good books or short stor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ibrarian for sugges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nk of a role model, hero, or favorite performer of yours, and read their autobiographi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5120" y="4008240"/>
            <a:ext cx="6226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et a coffee and hang out at a bookstore… read some best-selling books and essay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the clerks for their  recommend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on’t forget about the COMEDY section!  It’s ok to make people laugh in a Prose room.  Browse through some popular  comedian’s book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02840" y="6854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Have a Blast!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160800" y="175212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If you don’t love your Prose, neither will your audience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6" descr="Image result for have fu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3120" y="3124080"/>
            <a:ext cx="48672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9176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1263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rose allows us to grasp the great world beyond our front doo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 LITERATURE should be the focus, not the performe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365724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ral Interpreter of Prose brings LITERATURE TO LIFE in the minds (not eyes) of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serves as a liaison between the literature and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8880" y="1769760"/>
            <a:ext cx="7567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takes on the role of the storyteller in the absence of the Author, but has the responsibility to bring out the underlying meanings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behi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he words, as wel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119240" y="3903840"/>
            <a:ext cx="5738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makes decisions about how the literature is brought to life, but should still allow the audience to utilize their own imag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32925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se Guideli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48280" y="8380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presses thought through language recorded in sentences and paragraph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includes: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short stories, novel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n-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articles, essays, journals, biographies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904760"/>
            <a:ext cx="4022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ion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ust be publishe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nd no plays or other dramatic material may be used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ime limi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s not more than five minute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ations must be from a printed sheet with only the words being presented. Reading from a book or magazine is not permitt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oice of Literatur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good choice for Prose should b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versal in the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able beyond the immediate mo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ilor-matched to the present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3200" y="4647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Your Role as the Interpre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9564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articipation in this assignment should also assist in the development of critical techniques in the evaluation of prose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ral interpretation of prose is to convey subtleties of meaning of prose and feeling through vocal control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icture 2" descr="F:\CHS stuff\H drive backup 6 3 08\speech clipart\4us7dnyu[1].jpg"/>
          <p:cNvPicPr/>
          <p:nvPr/>
        </p:nvPicPr>
        <p:blipFill>
          <a:blip r:embed="rId1"/>
          <a:srcRect l="22313" t="0" r="26833" b="0"/>
          <a:stretch/>
        </p:blipFill>
        <p:spPr>
          <a:xfrm>
            <a:off x="6095880" y="3429000"/>
            <a:ext cx="25052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62000" y="1360440"/>
            <a:ext cx="74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urpose is to stimulate the presenter to find the meaning of printed prose and to communicate the meaning orally to his/her list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CHS stuff\H drive backup 6 3 08\speech clipart\img_blackbook.jpg"/>
          <p:cNvPicPr/>
          <p:nvPr/>
        </p:nvPicPr>
        <p:blipFill>
          <a:blip r:embed="rId1"/>
          <a:stretch/>
        </p:blipFill>
        <p:spPr>
          <a:xfrm>
            <a:off x="579132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Interp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rue beauty of orally reading literature is that each audience member is allowed the creativity and freedom to relate, identify and react to it on their ow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ganize your ‘book’ so it can be read with ease, choose a small binder or develop a means of reading your piece smoothly in a similar orient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not allow physical action to overshadow the spoken wor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ow the voice, face, eyes, and gestures to work in unison with the literatur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oid technical tricks for the sole purpose of achieving audience reaction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1" descr="F:\CHS stuff\H drive backup 6 3 08\speech clipart\42279b931d39f-85-2[1].jpg"/>
          <p:cNvPicPr/>
          <p:nvPr/>
        </p:nvPicPr>
        <p:blipFill>
          <a:blip r:embed="rId1"/>
          <a:srcRect l="20774" t="0" r="10978" b="0"/>
          <a:stretch/>
        </p:blipFill>
        <p:spPr>
          <a:xfrm>
            <a:off x="6248520" y="3352680"/>
            <a:ext cx="23619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52480" y="1628640"/>
            <a:ext cx="60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alize that as the Oral Interpreter of the Literature, you have a proxemic intimacy with the audience that cannot be matched by a performer on stage.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 Interpreter receives immediate feedback and should not cross the audience's comfort level between suggesting personae and becoming personae in literatur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Picture 1" descr="F:\CHS stuff\H drive backup 6 3 08\speech clipart\j0295151[1].gif"/>
          <p:cNvPicPr/>
          <p:nvPr/>
        </p:nvPicPr>
        <p:blipFill>
          <a:blip r:embed="rId1"/>
          <a:stretch/>
        </p:blipFill>
        <p:spPr>
          <a:xfrm>
            <a:off x="6567480" y="1143000"/>
            <a:ext cx="2000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1:00:11Z</dcterms:created>
  <dc:creator>wendib</dc:creator>
  <dc:description/>
  <dc:language>en-US</dc:language>
  <cp:lastModifiedBy>Tinamarie Ivey</cp:lastModifiedBy>
  <dcterms:modified xsi:type="dcterms:W3CDTF">2018-04-17T02:57:04Z</dcterms:modified>
  <cp:revision>30</cp:revision>
  <dc:subject/>
  <dc:title>Prose Interpretation</dc:title>
</cp:coreProperties>
</file>