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844C-51AA-4BB6-B2D9-61F33F35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43FF-EFD2-4A6B-B69B-6D68D63F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8059-31E1-438D-92CF-C3933A5B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0B37-EEA4-4037-8902-5AF7D8BD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647C-1225-4F39-A772-4054DA7D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53CD-5330-450B-8B30-F997E40B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6B59-2B99-4333-AA38-D8682E36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92ED-1004-4A7B-82F1-79349940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F55A-4E93-434C-A444-9B4F4125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4CC3-33CF-4082-9A01-C7381C98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5247-521F-40FF-86A6-093D057A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A0D7-C00C-4401-9DD4-7CC9C6D0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FEF6-CCCC-433C-BB41-660A46FB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A1FB-1803-4284-8090-30032923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E097-3A78-4CF7-B80D-5285F749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D045-C63A-43A4-80C7-28FC0FF75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0BC5-FC7C-4D3F-B23A-1741EF10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697F-A041-4573-9FA3-827B67F4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5491-A316-45FB-BDF0-F9143BBD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85D9-2AE5-418E-BB6D-1DB41B2E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9B83-4D8D-4A3D-A16A-D83F4621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F0AC-5C1D-4EBA-96AA-E3CD9F89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1726-0A87-49B4-BF1D-50D784FC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F182-A52D-4D18-A5C7-E169A3E9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DB78-E07C-4D3E-9EF8-61BDC04F9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914E-BD75-4A65-9535-608B04C6E5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ae"/>
          <p:cNvPicPr/>
          <p:nvPr/>
        </p:nvPicPr>
        <p:blipFill>
          <a:blip r:embed="rId1"/>
          <a:stretch/>
        </p:blipFill>
        <p:spPr>
          <a:xfrm>
            <a:off x="304920" y="1522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b&amp;n"/>
          <p:cNvPicPr/>
          <p:nvPr/>
        </p:nvPicPr>
        <p:blipFill>
          <a:blip r:embed="rId2"/>
          <a:stretch/>
        </p:blipFill>
        <p:spPr>
          <a:xfrm>
            <a:off x="3200400" y="2514600"/>
            <a:ext cx="2409840" cy="1895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best buy"/>
          <p:cNvPicPr/>
          <p:nvPr/>
        </p:nvPicPr>
        <p:blipFill>
          <a:blip r:embed="rId3"/>
          <a:stretch/>
        </p:blipFill>
        <p:spPr>
          <a:xfrm>
            <a:off x="304920" y="4800600"/>
            <a:ext cx="2638440" cy="1733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foot lkr"/>
          <p:cNvPicPr/>
          <p:nvPr/>
        </p:nvPicPr>
        <p:blipFill>
          <a:blip r:embed="rId4"/>
          <a:stretch/>
        </p:blipFill>
        <p:spPr>
          <a:xfrm>
            <a:off x="6324480" y="4876920"/>
            <a:ext cx="2105280" cy="1533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jc"/>
          <p:cNvPicPr/>
          <p:nvPr/>
        </p:nvPicPr>
        <p:blipFill>
          <a:blip r:embed="rId5"/>
          <a:stretch/>
        </p:blipFill>
        <p:spPr>
          <a:xfrm>
            <a:off x="228600" y="236232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acys"/>
          <p:cNvPicPr/>
          <p:nvPr/>
        </p:nvPicPr>
        <p:blipFill>
          <a:blip r:embed="rId6"/>
          <a:stretch/>
        </p:blipFill>
        <p:spPr>
          <a:xfrm>
            <a:off x="3124080" y="228600"/>
            <a:ext cx="2495520" cy="1828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sears"/>
          <p:cNvPicPr/>
          <p:nvPr/>
        </p:nvPicPr>
        <p:blipFill>
          <a:blip r:embed="rId7"/>
          <a:stretch/>
        </p:blipFill>
        <p:spPr>
          <a:xfrm>
            <a:off x="6172200" y="2743200"/>
            <a:ext cx="2533680" cy="180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sephora"/>
          <p:cNvPicPr/>
          <p:nvPr/>
        </p:nvPicPr>
        <p:blipFill>
          <a:blip r:embed="rId8"/>
          <a:stretch/>
        </p:blipFill>
        <p:spPr>
          <a:xfrm>
            <a:off x="6172200" y="3808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wm"/>
          <p:cNvPicPr/>
          <p:nvPr/>
        </p:nvPicPr>
        <p:blipFill>
          <a:blip r:embed="rId9"/>
          <a:stretch/>
        </p:blipFill>
        <p:spPr>
          <a:xfrm>
            <a:off x="3276720" y="48006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Comic Sans MS"/>
              </a:rPr>
              <a:t>DEPARTMENT STORE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large establishments, an anchor at a shopping ma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ost often chain sto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erchandise is arranged in separate depart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ells a variety of merchandise under one roo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Great selection, quality va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any sales, lots of advertising, busy environ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ales associates are assigned to work in specific depart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ach department has a manag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Cash registers/checkout stations in each depart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Offer a variety of customer servi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self-service, sales associates sometimes less profes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levator” music, bright lights, lots of activ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mploy many people, opportunities to advance or transf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Hire more sales associates than any other type of sto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What we can find in a </a:t>
            </a:r>
            <a:br>
              <a:rPr sz="3200"/>
            </a:b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Department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pparel &amp; accessories for men, women and childr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Jewel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Cosmeti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ingeri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porting goo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Furnit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Wedding atti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Housewares &amp; home dec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arge and small applian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ine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o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hoes for the fami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Grocery ite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oo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SPECIALTY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pecializes in one category and sells related it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Wide variety of specialty items, not found elsewh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better quality, more expensi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maller stores, sometimes a chain, usually locally ow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ales associates give personal assistance, are more profes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one cash register and checkout s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Customer services offer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tore displays, music, employees, overall atmosphere matches that of the products it specializes 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Relaxed atmosph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b9cb5"/>
                </a:solidFill>
                <a:latin typeface="Comic Sans MS"/>
              </a:rPr>
              <a:t>What we can find in a Specialty Store</a:t>
            </a:r>
            <a:br>
              <a:rPr sz="3200"/>
            </a:br>
            <a:r>
              <a:rPr b="1" i="1" lang="en-US" sz="3200" spc="-1" strike="noStrike">
                <a:solidFill>
                  <a:srgbClr val="7b9cb5"/>
                </a:solidFill>
                <a:latin typeface="Comic Sans MS"/>
              </a:rPr>
              <a:t>(and related items)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ho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Pe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mer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porting Goo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Health Fo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Jewel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rid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offe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ram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mping Ge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omput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To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Garden suppl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Kitchenw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abr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Makeu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ook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nd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aby ite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loth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Music equip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Home déc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uto par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urnit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Personal c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raft suppl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Work Conditions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Department Store     Specialty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ssigned to a specific depart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Duties will be limi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rained only for dept. assigned 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gin at minimum w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Good chance to advance or transf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tore is well known, experience looks good on resu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May not be able to provide customer serv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rained in all areas of sto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ble to perform many dut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gin at minimum w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come knowledgeable of specific produc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ess chance to adva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maller store, relaxed atmospher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Fewer employe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ble to give personalized serv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ell products you are interested 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ff99"/>
                </a:solidFill>
                <a:latin typeface="Comic Sans MS"/>
              </a:rPr>
              <a:t>Department vs Specialty Stores </a:t>
            </a:r>
            <a:br>
              <a:rPr sz="3200"/>
            </a:br>
            <a:r>
              <a:rPr b="1" i="1" lang="en-US" sz="2000" spc="-1" strike="noStrike">
                <a:solidFill>
                  <a:srgbClr val="ccff99"/>
                </a:solidFill>
                <a:latin typeface="Comic Sans MS"/>
              </a:rPr>
              <a:t>~images for question #1~</a:t>
            </a:r>
            <a:endParaRPr b="0" lang="en-US" sz="20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04" name="Picture 7" descr="aero"/>
          <p:cNvPicPr/>
          <p:nvPr/>
        </p:nvPicPr>
        <p:blipFill>
          <a:blip r:embed="rId1"/>
          <a:stretch/>
        </p:blipFill>
        <p:spPr>
          <a:xfrm>
            <a:off x="380880" y="1523880"/>
            <a:ext cx="1324080" cy="1324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cabelas"/>
          <p:cNvPicPr/>
          <p:nvPr/>
        </p:nvPicPr>
        <p:blipFill>
          <a:blip r:embed="rId2"/>
          <a:stretch/>
        </p:blipFill>
        <p:spPr>
          <a:xfrm>
            <a:off x="1447920" y="501012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sally"/>
          <p:cNvPicPr/>
          <p:nvPr/>
        </p:nvPicPr>
        <p:blipFill>
          <a:blip r:embed="rId3"/>
          <a:stretch/>
        </p:blipFill>
        <p:spPr>
          <a:xfrm>
            <a:off x="3581280" y="1676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kohls"/>
          <p:cNvPicPr/>
          <p:nvPr/>
        </p:nvPicPr>
        <p:blipFill>
          <a:blip r:embed="rId4"/>
          <a:stretch/>
        </p:blipFill>
        <p:spPr>
          <a:xfrm>
            <a:off x="5276880" y="3962520"/>
            <a:ext cx="3867120" cy="2895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lowes"/>
          <p:cNvPicPr/>
          <p:nvPr/>
        </p:nvPicPr>
        <p:blipFill>
          <a:blip r:embed="rId5"/>
          <a:stretch/>
        </p:blipFill>
        <p:spPr>
          <a:xfrm>
            <a:off x="6248520" y="16002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kmart"/>
          <p:cNvPicPr/>
          <p:nvPr/>
        </p:nvPicPr>
        <p:blipFill>
          <a:blip r:embed="rId6"/>
          <a:stretch/>
        </p:blipFill>
        <p:spPr>
          <a:xfrm>
            <a:off x="685800" y="2971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03:29:11Z</dcterms:created>
  <dc:creator>Authorized User</dc:creator>
  <dc:description/>
  <dc:language>en-US</dc:language>
  <cp:lastModifiedBy>Mindy Bean</cp:lastModifiedBy>
  <dcterms:modified xsi:type="dcterms:W3CDTF">2018-06-29T20:23:40Z</dcterms:modified>
  <cp:revision>6</cp:revision>
  <dc:subject/>
  <dc:title>DEPARTMENT STORE</dc:title>
</cp:coreProperties>
</file>