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9BFC-2D50-457A-8EA3-2D9F3D53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ADC4-0E4A-4BA5-A942-2CD3BADE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DD3-56FA-4665-99A9-B1E44CF4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C00-A319-457A-B8A9-C33296BE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A668-87DB-4279-9067-0F825DB8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F891-A7C9-4A7A-9D03-078218A1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F728-5618-41D4-99B9-76630D4C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E89D-8DA0-42DB-8027-0396123D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60E6-F76B-4B70-AA84-8323DD0F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375E-EA60-494C-A764-11A51552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86C7-3084-40EF-88AB-E84A8C3F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E2FE-F412-4765-B593-A929E486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09AF-11AF-4C9E-8951-9A2E9633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9F41-35E5-4228-8D40-6622B329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EE19-C112-4581-AF5F-51A7722E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EA8F-2775-4673-8773-28053F9F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798A-2791-4A57-9517-8B101E63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AF44-C9F7-4348-84B6-43D2F98E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D8CA-60DD-457A-8742-88B5AA76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C20-31F1-43D4-969D-0074DF94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AF5C-DB9B-4083-966A-7C301BB2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9189-73C3-4922-ACF8-D1E21142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AA3C-A03D-4FCD-A15E-DEBAA4DF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77BE-F6BF-4666-A0E7-D65784B1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946E-4F01-42ED-AE2A-C7B60FBB0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0E66-5822-4358-B243-A38B1C8368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ae"/>
          <p:cNvPicPr/>
          <p:nvPr/>
        </p:nvPicPr>
        <p:blipFill>
          <a:blip r:embed="rId1"/>
          <a:stretch/>
        </p:blipFill>
        <p:spPr>
          <a:xfrm>
            <a:off x="304920" y="152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&amp;n"/>
          <p:cNvPicPr/>
          <p:nvPr/>
        </p:nvPicPr>
        <p:blipFill>
          <a:blip r:embed="rId2"/>
          <a:stretch/>
        </p:blipFill>
        <p:spPr>
          <a:xfrm>
            <a:off x="3200400" y="251460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best buy"/>
          <p:cNvPicPr/>
          <p:nvPr/>
        </p:nvPicPr>
        <p:blipFill>
          <a:blip r:embed="rId3"/>
          <a:stretch/>
        </p:blipFill>
        <p:spPr>
          <a:xfrm>
            <a:off x="304920" y="48006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foot lkr"/>
          <p:cNvPicPr/>
          <p:nvPr/>
        </p:nvPicPr>
        <p:blipFill>
          <a:blip r:embed="rId4"/>
          <a:stretch/>
        </p:blipFill>
        <p:spPr>
          <a:xfrm>
            <a:off x="6324480" y="4876920"/>
            <a:ext cx="2105280" cy="1533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c"/>
          <p:cNvPicPr/>
          <p:nvPr/>
        </p:nvPicPr>
        <p:blipFill>
          <a:blip r:embed="rId5"/>
          <a:stretch/>
        </p:blipFill>
        <p:spPr>
          <a:xfrm>
            <a:off x="228600" y="23623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acys"/>
          <p:cNvPicPr/>
          <p:nvPr/>
        </p:nvPicPr>
        <p:blipFill>
          <a:blip r:embed="rId6"/>
          <a:stretch/>
        </p:blipFill>
        <p:spPr>
          <a:xfrm>
            <a:off x="3124080" y="22860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sears"/>
          <p:cNvPicPr/>
          <p:nvPr/>
        </p:nvPicPr>
        <p:blipFill>
          <a:blip r:embed="rId7"/>
          <a:stretch/>
        </p:blipFill>
        <p:spPr>
          <a:xfrm>
            <a:off x="6172200" y="274320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sephora"/>
          <p:cNvPicPr/>
          <p:nvPr/>
        </p:nvPicPr>
        <p:blipFill>
          <a:blip r:embed="rId8"/>
          <a:stretch/>
        </p:blipFill>
        <p:spPr>
          <a:xfrm>
            <a:off x="6172200" y="380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wm"/>
          <p:cNvPicPr/>
          <p:nvPr/>
        </p:nvPicPr>
        <p:blipFill>
          <a:blip r:embed="rId9"/>
          <a:stretch/>
        </p:blipFill>
        <p:spPr>
          <a:xfrm>
            <a:off x="3276720" y="4800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Comic Sans MS"/>
              </a:rPr>
              <a:t>DEPARTMENT STORE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large establishments, an anchor at a shopping m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ost often chain st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erchandise is arranged in separate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ells a variety of merchandise under one roo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Great selection, quality va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any sales, lots of advertising, busy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are assigned to work in specific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ach department has a mana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ash registers/checkout stations in each depar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Offer a variety of customer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self-service, sales associates sometimes less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levator” music, bright lights, lots of activ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mploy many people, opportunities to advance or transf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Hire more sales associates than any other type of sto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What we can find in a 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Department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pparel &amp; accessories for men, women and childr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Cosm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ger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Wedding att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Housewares &amp; home de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arge and small applian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hoes for the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rocer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pecializes in one category and sells related i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Wide variety of specialty items, not found elsew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better quality, more expens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maller stores, sometimes a chain, usually locally ow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give personal assistance, are more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one cash register and checkout s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ustomer services off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tore displays, music, employees, overall atmosphere matches that of the products it specializes 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Relaxed atmosp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What we can find in a Specialty Store</a:t>
            </a:r>
            <a:br>
              <a:rPr sz="3200"/>
            </a:b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(and related items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ho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e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ealth 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rid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ffe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ram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ping G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mput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arden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Kitchen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abr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ake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nd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ab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usic equip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ome dé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uto pa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rsonal c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raft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Work Condition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Department Store     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ssigned to a specific depart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Duties will be limi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only for dept. assigned 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ood chance to advance or transf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tore is well known, experience looks good on resu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May not be able to provide customer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in all areas of st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perform many du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come knowledgeable of specific produ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ess chance to adv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maller store, relaxed atmosphe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ewer employe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give personalized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ell products you are interested 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99"/>
                </a:solidFill>
                <a:latin typeface="Comic Sans MS"/>
              </a:rPr>
              <a:t>Department vs Specialty Stores </a:t>
            </a:r>
            <a:br>
              <a:rPr sz="3200"/>
            </a:br>
            <a:r>
              <a:rPr b="1" i="1" lang="en-US" sz="2000" spc="-1" strike="noStrike">
                <a:solidFill>
                  <a:srgbClr val="ccff99"/>
                </a:solidFill>
                <a:latin typeface="Comic Sans MS"/>
              </a:rPr>
              <a:t>~images for question #1~</a:t>
            </a: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4" name="Picture 7" descr="aero"/>
          <p:cNvPicPr/>
          <p:nvPr/>
        </p:nvPicPr>
        <p:blipFill>
          <a:blip r:embed="rId1"/>
          <a:stretch/>
        </p:blipFill>
        <p:spPr>
          <a:xfrm>
            <a:off x="380880" y="152388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abelas"/>
          <p:cNvPicPr/>
          <p:nvPr/>
        </p:nvPicPr>
        <p:blipFill>
          <a:blip r:embed="rId2"/>
          <a:stretch/>
        </p:blipFill>
        <p:spPr>
          <a:xfrm>
            <a:off x="1447920" y="50101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sally"/>
          <p:cNvPicPr/>
          <p:nvPr/>
        </p:nvPicPr>
        <p:blipFill>
          <a:blip r:embed="rId3"/>
          <a:stretch/>
        </p:blipFill>
        <p:spPr>
          <a:xfrm>
            <a:off x="358128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kohls"/>
          <p:cNvPicPr/>
          <p:nvPr/>
        </p:nvPicPr>
        <p:blipFill>
          <a:blip r:embed="rId4"/>
          <a:stretch/>
        </p:blipFill>
        <p:spPr>
          <a:xfrm>
            <a:off x="5276880" y="3962520"/>
            <a:ext cx="386712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lowes"/>
          <p:cNvPicPr/>
          <p:nvPr/>
        </p:nvPicPr>
        <p:blipFill>
          <a:blip r:embed="rId5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kmart"/>
          <p:cNvPicPr/>
          <p:nvPr/>
        </p:nvPicPr>
        <p:blipFill>
          <a:blip r:embed="rId6"/>
          <a:stretch/>
        </p:blipFill>
        <p:spPr>
          <a:xfrm>
            <a:off x="68580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3:29:11Z</dcterms:created>
  <dc:creator>Authorized User</dc:creator>
  <dc:description/>
  <dc:language>en-US</dc:language>
  <cp:lastModifiedBy>Mindy Bean</cp:lastModifiedBy>
  <dcterms:modified xsi:type="dcterms:W3CDTF">2018-06-29T20:23:40Z</dcterms:modified>
  <cp:revision>6</cp:revision>
  <dc:subject/>
  <dc:title>DEPARTMENT STORE</dc:title>
</cp:coreProperties>
</file>