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FA628-3827-40A9-BC43-F10A1A921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E831E-28E5-4FB1-995E-41D7D9E2C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77EC3-B8BE-4683-B7EE-25D7D94FC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D1C9F-F261-45D9-A72E-C70680BFE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56B75-B6A1-4342-8738-BDA4B0E1F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7E49E-FD5F-4276-AF19-20A1CFB29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2D94E-3C77-4747-BF84-691BD1392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FA670-67EC-470A-B14B-AB1D4F616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DADBC-314F-4D37-B9E7-AB2F2FB5D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EAD91-D01A-4A96-8D1A-23ECC9F0D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CE569-4B12-4AF4-84A3-CA45ABD91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4C72A-8282-44BF-B5E3-86B0E63C0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91719-4BE8-4875-9607-F4BFED795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77F9F-0B6E-4400-83F5-3EDB43EDE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D0B38-0F4B-4154-8332-3A085D583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F1CA3-C33F-4BED-9B57-A04CDE721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742C5-E915-40A5-B1C9-EAA084F39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A1213-1F8A-4029-BF90-45752165C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99F32-0A36-4B18-AFB5-201ACEAEF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8E419-B6B2-40F5-9298-4F6EA2B2B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66B61-100C-4A90-A443-9A33E45B9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1AEA8-3D6E-4159-B0A0-C5E29E5DD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39D54-EEB5-46E8-B12F-3EDD6DB40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D0310-A46E-44D6-8C8B-D39E6288A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DE97F-6AE1-46E7-A286-9F523AF915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B3E88-69B9-4ABD-8C02-818583968BC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image" Target="../media/image10.jpeg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5" descr="ae"/>
          <p:cNvPicPr/>
          <p:nvPr/>
        </p:nvPicPr>
        <p:blipFill>
          <a:blip r:embed="rId1"/>
          <a:stretch/>
        </p:blipFill>
        <p:spPr>
          <a:xfrm>
            <a:off x="304920" y="152280"/>
            <a:ext cx="2466720" cy="1847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6" descr="b&amp;n"/>
          <p:cNvPicPr/>
          <p:nvPr/>
        </p:nvPicPr>
        <p:blipFill>
          <a:blip r:embed="rId2"/>
          <a:stretch/>
        </p:blipFill>
        <p:spPr>
          <a:xfrm>
            <a:off x="3200400" y="2514600"/>
            <a:ext cx="2409840" cy="18954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7" descr="best buy"/>
          <p:cNvPicPr/>
          <p:nvPr/>
        </p:nvPicPr>
        <p:blipFill>
          <a:blip r:embed="rId3"/>
          <a:stretch/>
        </p:blipFill>
        <p:spPr>
          <a:xfrm>
            <a:off x="304920" y="4800600"/>
            <a:ext cx="2638440" cy="17334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8" descr="foot lkr"/>
          <p:cNvPicPr/>
          <p:nvPr/>
        </p:nvPicPr>
        <p:blipFill>
          <a:blip r:embed="rId4"/>
          <a:stretch/>
        </p:blipFill>
        <p:spPr>
          <a:xfrm>
            <a:off x="6324480" y="4876920"/>
            <a:ext cx="2105280" cy="15332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9" descr="jc"/>
          <p:cNvPicPr/>
          <p:nvPr/>
        </p:nvPicPr>
        <p:blipFill>
          <a:blip r:embed="rId5"/>
          <a:stretch/>
        </p:blipFill>
        <p:spPr>
          <a:xfrm>
            <a:off x="228600" y="2362320"/>
            <a:ext cx="2552760" cy="17906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0" descr="macys"/>
          <p:cNvPicPr/>
          <p:nvPr/>
        </p:nvPicPr>
        <p:blipFill>
          <a:blip r:embed="rId6"/>
          <a:stretch/>
        </p:blipFill>
        <p:spPr>
          <a:xfrm>
            <a:off x="3124080" y="228600"/>
            <a:ext cx="2495520" cy="18288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1" descr="sears"/>
          <p:cNvPicPr/>
          <p:nvPr/>
        </p:nvPicPr>
        <p:blipFill>
          <a:blip r:embed="rId7"/>
          <a:stretch/>
        </p:blipFill>
        <p:spPr>
          <a:xfrm>
            <a:off x="6172200" y="2743200"/>
            <a:ext cx="2533680" cy="18003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2" descr="sephora"/>
          <p:cNvPicPr/>
          <p:nvPr/>
        </p:nvPicPr>
        <p:blipFill>
          <a:blip r:embed="rId8"/>
          <a:stretch/>
        </p:blipFill>
        <p:spPr>
          <a:xfrm>
            <a:off x="6172200" y="38088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3" descr="wm"/>
          <p:cNvPicPr/>
          <p:nvPr/>
        </p:nvPicPr>
        <p:blipFill>
          <a:blip r:embed="rId9"/>
          <a:stretch/>
        </p:blipFill>
        <p:spPr>
          <a:xfrm>
            <a:off x="3276720" y="4800600"/>
            <a:ext cx="2466720" cy="1847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e5ffff"/>
                </a:solidFill>
                <a:latin typeface="Comic Sans MS"/>
              </a:rPr>
              <a:t>DEPARTMENT STORE</a:t>
            </a:r>
            <a:endParaRPr b="0" lang="en-US" sz="40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omic Sans MS"/>
              </a:rPr>
              <a:t>Usually large establishments, an anchor at a shopping mal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omic Sans MS"/>
              </a:rPr>
              <a:t>Most often chain stor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omic Sans MS"/>
              </a:rPr>
              <a:t>Merchandise is arranged in separate department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omic Sans MS"/>
              </a:rPr>
              <a:t>Sells a variety of merchandise under one roof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omic Sans MS"/>
              </a:rPr>
              <a:t>Great selection, quality vari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omic Sans MS"/>
              </a:rPr>
              <a:t>Many sales, lots of advertising, busy environmen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omic Sans MS"/>
              </a:rPr>
              <a:t>Sales associates are assigned to work in specific department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omic Sans MS"/>
              </a:rPr>
              <a:t>Each department has a manage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omic Sans MS"/>
              </a:rPr>
              <a:t>Cash registers/checkout stations in each departmen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omic Sans MS"/>
              </a:rPr>
              <a:t>Offer a variety of customer servic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omic Sans MS"/>
              </a:rPr>
              <a:t>Usually self-service, sales associates sometimes less profession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omic Sans MS"/>
              </a:rPr>
              <a:t>“</a:t>
            </a:r>
            <a:r>
              <a:rPr b="1" i="1" lang="en-US" sz="2000" spc="-1" strike="noStrike">
                <a:solidFill>
                  <a:srgbClr val="ffffff"/>
                </a:solidFill>
                <a:latin typeface="Comic Sans MS"/>
              </a:rPr>
              <a:t>Elevator” music, bright lights, lots of activit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omic Sans MS"/>
              </a:rPr>
              <a:t>Employ many people, opportunities to advance or transfe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omic Sans MS"/>
              </a:rPr>
              <a:t>Hire more sales associates than any other type of stor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cc"/>
                </a:solidFill>
                <a:latin typeface="Comic Sans MS"/>
              </a:rPr>
              <a:t>What we can find in a </a:t>
            </a:r>
            <a:br>
              <a:rPr sz="3200"/>
            </a:br>
            <a:r>
              <a:rPr b="1" i="1" lang="en-US" sz="3200" spc="-1" strike="noStrike">
                <a:solidFill>
                  <a:srgbClr val="ffffcc"/>
                </a:solidFill>
                <a:latin typeface="Comic Sans MS"/>
              </a:rPr>
              <a:t>Department Store</a:t>
            </a: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Apparel &amp; accessories for men, women and childre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Jewelr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Cosmetic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Lingeri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Sporting good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Furnitu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Wedding atti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Housewares &amp; home deco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Large and small applianc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Linen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Toy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Shoes for the famil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Grocery item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Tool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cc"/>
                </a:solidFill>
                <a:latin typeface="Comic Sans MS"/>
              </a:rPr>
              <a:t>SPECIALTY STORE</a:t>
            </a: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omic Sans MS"/>
              </a:rPr>
              <a:t>Specializes in one category and sells related item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omic Sans MS"/>
              </a:rPr>
              <a:t>Wide variety of specialty items, not found elsewher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omic Sans MS"/>
              </a:rPr>
              <a:t>Usually better quality, more expensiv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omic Sans MS"/>
              </a:rPr>
              <a:t>Smaller stores, sometimes a chain, usually locally owne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omic Sans MS"/>
              </a:rPr>
              <a:t>Sales associates give personal assistance, are more profession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omic Sans MS"/>
              </a:rPr>
              <a:t>Usually one cash register and checkout sta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omic Sans MS"/>
              </a:rPr>
              <a:t>Customer services offere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omic Sans MS"/>
              </a:rPr>
              <a:t>Store displays, music, employees, overall atmosphere matches that of the products it specializes i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omic Sans MS"/>
              </a:rPr>
              <a:t>Relaxed atmospher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7b9cb5"/>
                </a:solidFill>
                <a:latin typeface="Comic Sans MS"/>
              </a:rPr>
              <a:t>What we can find in a Specialty Store</a:t>
            </a:r>
            <a:br>
              <a:rPr sz="3200"/>
            </a:br>
            <a:r>
              <a:rPr b="1" i="1" lang="en-US" sz="3200" spc="-1" strike="noStrike">
                <a:solidFill>
                  <a:srgbClr val="7b9cb5"/>
                </a:solidFill>
                <a:latin typeface="Comic Sans MS"/>
              </a:rPr>
              <a:t>(and related items)</a:t>
            </a: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Sho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Pet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Camera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Sporting Good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Health Foo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Jewelr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Brida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Coffe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Framing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Camping Gea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Computer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Toy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Garden suppli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Kitchenw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Fabric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Makeup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Book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Cand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Baby item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Clothing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Music equipmen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Home déco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Auto part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Furnitu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Personal c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Craft suppli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Comic Sans MS"/>
              </a:rPr>
              <a:t>Work Conditions</a:t>
            </a:r>
            <a:br>
              <a:rPr sz="3200"/>
            </a:br>
            <a:r>
              <a:rPr b="1" i="1" lang="en-US" sz="3200" spc="-1" strike="noStrike">
                <a:solidFill>
                  <a:srgbClr val="ffffff"/>
                </a:solidFill>
                <a:latin typeface="Comic Sans MS"/>
              </a:rPr>
              <a:t>Department Store     Specialty Store</a:t>
            </a: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Assigned to a specific departmen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Duties will be limite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Trained only for dept. assigned t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Begin at minimum wag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Good chance to advance or transfe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Store is well known, experience looks good on resum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May not be able to provide customer servic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Trained in all areas of sto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Able to perform many duti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Begin at minimum wag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Become knowledgeable of specific product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Less chance to advanc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Smaller store, relaxed atmosphere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Fewer employe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Able to give personalized servic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Sell products you are interested i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ff99"/>
                </a:solidFill>
                <a:latin typeface="Comic Sans MS"/>
              </a:rPr>
              <a:t>Department vs Specialty Stores </a:t>
            </a:r>
            <a:br>
              <a:rPr sz="3200"/>
            </a:br>
            <a:r>
              <a:rPr b="1" i="1" lang="en-US" sz="2000" spc="-1" strike="noStrike">
                <a:solidFill>
                  <a:srgbClr val="ccff99"/>
                </a:solidFill>
                <a:latin typeface="Comic Sans MS"/>
              </a:rPr>
              <a:t>~images for question #1~</a:t>
            </a:r>
            <a:endParaRPr b="0" lang="en-US" sz="2000" spc="-1" strike="noStrike">
              <a:solidFill>
                <a:srgbClr val="ccff99"/>
              </a:solidFill>
              <a:latin typeface="Tahoma"/>
            </a:endParaRPr>
          </a:p>
        </p:txBody>
      </p:sp>
      <p:pic>
        <p:nvPicPr>
          <p:cNvPr id="104" name="Picture 7" descr="aero"/>
          <p:cNvPicPr/>
          <p:nvPr/>
        </p:nvPicPr>
        <p:blipFill>
          <a:blip r:embed="rId1"/>
          <a:stretch/>
        </p:blipFill>
        <p:spPr>
          <a:xfrm>
            <a:off x="380880" y="1523880"/>
            <a:ext cx="1324080" cy="13240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9" descr="cabelas"/>
          <p:cNvPicPr/>
          <p:nvPr/>
        </p:nvPicPr>
        <p:blipFill>
          <a:blip r:embed="rId2"/>
          <a:stretch/>
        </p:blipFill>
        <p:spPr>
          <a:xfrm>
            <a:off x="1447920" y="5010120"/>
            <a:ext cx="2476440" cy="18478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0" descr="sally"/>
          <p:cNvPicPr/>
          <p:nvPr/>
        </p:nvPicPr>
        <p:blipFill>
          <a:blip r:embed="rId3"/>
          <a:stretch/>
        </p:blipFill>
        <p:spPr>
          <a:xfrm>
            <a:off x="3581280" y="1676520"/>
            <a:ext cx="1905120" cy="19047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1" descr="kohls"/>
          <p:cNvPicPr/>
          <p:nvPr/>
        </p:nvPicPr>
        <p:blipFill>
          <a:blip r:embed="rId4"/>
          <a:stretch/>
        </p:blipFill>
        <p:spPr>
          <a:xfrm>
            <a:off x="5276880" y="3962520"/>
            <a:ext cx="3867120" cy="28954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2" descr="lowes"/>
          <p:cNvPicPr/>
          <p:nvPr/>
        </p:nvPicPr>
        <p:blipFill>
          <a:blip r:embed="rId5"/>
          <a:stretch/>
        </p:blipFill>
        <p:spPr>
          <a:xfrm>
            <a:off x="6248520" y="1600200"/>
            <a:ext cx="2466720" cy="18478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3" descr="kmart"/>
          <p:cNvPicPr/>
          <p:nvPr/>
        </p:nvPicPr>
        <p:blipFill>
          <a:blip r:embed="rId6"/>
          <a:stretch/>
        </p:blipFill>
        <p:spPr>
          <a:xfrm>
            <a:off x="685800" y="2971800"/>
            <a:ext cx="2467080" cy="1847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1T03:29:11Z</dcterms:created>
  <dc:creator>Authorized User</dc:creator>
  <dc:description/>
  <dc:language>en-US</dc:language>
  <cp:lastModifiedBy>Mindy Bean</cp:lastModifiedBy>
  <dcterms:modified xsi:type="dcterms:W3CDTF">2018-06-29T20:23:40Z</dcterms:modified>
  <cp:revision>6</cp:revision>
  <dc:subject/>
  <dc:title>DEPARTMENT STORE</dc:title>
</cp:coreProperties>
</file>