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9.jpeg" ContentType="image/jpeg"/>
  <Override PartName="/ppt/media/image13.jpeg" ContentType="image/jpeg"/>
  <Override PartName="/ppt/media/image8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5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4.jpeg" ContentType="image/jpeg"/>
  <Override PartName="/ppt/media/image2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F85A5-B779-421E-B18D-96677D2CAC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84035-42FD-40A9-A52F-1BCDDAABD772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formation other than standard identification must be added to the im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screen/film radiography, additional information is marked by the follow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ime and date stick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ease penci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manent marke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91F11-8DDB-45A1-AA22-C2B75C6025CD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itching is used for anatomy or areas of interest too large to fit on one cassette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ultiple images can be “stitched” together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metimes, special cassette holders are used and positioned vertically, corresponding to foot to hip or entire spine radiography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CAD90-9F9C-431C-8C30-728E51379FBD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OR CR CLEA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B5725-EF76-4D2E-9777-E2651805B12D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 DR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A8FDF-32E9-46BD-830C-F1A7BA62C194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ROR IN L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DDA4F-0A2F-4BD4-8F07-7CA0F9806A99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 DROP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1C07-BD22-4D05-B574-C2BE3C013F06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7324-464A-4185-B882-6A6A236497BB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C7EFC-1435-442C-A37E-B7ABAF72815D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ES THIS CHAPTER TALK ABOUT THE SPEED OF THE DETECTO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PEED IS DETERMINED BY HOW EFFICIENTLY THE DETECTOR/DR CASSETTE CONVERTS X-RAY PHOTONS INTO ELECTRONIC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STER THE SPEED, THE LESS PHOTONS ARE NEEDED TO CONVERT, BUT THE LESS RESOLUTION YOU WILL HA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DB41F-25CF-4D7F-BB67-2D716722E4AE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LY NOT PERMAN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5DE09-55AD-46D1-8321-D524DD7C1CFC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LY SIGNALS FROM EACH PIXEL ARE AVERAGED TOGETHER.  THE MORE PIXELS INVOLVED IN THE CALCULATION, THE SMOOTHER THE PICTURE APPEARS.  WITH SMOOTHING, MORE PIXELS ARE AVERAGED 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ult is a reduction of noise and contra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-pass filtering is useful for viewing small structures such as fine bone tissues.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B0F6B-AE16-48BF-B5A6-5C541D15B5CA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TO BRING OUT THE OUT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LY PRODUCES A SHORTER SCALE OF CONTRAST AND MAKES EDGES APPEAR SHARP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LY SIGNALS FROM EACH PIXEL ARE AVERAGED TOGETHER.  THE MORE PIXELS INVOLVED IN THE CALCULATION, THE SMOOTHER THE PICTURE APPEARS.  WITH EDGE ENHANCEMENT, FEWER PIXELS ARE AVERAGED 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LSO KNOWN AS HIGH PASS FILTER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AN RESULT IN LOSS OF DETAIL OR INFORMATION – SHOULD ONLY BE USED WHILE VIEWING ( POST PACS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5EE46-5FAF-4013-827D-0D8748543D76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ufficient collimation results in unattenuated radiation striking the imaging plat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sulting histogram is changed so that it is outside the normal exposure indicator range for the part selecte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smallest imaging plate possible and proper collimation, especially on small or thin patients, eliminates this error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9129-647D-4084-B31F-35CEF6973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645B-ADE5-4524-A699-A9E1CC135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456D-740C-4FAA-A14C-82CC22270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4E80-E20B-4409-AB75-20362E70B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32BCC-007A-4301-9096-D667C45C1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3BDC9-FA65-441A-A297-668E5ED7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61B54-E261-4E1D-81AF-34F171BC3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02661-48E2-486C-B3A6-1876BFB89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BC2FD-4F8B-449F-9F28-2B503367A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22FB5-CB5D-4A8C-9FC5-D660D860C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784E1-20A2-4F0D-A80D-4FE7AF98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0A96-C573-4F30-8A09-E93E2FB85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1A284-65A4-41F9-A43B-F10C216F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06ADA-8D52-47E8-B324-B5819672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893AE-1034-40CC-868C-801E912D1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380B3-EBEE-43F8-93F9-AF5B516B3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C22B1-6D2E-47FF-9174-57927585C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88C1-35CC-4980-BE46-9CAB4BB31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A902-7852-4B27-B98F-0A15C235A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082B-12EE-4628-B610-C4625A70E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0AD2-2130-4813-A0D2-9AD19757E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D7BA-42A2-457F-B851-CCA51FA4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E5A0-E5AB-486F-8CAC-EC6A5294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1067-5BEA-4476-8686-6BF9DFAE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54ABB-12FC-4A55-B9D6-428C7B9BC1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026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1027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Freeform 1028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Freeform 1029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Freeform 1030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Freeform 1031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Freeform 1032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Freeform 1033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Freeform 1034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8B38F-BF3A-4C1B-99DF-B86BFB92F888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PROCESSING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OPERATIONS</a:t>
            </a:r>
            <a:br>
              <a:rPr sz="4400"/>
            </a:b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IN</a:t>
            </a:r>
            <a:br>
              <a:rPr sz="3200"/>
            </a:b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048120" y="44197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HAPTER 3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2800"/>
            </a:b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Image Reversal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44" name="Content Placeholder 3" descr="hsg-tubal-spasm.jpg"/>
          <p:cNvPicPr/>
          <p:nvPr/>
        </p:nvPicPr>
        <p:blipFill>
          <a:blip r:embed="rId1"/>
          <a:stretch/>
        </p:blipFill>
        <p:spPr>
          <a:xfrm>
            <a:off x="228600" y="1981080"/>
            <a:ext cx="3809880" cy="44960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hsg1.jpg"/>
          <p:cNvPicPr/>
          <p:nvPr/>
        </p:nvPicPr>
        <p:blipFill>
          <a:blip r:embed="rId2"/>
          <a:srcRect l="0" t="0" r="0" b="13545"/>
          <a:stretch/>
        </p:blipFill>
        <p:spPr>
          <a:xfrm>
            <a:off x="4800600" y="1981080"/>
            <a:ext cx="40068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0160E-5098-4B16-9276-BD7920FDC4FA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Image Annotation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5105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nnotations overlay the image as bitmap imag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nnotations may not transfer to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icture archival and communication system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(PAC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nput of annotation for identification of the patient’s left or right side should never be used as a substitute for technologist’s anatomy marker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0" name="Picture 4" descr="007010"/>
          <p:cNvPicPr/>
          <p:nvPr/>
        </p:nvPicPr>
        <p:blipFill>
          <a:blip r:embed="rId1"/>
          <a:stretch/>
        </p:blipFill>
        <p:spPr>
          <a:xfrm>
            <a:off x="5638680" y="1981080"/>
            <a:ext cx="32767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81545-ABBB-4C60-9A80-71EFD8C48F8F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Image Stitching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mages are processed in computer programs that nearly seamlessly join the anatom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mputer displays one single imag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ocess eliminates the need for large (36-inch) cassettes previously used in film/screen radiograph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5" name="Picture 4" descr="007009A"/>
          <p:cNvPicPr/>
          <p:nvPr/>
        </p:nvPicPr>
        <p:blipFill>
          <a:blip r:embed="rId1"/>
          <a:stretch/>
        </p:blipFill>
        <p:spPr>
          <a:xfrm>
            <a:off x="380880" y="4191120"/>
            <a:ext cx="2590920" cy="2057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007009B"/>
          <p:cNvPicPr/>
          <p:nvPr/>
        </p:nvPicPr>
        <p:blipFill>
          <a:blip r:embed="rId2"/>
          <a:stretch/>
        </p:blipFill>
        <p:spPr>
          <a:xfrm>
            <a:off x="3657600" y="4191120"/>
            <a:ext cx="2438280" cy="22096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007009C"/>
          <p:cNvPicPr/>
          <p:nvPr/>
        </p:nvPicPr>
        <p:blipFill>
          <a:blip r:embed="rId3"/>
          <a:stretch/>
        </p:blipFill>
        <p:spPr>
          <a:xfrm>
            <a:off x="7086600" y="4191120"/>
            <a:ext cx="20574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C:\Documents and Settings\Quinn Carroll\My Documents\DigRadTEXT\LCDphotos\Fig30-12AA.jpg"/>
          <p:cNvPicPr/>
          <p:nvPr/>
        </p:nvPicPr>
        <p:blipFill>
          <a:blip r:embed="rId1"/>
          <a:stretch/>
        </p:blipFill>
        <p:spPr>
          <a:xfrm>
            <a:off x="838080" y="533520"/>
            <a:ext cx="2462400" cy="5743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C:\Documents and Settings\Quinn Carroll\My Documents\DigRadTEXT\LCDphotos\Fig30-12BB.jpg"/>
          <p:cNvPicPr/>
          <p:nvPr/>
        </p:nvPicPr>
        <p:blipFill>
          <a:blip r:embed="rId2"/>
          <a:stretch/>
        </p:blipFill>
        <p:spPr>
          <a:xfrm>
            <a:off x="3505320" y="533520"/>
            <a:ext cx="2433600" cy="576252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6324480" y="533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6248520" y="609480"/>
            <a:ext cx="259056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CR Scoliosis Ser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Image Stitching feature shows seam lines between 3 imag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OTHER THINGS THAT CAN AFFECT THE IMAGE: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Alternative Algorithms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One way to adjust the contrast and brightness characteristics of an image is to re-process it under a different pre-set anatomical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algorith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Right: A lateral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lumbar spine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re-processed as a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thoracic spine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shows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improved visibility of those vertebrae within the lung fiel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4" name="Picture 5" descr="C:\Documents and Settings\Quinn Carroll\My Documents\DigRadTEXT\SLIDES\30-04a.pct"/>
          <p:cNvPicPr/>
          <p:nvPr/>
        </p:nvPicPr>
        <p:blipFill>
          <a:blip r:embed="rId1"/>
          <a:stretch/>
        </p:blipFill>
        <p:spPr>
          <a:xfrm>
            <a:off x="5181480" y="1447920"/>
            <a:ext cx="322416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Exposure Indicator Error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nything which can lead to 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histogram analysis errors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an cause the exposure indicator to be corrupt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traneous exposure information, including scatte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osure field recognition erro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Unexpected material in fiel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ollimation margins not detecte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treme underexposure or overexposur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elay in processin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17DC5-49B5-417C-98AC-EA8F84FC14F5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1" name="Picture 5" descr="Artifact_CR_poor_screen_cleaning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EF88D-0C4B-4D4E-901D-6BE4A9741983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6" name="Picture 5" descr="Artifact_bar_code_artefact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08CB7-CC0D-4485-8C7C-00ADDF0BFE7F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1" name="Picture 5" descr="Error_equipment_artifact_cr_reader_2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5E77C-368C-4745-B564-B6C0EAEC41B8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6" name="Picture 5" descr="Error_chest_wrong_lut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SRT Objectiv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ssociate impact of image processing parameters to the image appearance. 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rmulate a procedure or process to minimize histogram analysis and rescaling errors.   (SEE PAGE 586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D3E1E-F2CC-4B1F-8906-8F989A574CB2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1" name="Picture 5" descr="Error_abdomen_cr_drop_ou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Notes: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reject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button on most systems results in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permanent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loss of the image, making “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repeat” analysis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hard to perform. When prompted to enter the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reason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for a reject, it is important to enter an honest answer rather than “other.” Departments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must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find ways to make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reject analysis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ossible, for several professional and ethical reason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AY ATTENTION TO PAGE 58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computed radiography image is taken at 66 kVp and 11 mAs with a 12:1 Grid at 60 inches.  The computer tries to fix the image, but the exposure index values indicate underexposure.  A new image needs to be taken, but the patient has been moved and now you as the technologist can only get a 40" SID.  What should the new technique b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SPEED.bmp"/>
          <p:cNvPicPr/>
          <p:nvPr/>
        </p:nvPicPr>
        <p:blipFill>
          <a:blip r:embed="rId1"/>
          <a:stretch/>
        </p:blipFill>
        <p:spPr>
          <a:xfrm>
            <a:off x="838080" y="3581280"/>
            <a:ext cx="7543800" cy="2882880"/>
          </a:xfrm>
          <a:prstGeom prst="rect">
            <a:avLst/>
          </a:prstGeom>
          <a:ln w="0">
            <a:noFill/>
          </a:ln>
        </p:spPr>
      </p:pic>
      <p:sp>
        <p:nvSpPr>
          <p:cNvPr id="112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AAAC5-327F-48D9-93A3-6634A8C23849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Times New Roman"/>
              </a:rPr>
              <a:t>Speed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1536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 CR, most cassettes have the same speed; however, there are special extremity or chest cassettes that produce greater resolution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se are typically 200 relative spee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C6645-7ABC-4A22-AB79-35F39F6CD93A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Magnification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Other technique is “zoom.”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Zoom allows magnification of the entire imag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mage can be enlarged enough that only parts of it are visible on the scree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Those parts can be seen through mouse navigatio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0" name="Picture 4" descr="007011A"/>
          <p:cNvPicPr/>
          <p:nvPr/>
        </p:nvPicPr>
        <p:blipFill>
          <a:blip r:embed="rId1"/>
          <a:stretch/>
        </p:blipFill>
        <p:spPr>
          <a:xfrm>
            <a:off x="228600" y="3429000"/>
            <a:ext cx="3200400" cy="342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007011B"/>
          <p:cNvPicPr/>
          <p:nvPr/>
        </p:nvPicPr>
        <p:blipFill>
          <a:blip r:embed="rId2"/>
          <a:stretch/>
        </p:blipFill>
        <p:spPr>
          <a:xfrm>
            <a:off x="4800600" y="3581280"/>
            <a:ext cx="38098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FBBD4-9665-4ADA-9BE8-EC5E5506530E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Smoothing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5" name="Picture 2" descr="https://encrypted-tbn1.gstatic.com/images?q=tbn:ANd9GcRwqap9pn4IH9nPg75c98PMt-DxFyBEyp1lsJ-eqWiSmIkt8rncpw"/>
          <p:cNvPicPr/>
          <p:nvPr/>
        </p:nvPicPr>
        <p:blipFill>
          <a:blip r:embed="rId1"/>
          <a:stretch/>
        </p:blipFill>
        <p:spPr>
          <a:xfrm>
            <a:off x="990720" y="2286000"/>
            <a:ext cx="76960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4491B-569A-4AD6-BACD-E885199F22EE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Edge Enhancement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9" name="Picture 9" descr="MATRIX RESOLUTION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4876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Example of Edge Enhancement, </a:t>
            </a:r>
            <a:r>
              <a:rPr b="1" i="1" lang="en-US" sz="2800" spc="-1" strike="noStrike">
                <a:solidFill>
                  <a:srgbClr val="ffcc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31" name="Picture 3" descr="C:\Documents and Settings\Quinn Carroll\My Documents\DigRadTEXT\SLIDES\29-30A.pct"/>
          <p:cNvPicPr/>
          <p:nvPr/>
        </p:nvPicPr>
        <p:blipFill>
          <a:blip r:embed="rId1"/>
          <a:stretch/>
        </p:blipFill>
        <p:spPr>
          <a:xfrm>
            <a:off x="1066680" y="685800"/>
            <a:ext cx="3314880" cy="4167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C:\Documents and Settings\Quinn Carroll\My Documents\DigRadTEXT\SLIDES\29-30B.pct"/>
          <p:cNvPicPr/>
          <p:nvPr/>
        </p:nvPicPr>
        <p:blipFill>
          <a:blip r:embed="rId2"/>
          <a:stretch/>
        </p:blipFill>
        <p:spPr>
          <a:xfrm>
            <a:off x="5029200" y="762120"/>
            <a:ext cx="3213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Black Masking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5" name="Picture 4" descr="007008A"/>
          <p:cNvPicPr/>
          <p:nvPr/>
        </p:nvPicPr>
        <p:blipFill>
          <a:blip r:embed="rId1"/>
          <a:stretch/>
        </p:blipFill>
        <p:spPr>
          <a:xfrm>
            <a:off x="685800" y="1981080"/>
            <a:ext cx="2895480" cy="4023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007008B"/>
          <p:cNvPicPr/>
          <p:nvPr/>
        </p:nvPicPr>
        <p:blipFill>
          <a:blip r:embed="rId2"/>
          <a:srcRect l="6518" t="0" r="0" b="7318"/>
          <a:stretch/>
        </p:blipFill>
        <p:spPr>
          <a:xfrm>
            <a:off x="5410080" y="1981080"/>
            <a:ext cx="29718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60B7B-E4A1-4F7E-942B-CE0D90D3C17F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Times New Roman"/>
              </a:rPr>
              <a:t>Collimation vs. Shuttering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s results in increased contrast because of the reduction of scatter as fog and reduces the amount of grid cleanup necessary for increased resolution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rough post exposure image manipulation known as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huttering,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a black background can be added around the original collimation edges, virtually eliminating the distracting white or clear areas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1" name="Picture 7" descr="FOOT.bmp"/>
          <p:cNvPicPr/>
          <p:nvPr/>
        </p:nvPicPr>
        <p:blipFill>
          <a:blip r:embed="rId1"/>
          <a:stretch/>
        </p:blipFill>
        <p:spPr>
          <a:xfrm>
            <a:off x="1981080" y="3657600"/>
            <a:ext cx="2540160" cy="2743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FOOT 2.bmp"/>
          <p:cNvPicPr/>
          <p:nvPr/>
        </p:nvPicPr>
        <p:blipFill>
          <a:blip r:embed="rId2"/>
          <a:stretch/>
        </p:blipFill>
        <p:spPr>
          <a:xfrm>
            <a:off x="4876920" y="3657600"/>
            <a:ext cx="243828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22:54:50Z</dcterms:created>
  <dc:creator>Quinn B Carroll</dc:creator>
  <dc:description/>
  <dc:language>en-US</dc:language>
  <cp:lastModifiedBy>PCSUPPORT</cp:lastModifiedBy>
  <dcterms:modified xsi:type="dcterms:W3CDTF">2014-02-03T16:15:23Z</dcterms:modified>
  <cp:revision>18</cp:revision>
  <dc:subject/>
  <dc:title>PowerPoint Slides for</dc:title>
</cp:coreProperties>
</file>